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7A2-F2A4-4148-953E-198FAA86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7CD-D70A-412B-A76D-46087938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4CE-6768-4955-AE58-8961D0CD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FAC-E0D7-4266-9123-2FFF03BB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A8E4-9980-4030-950D-5F968380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AA8D-BF3F-4747-975D-46F0341C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EACA-A95B-41A1-A6C2-38C8ED29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7566-6F11-40DC-B5A4-A212C317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D3D8-D093-46E3-863D-35B9C2E3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E17E-BB24-41F2-B33A-61949435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04B2-1F71-47C1-B361-26F9C864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862-047D-4C70-8EBA-CD12110A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33BC-93FD-423C-925E-F49451B4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41B6-AFC8-4752-98E9-76237A0F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561E-2E3C-479D-AAA3-8B23A311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1C86-E252-49F4-B8E8-8B7B84C6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473A-9917-4551-BF40-28D23F62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B8B1-F103-4C7B-8B14-02D13F24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49D3-42FB-49EC-8E92-92C9B02A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2E7A-FCCF-48E1-A8D3-C16349FC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F836-3886-4B94-8F1B-A50576E9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7138-B5A4-4554-87FE-0769B873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F88-BA58-4E63-9AD4-5920BF35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B5E9-AB9A-4068-A5FE-525428C2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44BE-4371-4267-AB47-9037E055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296B-3F71-4D07-8169-D8A5B5E9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38D3-C163-4C58-95A4-7BADD344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3FEA-4E87-49DE-9323-A5AD5731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73AD-C0EF-4528-801A-FD76A716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51364-1745-4143-B41E-272CF574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D3B6C-BEF8-4FC3-AB38-C4E94DC9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34B20-21D9-4561-AAC0-2E2C3D53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438DB-4200-4D2D-869C-3780AF7C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291-4694-4A10-AD2D-EFE53AC5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73D32-2CAC-4357-87BB-425D9637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EFC99-52F4-45A1-B5F1-7C9B3069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36771-73B4-4198-9CB1-AD2DF616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2A4C-8399-4761-B071-D173A6E4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2461-A602-411F-B86F-057601E2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D8A4-93BE-4C68-B212-1C8DD5D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B6579-DD7E-46A7-9D4B-87F4F8BD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57539-1799-4FC6-B71B-9AA10476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E768-3BC1-4A7D-BDDF-9FBCA0CB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3D76-B13B-47ED-A0E4-E6CC75EE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F1D-CBE0-48AE-A340-B3D4337A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C40B-B7F1-41D7-8443-4803A838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75DF8-F04B-4DC3-BD2F-69E8A4D2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2D04A-D3AF-4122-9D3B-187FB426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92C53-021C-4152-BF23-4C413023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EE807-789B-4195-A8F5-C7AB014B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B0677-E14E-4C2F-AF31-65D12BFC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6A333-48FE-4B76-A34A-6067E8F7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B72E-F6CC-43EB-800C-7CA5C486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819B-150C-40D9-A296-BD3DD4A8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6D215-E1CC-4481-A2D6-D71BCAA4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634-DA53-413C-BBFD-93810A46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F86C-5152-4108-840F-23ABD0B5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E8BD1-7FAF-474D-9EED-CA704A26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14A08-B3C2-4659-BE1B-8286E78E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8544F-6B8A-4B16-939D-547BEA2B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CAFA-FADD-4645-8549-8F662F90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E4D38-EC1B-4E4C-82C6-924A3D43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D48AF-778C-4B47-BE79-7BD8ADDE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1528F-3536-40B0-B431-280BD45C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6B62D-2B7C-4B1B-B37B-BDE88F69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4B659-844A-48C3-81FA-175D8FA8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0CC-A417-4F93-8C8C-A67BE3B5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98E71-E4E7-4A0B-AE8E-66C7FC98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0DF2E-2863-4B18-ACE6-21B73AD6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99186-18DA-4F9F-A04C-335DAF41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21868-3A62-42B7-B594-3D4BAC7A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4C6AB-960F-499C-B331-7F5BF6B8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193BA-23F0-440C-B72A-7E084AFA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5A899-466A-46E3-B196-E06AD4B5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B7198-BA65-4F36-AEA2-99AB2181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910B3-FE85-43C7-8BF7-1F51F856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D1220-ADC8-4C56-B39C-F32B62A8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581-4F07-40F0-84BD-D66A3E3F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C63B6-1EDA-4A26-B092-C471A41C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83DA5-981E-4DB5-B1F5-D6CB4720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6FBDF-58C6-4F3F-B3E3-F033A926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0A732-5408-4A4E-AAA5-1E396BE4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BF06F-5853-4C99-AF0E-07038D5F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E330D-B5A7-4BF2-9731-1EC32E5B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60BE0-D06C-4CE0-9C45-7A5CF85C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21385-B67D-45AE-A5B3-1C2674CA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78908-5E5D-4FD0-A18D-6237BF6B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5BA64-10E1-4B6B-9850-74227111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0BD-1805-4387-AFCA-BBEF6508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ACB3F-937B-4CB3-A4BE-80EF32E6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A81E7-B676-4303-9059-4932412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89C58-5436-4798-A7B8-CA1A3A50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654DD-93F8-4495-BA79-D3DD7CB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DC62F-FB34-40F9-BEA5-FBBF5A80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27A12-9697-4FDD-8601-6280BAB3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5E25A-499B-4483-A170-A33A3670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87E2-6C48-4284-B160-B7949BEB32D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9623-C9AC-4AAD-9E56-2E2A949BC178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897D-8417-4E01-B56F-11CC07CD661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8FA2-4277-4F29-A4CF-F62E37AB66C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ABAD-4CBD-481D-A925-0EBD215C73A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BFA8-CD6C-4307-87B5-C3D897EF98E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6B95-E7F7-429A-BD9C-6E3CFBE1564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F4D0-4E88-4AA0-89D1-CA2E7EEB40AE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964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+ the simple form of the verb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describe something that happened regularly in the past but no longer hap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a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of boo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rave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in his job but now, since his promotion, he doesn'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add used to + the simple form of the verb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Brazi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cook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very 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the negative statements, there is no –d ending on use to + we add didn’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lk muc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ess the question word who or what is the grammatical subject of a question. There is no –d ending on use after did or didn’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 things often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best friend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 in New Y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d to help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with your homew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e3611"/>
                </a:solidFill>
                <a:latin typeface="Lucida Sans Unicode"/>
              </a:rPr>
              <a:t>My sist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help me with my home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live in Fra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and irregular past tense verb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verbs: we add only –ed to the ver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nted – played – arrived – visit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rregular verbs: page 14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ught – went – spent – had – took – a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Be ) &gt;&gt;&gt; was or w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singular nouns and with pronouns: I, he, she, it, this and tha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school yester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las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kitch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n the internet last night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plural nouns and with pronou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, we, they, these and tho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childr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orn in KS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yeste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ngry las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3:56:55Z</dcterms:created>
  <dc:creator>sony</dc:creator>
  <dc:description/>
  <dc:language>en-US</dc:language>
  <cp:lastModifiedBy>sony</cp:lastModifiedBy>
  <dcterms:modified xsi:type="dcterms:W3CDTF">2012-04-11T17:27:59Z</dcterms:modified>
  <cp:revision>7</cp:revision>
  <dc:subject/>
  <dc:title>Slide 1</dc:title>
</cp:coreProperties>
</file>