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ACB-8045-4ED2-BBC8-1DF4F2A5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CD3-27CC-4C78-8D13-B2D1E8FD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1D4-993A-4FFB-9F8E-C8ACF5CE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2E3-17B3-4861-AD76-58E112DE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239A-930E-441A-A9E2-6704A6D1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0B79-A740-4149-A8D5-EF9489AC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2329-FD35-4143-870E-01509C5F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9393-BE66-475C-97D5-85DD5B6E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6C42-F5CA-4B08-B3C1-9AD8D590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61D5-6AE6-4D27-813F-9C4142A0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A326-D2AE-4EE2-A178-FF0F3EE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753-BFDF-4F39-A825-87B0283D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F52F-CBAE-49AD-AF6E-0EEF10F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E10F-65CE-447B-9020-948817B7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05CD-88D2-4387-B5BD-F86B62F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985-686D-422E-8470-802B6BEE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C1D3-6108-4028-950A-340CF305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6B2-0245-4066-A261-E81614C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BDD-9D56-4F8A-8E3A-B4F0BD5F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8A7-7B4D-49A9-A4C3-4808DD2B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F5C-1145-4B55-8884-F3D2D5DD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45D-C06F-4998-BE01-1F5E369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C56-7C44-47FE-8302-9C1ED33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A35-A11C-4359-B602-FB6615E5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1194-C36B-45B5-86BF-1244CED2318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0B7A-FA8D-47CD-B5A5-88BFAE0B5F8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b7e7ff"/>
                </a:solidFill>
                <a:latin typeface="Arial"/>
              </a:rPr>
              <a:t>SLEEP AND REST 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eatment for dyssomn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ologic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ves and hypn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pharmacologic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u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 restr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 hygi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gnitive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omponent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ation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507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Nursing Interventions to Promote Sleep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a restfu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bedtime rit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 appropriate bedtime snacks and beve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relaxation and com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ight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priv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e nursing care to avoid disturb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medications to produce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tient to void before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any irritants against patients skin such as moist or wrinkled she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Definition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t: is a condition in which the body is in a decreased state of activity without emotional stress and freedom from anx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leep: is a state of rest accompanied of altered level of consciousness and relative inactivity, and perception to environment are decreas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dequate rest and sleep are important in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ing general heal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ing recovery from i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healing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ability to learn and concentration and recalling know lo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person to be socially adap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Sleep and rest disturbance will be imply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ble, anxiety and st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i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work optim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assistance from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making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rmal sleep patterns and requirements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born: 16-18 hours 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: some 22 hours, and others from 12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dlers: 10-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chool: 11-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-Age: 8- 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lescents: 8-10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: 6-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ders: 6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Slee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al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gical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tyle and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activity and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tary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ification of Sleep Disor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somnias — characterized by insomnia or excessive sleep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omnias — patterns of waking behavior that appear during 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disorders associated with medical or psychiatric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proposed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yssomn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omnia: difficulty falling asl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somnia: excessive sl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colepsy: uncontrollable desire to sl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apnea: absence of breathing between snoring interv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less leg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asomn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nambulism: sleep wal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ta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turnal e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uxism: grinding of teeth during slee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ure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-related eating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8-03-29T18:17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