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425-526E-4EEF-B427-A7B91B25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BFD-2FC5-4BE1-B6BE-6CADC5DD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D71-3D52-4BE3-85A4-E5186A94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C42-D3B4-428A-9D53-2F4723B3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CECE-FE69-4663-B6B4-6096BB26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85AD-5D03-4B66-8AED-9907689A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60F5-F1A0-48B1-AD16-E3BFD6F0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7892-DF33-4FC0-A138-F5E9F984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9FCF-293D-4574-9E3E-88AF8DED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321C-9551-4DBF-AC77-E57CD4D9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67A1-F6B6-455D-BB9E-99A6C3E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C9B-19E4-4752-A213-AFC834D0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3CA3-C625-4C01-AADF-0B3A6E1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5D64-23E9-4D0E-BFD6-6046A2E8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F845-BA47-444A-974D-2109B6AF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09A0-CEA4-42C9-884C-2289EE84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AF0E-6150-46A5-839B-B202EDC1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F32-7AFE-4097-8EFB-71D93F65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57E-DB85-4A04-B6DE-6673A5C0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AD1-D8F4-4890-A0AC-4A988CB6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05F-5067-48E0-A23E-C85B8F97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8C6-6953-449E-A781-062FAEC3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426-9666-44D4-9447-788341ED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B16-5354-48B7-9D86-9F70F28F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63A8-CBAC-43B8-A2E3-EFCA1D158AE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0153-1563-44D4-8AEB-C736EBD6D9C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b7e7ff"/>
                </a:solidFill>
                <a:latin typeface="Arial"/>
              </a:rPr>
              <a:t>SLEEP AND REST 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eatment for dyssomni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ologic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atives and hypn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pharmacologic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u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 restr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 hygi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gnitive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component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xation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507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Nursing Interventions to Promote Sleep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a restfu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bedtime rit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 appropriate bedtime snacks and beve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relaxation and com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ight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priv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e nursing care to avoid disturb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medications to produce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tient to void before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any irritants against patients skin such as moist or wrinkled she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Definition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t: is a condition in which the body is in a decreased state of activity without emotional stress and freedom from anx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leep: is a state of rest accompanied of altered level of consciousness and relative inactivity, and perception to environment are decreas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dequate rest and sleep are important in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ing general heal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ing recovery from ill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healing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ability to learn and concentration and recalling know lo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person to be socially adap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Sleep and rest disturbance will be imply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ble, anxiety and st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ig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work optim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assistance from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concen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making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ormal sleep patterns and requirements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born: 16-18 hours 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: some 22 hours, and others from 12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dlers: 10-1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chool: 11-1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-Age: 8- 1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lescents: 8-10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: 6-8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ders: 6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Slee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al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logical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style and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activity and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tary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assification of Sleep Disord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somnias — characterized by insomnia or excessive sleep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omnias — patterns of waking behavior that appear during sl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disorders associated with medical or psychiatric dis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proposed dis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yssomni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omnia: difficulty falling asle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somnia: excessive sle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colepsy: uncontrollable desire to sle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apnea: absence of breathing between snoring interv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less leg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107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asomni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nambulism: sleep wal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ta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cturnal e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uxism: grinding of teeth during slee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ure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-related eating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8-03-29T18:17:3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