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DEE-3BC2-4797-BDB8-84A8A08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0C1-F81D-45A7-8994-EA524596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CA4-1601-4FD6-BFD7-0797509D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68D-E03F-40F9-A930-C8D8B147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85CB-89E5-4807-8D4B-A676FFB5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56D2-8B76-4D85-B81C-5E4EF79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F2687-ABC8-4B37-B97B-4BED7C0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55650-A3FC-491B-BB88-452ACC8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C840-BDDA-48AC-A436-D8B4186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77EA-20CF-4BCF-B824-109611C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375A6-9722-4088-98AD-2063DF9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AF6-1A81-4477-A4AE-2040F8A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7FB7-A49D-41A1-BD60-A10656E2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B2AA2-510D-4D4F-AC0A-FF616C0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4D2C6-67BD-44A8-9820-8B2BDCF2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1AD38-FF3E-49ED-99E2-2B8C7D0D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EC0F2-1E2B-4E35-835F-D566AAA7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4D2-C2F4-447D-91E5-09A1549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5E5-8F36-466B-8293-E5EC0BA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516-9B2D-43DE-A89B-FEA72DC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0E2-C97A-4163-BC9B-4B0B77C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2F9-5EA8-4A4B-9D6B-A4E7059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840-5CEB-4A10-AE5B-FCF9CC6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DF6-B584-43FE-85D4-8716DA6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5BA-0FB8-42DB-BBBD-29A63F96E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8A4-9690-45A8-885C-E1DF65473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Water Relationships: Permeability, Drainability and Hydraulic Condu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olding capacity is the amount of moisture able to be held by the soil that is available to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the free water that moves downward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affect the workability and moisture availability to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What is permeabilit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ermeabil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water through the soil, synonymous with hydraulic conductivity and drain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erme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lows movement of water and in many cases nutrient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the nutrients through the soil can be significant if the soil has much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PERMEABILITY R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8600" y="1359000"/>
            <a:ext cx="861048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How is permeability affected by soil type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2864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type can affect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um texture allows for moderate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rse soils have rapid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e soils have slow permeability and do not drain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raina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excess water through the soil, removal of water from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How can you evaluate the drainability of soils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drainability is measured by the speed of which a given amount of water pass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laboratory situation one may take two different soils and set up an experiment to measure the drainability of ea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field conditions the drainability may be done by measuring the time it takes a soil to absorb 10 gallons of water as compared to another soi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cedure is done often in landscaping situations to determine if amendments need to be added. Soil in the field is difficult to am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 class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1204920"/>
            <a:ext cx="75438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al Triang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water holding capacity and gravitational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water holding capacity and permeability is affected by soil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eabilit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inabilit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What forces act on soil water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wo main forces which act on soil that relates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dhes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n attractive force that acts between two different substances. In soil water it is the attraction of soil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hes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force that acts between molecules of similar substances. In the soil it is the attraction of water to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lance of these forces determine the availability of water to plants and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How does water move through the soil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8229600" cy="39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moves through the soil in many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pores fill with water as water enters the earth’s crust. Water moves through the soil both by capillary action and by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apillary ri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water through soil capillaries. Three soil water types determine this movement of water into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water is water that is held loosely by cohesive forces and is most readily available for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groscopic water is held very firmly to the soil by adhe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ational water is water that is pulled downward through a process called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vitational fl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aulic conducti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trait of soil that relates to the ease of water movement through the soil. The higher the hydraulic conductivity the more water that is moved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all of the pores in the soil are filled with water, which is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atu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The soil does not contain any air so plant growth is compromi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ater is water that moves freely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water that leaves the soil caused by the forces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water through the soil can be measured in sever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How can you measure water through the soil?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water through the soil can be measured in sever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method of measuring water movement is to measure the capillary action through a test tube full of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thods include measuring the time it takes for soil to move through or by measuring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s acting on soil and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in forces act on soil and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hesion is the force that acts upon two different substances, soil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esion is the force that that acts upon two like substances, water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forces affect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movement through 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hree main types of soil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groscopic water is water held very tightly to the soil parti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illary water is water that moves freely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water that leaves the soil caused by the forces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forces that act on soil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 the flow of water through different soil tex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Permeability R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d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pillary 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vitational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vitational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ydraulic Condu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erm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at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ater Holding Capa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water holding capacity and what is gravitational wat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ater holding capac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amount of moisture that is held by the soil available to the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vitational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free water that moves downward through the soil due to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s have different levels of water holding capacity largely determined by the texture of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Texture is the relative amount of sand, silt and clay in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aulic conducti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easure of the rate of water movement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il texture also affects pore space, a portion of the soil not occupied by solid material but filled with air or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r the soil particle the larger the pore spac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articles have more spaces but they are smaller in s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How is water holding capacity affected by soil type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Soils of different types affect the water holding capa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Soils with fine texture are composed mainly of clay and hold water very firmly. There is less gravitational water with fine tex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Soils with medium texture have intermediate amounts of sand and clay, with a large representation of si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Medium soils hold water well but still allow movement down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oils with coarse texture represent those soils that are largely composed of s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arse soils will not hold water very firmly and have fast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1:29:29Z</dcterms:created>
  <dc:creator>Darcy Nekolny</dc:creator>
  <dc:description/>
  <dc:language>en-US</dc:language>
  <cp:lastModifiedBy>7 materx 2010</cp:lastModifiedBy>
  <dcterms:modified xsi:type="dcterms:W3CDTF">2010-10-25T11:38:35Z</dcterms:modified>
  <cp:revision>5</cp:revision>
  <dc:subject/>
  <dc:title>Slide 1</dc:title>
</cp:coreProperties>
</file>