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BAF8-7B7B-4C9E-83FE-ADC76AC0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BC89-6366-49BA-B309-4709AA2E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66A2-51CB-4B3C-B648-5C526B71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DF16-5C83-4977-9B15-AD1C5220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1AF11-7787-460D-82D8-1DE5EC4C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90605-66E8-4DF2-A7C3-16C1C50A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32C11-C1EE-404C-8A5D-20DC3BDC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DFF44-16F3-4DF2-9AF2-3B536D62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72E3D-FAE6-4896-ABBC-306591F4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523AB-D1F7-43CA-91AC-00135C4E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51FAA-D944-45FE-89E9-1AC9BCB7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5A96-D2FF-4A19-976D-624B764F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5D6BF-7FCF-4550-B177-069F8A9F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2D864-8727-452B-AE32-6892545C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C3B7D-0B8E-4313-B01B-FB59E70A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620C4-1328-4831-B53E-1CBFAF60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DCF49-898E-4590-8E8C-BEE5FF68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D5BF-57ED-4719-AD21-39152D95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447D-B9D7-471F-94B4-68A13F33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B3C8-5914-44FD-B04B-63A9C1BF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D1B2-D70F-4E90-B073-93048F81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3F80-7985-4B06-A9C7-2934B50F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43C2-E5C3-4402-A301-F8324CA7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527D-1D34-4F1D-A8B9-6F3E8EB6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FBD8-60A5-479E-8FEF-4CFF33180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018C-7FA3-481B-A605-69001ACC7B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2346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il Water Relationships: Permeability, Drainability and Hydraulic Conductiv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olding capacity is the amount of moisture able to be held by the soil that is available to pla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vitational water is the free water that moves downward through the s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th affect the workability and moisture availability to p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ahoma"/>
              </a:rPr>
              <a:t>What is permeability?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Permeability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movement of water through the soil, synonymous with hydraulic conductivity and draina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Permeabili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llows movement of water and in many cases nutrients through the s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vement of the nutrients through the soil can be significant if the soil has much permea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IL PERMEABILITY RA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28600" y="1359000"/>
            <a:ext cx="861048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ahoma"/>
              </a:rPr>
              <a:t>How is permeability affected by soil type?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528640"/>
            <a:ext cx="822960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il type can affect permea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um texture allows for moderate permea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arse soils have rapid permea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e soils have slow permeability and do not drain we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Drainag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movement of excess water through the soil, removal of water from the s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ahoma"/>
              </a:rPr>
              <a:t>How can you evaluate the drainability of soils?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4588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il drainability is measured by the speed of which a given amount of water passes through the s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 laboratory situation one may take two different soils and set up an experiment to measure the drainability of eac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field conditions the drainability may be done by measuring the time it takes a soil to absorb 10 gallons of water as compared to another soi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procedure is done often in landscaping situations to determine if amendments need to be added. Soil in the field is difficult to ame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xture classifi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762120" y="1204920"/>
            <a:ext cx="754380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xtural Triang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467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e water holding capacity and gravitational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in how water holding capacity and permeability is affected by soil typ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meability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rib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ffect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il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mea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aluat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ainability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i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ahoma"/>
              </a:rPr>
              <a:t>What forces act on soil water?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two main forces which act on soil that relates to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Adhesi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an attractive force that acts between two different substances. In soil water it is the attraction of soil to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Cohesi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a force that acts between molecules of similar substances. In the soil it is the attraction of water to itsel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alance of these forces determine the availability of water to plants and how water moves through the s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ahoma"/>
              </a:rPr>
              <a:t>How does water move through the soil?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112480"/>
            <a:ext cx="8229600" cy="39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er moves through the soil in many w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il pores fill with water as water enters the earth’s crust. Water moves through the soil both by capillary action and by grav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Capillary ri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movement of water through soil capillaries. Three soil water types determine this movement of water into the s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illary water is water that is held loosely by cohesive forces and is most readily available for pla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ygroscopic water is held very firmly to the soil by adhes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vitational water is water that is pulled downward through a process called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gravitational flow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Hydraulic conductivity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a trait of soil that relates to the ease of water movement through the soil. The higher the hydraulic conductivity the more water that is moved through the s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ntually all of the pores in the soil are filled with water, which is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satur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 The soil does not contain any air so plant growth is compromis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illar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ater is water that moves freely through the s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vitational water is water that leaves the soil caused by the forces of grav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vement of water through the soil can be measured in several w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How can you measure water through the soil?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388960"/>
            <a:ext cx="822960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vement of water through the soil can be measured in several w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method of measuring water movement is to measure the capillary action through a test tube full of s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methods include measuring the time it takes for soil to move through or by measuring permea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rces acting on soil and wa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main forces act on soil and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hesion is the force that acts upon two different substances, soil to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hesion is the force that that acts upon two like substances, water to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th forces affect how water moves through the s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ater movement through soi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three main types of soil wat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groscopic water is water held very tightly to the soil partic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pillary water is water that moves freely through the s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vitational water is water that leaves the soil caused by the forces of grav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e the forces that act on soil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 how water moves through the s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sure the flow of water through different soil textu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il Permeability Ra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1048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r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Adhe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Capillary R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Cohe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Gravitational Fl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Gravitational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Hydraulic Conduc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erme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atu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Water Holding Capac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water holding capacity and what is gravitational water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88960"/>
            <a:ext cx="822960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Water holding capacity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amount of moisture that is held by the soil available to the pla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Gravitational wate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free water that moves downward through the soil due to grav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ils have different levels of water holding capacity largely determined by the texture of the s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il Texture is the relative amount of sand, silt and clay in the s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Hydraulic conductivity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a measure of the rate of water movement through the s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oil texture also affects pore space, a portion of the soil not occupied by solid material but filled with air or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arger the soil particle the larger the pore spac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all particles have more spaces but they are smaller in siz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ahoma"/>
              </a:rPr>
              <a:t>How is water holding capacity affected by soil type?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Soils of different types affect the water holding capac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Soils with fine texture are composed mainly of clay and hold water very firmly. There is less gravitational water with fine textu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Soils with medium texture have intermediate amounts of sand and clay, with a large representation of sil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Medium soils hold water well but still allow movement downwar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Soils with coarse texture represent those soils that are largely composed of s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Coarse soils will not hold water very firmly and have fast permea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1:29:29Z</dcterms:created>
  <dc:creator>Darcy Nekolny</dc:creator>
  <dc:description/>
  <dc:language>en-US</dc:language>
  <cp:lastModifiedBy>7 materx 2010</cp:lastModifiedBy>
  <dcterms:modified xsi:type="dcterms:W3CDTF">2010-10-25T11:38:35Z</dcterms:modified>
  <cp:revision>5</cp:revision>
  <dc:subject/>
  <dc:title>Slide 1</dc:title>
</cp:coreProperties>
</file>