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0AEF-96F9-4A82-9A3B-EF8B41C9203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A045-CCE7-4B58-9FBB-500D1DFD76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4C51-93EC-45B2-A150-7EEF61124F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B4A9-B194-4F23-A845-CCC07CCC55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258A-CCFE-4F7C-8252-636460FBE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6A0D-3158-4E24-920A-7CE6A9BF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38CC-ADF0-4860-BEAC-F28420521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E410-05B7-403F-BAF0-4117A850A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F150-A707-4DDE-B92F-C6C32ACEB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9FA4-D0BD-423A-AAF5-3C022AE1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7E2D-6474-4633-9131-D53FD6F5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8AA3-6648-41A1-AFB7-57D6A3B5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5738-1DDD-4982-B2A9-E267D021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C2DD-0F09-4E68-9360-46695CD0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8A8E-8F44-432F-BCDF-BF6B0484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A490-FB08-4ACA-A908-EDC3C035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93C44-C29E-459C-831B-3415AE8E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DEAB-B448-47DC-8E76-D3BE6063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B177-25A4-431E-BA2B-D4D419F5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D447-5718-446B-A7A9-A1A86223F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062C-554F-4016-B676-D65AF0E4B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486A-63A6-4E11-A7B3-0CC1919B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E2B4-A2CF-49AB-8C2A-6D1340F2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E96F-08D3-4A9F-8A17-6A238377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B758-E0A4-427F-BB00-DD337ADD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23FD-5357-4FC4-A1E1-C87C156A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3919-F275-4D91-90E7-61BE69FC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E065-1117-4BBF-9BCB-2C33C562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37E7-0B0D-40B9-9291-0895169F770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4C29-D1A9-4D4A-91E8-A09162FD41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ستطيل 3"/>
          <p:cNvSpPr/>
          <p:nvPr/>
        </p:nvSpPr>
        <p:spPr>
          <a:xfrm>
            <a:off x="428760" y="1357200"/>
            <a:ext cx="8072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LS 33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LINICAL INSTRUMENTAL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Visible region waveleng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68360" y="1484280"/>
          <a:ext cx="7772400" cy="46641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MS PGothic"/>
                        </a:rPr>
                        <a:t>Col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MS PGothic"/>
                        </a:rPr>
                        <a:t>Wavelength (n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Ultraviol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400 and un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Viol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400 - 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B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450 - 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Gre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500 - 5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Ye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570 - 5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Ora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590 - 6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620 - 6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Infra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750 &amp; o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مستطيل 1"/>
          <p:cNvSpPr/>
          <p:nvPr/>
        </p:nvSpPr>
        <p:spPr>
          <a:xfrm>
            <a:off x="250920" y="134136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%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tance means no light is absorbed by the solution so that incident light is 100% transmitt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%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0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مستطيل 1"/>
          <p:cNvSpPr/>
          <p:nvPr/>
        </p:nvSpPr>
        <p:spPr>
          <a:xfrm>
            <a:off x="214200" y="428760"/>
            <a:ext cx="892980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Spectrophotometer Instru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spectrophotometer instruments designed to measure the absorption of radiant energy ha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asic components as follow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ght sourc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ngsten lamp fo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ble reg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tensity of out put of the lamp varies with the wavelength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مستطيل 1"/>
          <p:cNvSpPr/>
          <p:nvPr/>
        </p:nvSpPr>
        <p:spPr>
          <a:xfrm>
            <a:off x="214200" y="857160"/>
            <a:ext cx="864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nochromator  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lter 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isolate a desired wavelength from the sourc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مستطيل 1"/>
          <p:cNvSpPr/>
          <p:nvPr/>
        </p:nvSpPr>
        <p:spPr>
          <a:xfrm>
            <a:off x="214200" y="714240"/>
            <a:ext cx="8678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ansparent container (cuvette)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e sample and the bl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radiation detector (phototube)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onvert the radiant energy received to a measurable signal; and a readout device that displays the signal from the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http://t0.gstatic.com/images?q=tbn:ANd9GcSaFXps7tGy3_Y6CMM2mBsLVYAETP5WoZnk9zmCZN-Z8ClTzWBLFQ"/>
          <p:cNvPicPr/>
          <p:nvPr/>
        </p:nvPicPr>
        <p:blipFill>
          <a:blip r:embed="rId1"/>
          <a:stretch/>
        </p:blipFill>
        <p:spPr>
          <a:xfrm>
            <a:off x="6396120" y="155736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5" descr="4dce1656815acc30"/>
          <p:cNvPicPr/>
          <p:nvPr/>
        </p:nvPicPr>
        <p:blipFill>
          <a:blip r:embed="rId1"/>
          <a:stretch/>
        </p:blipFill>
        <p:spPr>
          <a:xfrm>
            <a:off x="1219320" y="3048120"/>
            <a:ext cx="833400" cy="112068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6"/>
          <p:cNvSpPr/>
          <p:nvPr/>
        </p:nvSpPr>
        <p:spPr>
          <a:xfrm>
            <a:off x="2666880" y="3276720"/>
            <a:ext cx="160020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5257800" y="2895480"/>
            <a:ext cx="609480" cy="14479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8"/>
          <p:cNvSpPr/>
          <p:nvPr/>
        </p:nvSpPr>
        <p:spPr>
          <a:xfrm>
            <a:off x="7162920" y="3276720"/>
            <a:ext cx="160020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808200" y="4343400"/>
            <a:ext cx="12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50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o                              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 = 0.012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2362320" y="4419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ochrom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5084640" y="46148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v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6948360" y="4343400"/>
            <a:ext cx="15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7"/>
          <p:cNvSpPr/>
          <p:nvPr/>
        </p:nvSpPr>
        <p:spPr>
          <a:xfrm flipV="1">
            <a:off x="2057400" y="320004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8"/>
          <p:cNvSpPr/>
          <p:nvPr/>
        </p:nvSpPr>
        <p:spPr>
          <a:xfrm>
            <a:off x="1981080" y="38098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24"/>
          <p:cNvSpPr/>
          <p:nvPr/>
        </p:nvSpPr>
        <p:spPr>
          <a:xfrm>
            <a:off x="4267080" y="3200400"/>
            <a:ext cx="990720" cy="69840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25"/>
          <p:cNvSpPr/>
          <p:nvPr/>
        </p:nvSpPr>
        <p:spPr>
          <a:xfrm>
            <a:off x="5867280" y="3276720"/>
            <a:ext cx="1295640" cy="69840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مستطيل 1"/>
          <p:cNvSpPr/>
          <p:nvPr/>
        </p:nvSpPr>
        <p:spPr>
          <a:xfrm>
            <a:off x="324000" y="692280"/>
            <a:ext cx="849600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ification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yrex glass absorbs no light in the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ble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on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ut absorbs almost all the light in the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V region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ence in UV range </a:t>
            </a:r>
            <a:r>
              <a:rPr b="1" lang="en-GB" sz="36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quartz or silica</a:t>
            </a:r>
            <a:r>
              <a:rPr b="1" lang="en-GB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uvettes are u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cedure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مستطيل 2"/>
          <p:cNvSpPr/>
          <p:nvPr/>
        </p:nvSpPr>
        <p:spPr>
          <a:xfrm>
            <a:off x="214200" y="1071720"/>
            <a:ext cx="8715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e general measurement procedure consists of 5 steps</a:t>
            </a: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 samples to make coloured comp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series of standard solutions of known concentrations and treat them in the same manner as the sample for making coloured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179280" y="907920"/>
            <a:ext cx="8569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spectrophotometer to l of maximum light 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 light absorbance of stand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ot standard curve: Absorbance vs. Concen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Rules to handle cuvettes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560" y="148392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handle lower portion of the cuvette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nse cuvette with two portion of solution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pe off any liquid drops with a clean lens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er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the cuvette with the index-line facing the front of the instrument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152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 VISIBLE  ABSORPTION SPECTROME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4067280" y="2997360"/>
            <a:ext cx="461016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مستطيل 1"/>
          <p:cNvSpPr/>
          <p:nvPr/>
        </p:nvSpPr>
        <p:spPr>
          <a:xfrm>
            <a:off x="-17640" y="36360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me OPERATING INSTRUCTIONS FOR SPECTROPHOTOMET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230V, 50Hz, single-phase power supply is available in the 3 contact 5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point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the power cord of the instrument in to a power poin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n the switch at ‘ON” posi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324000" y="692280"/>
            <a:ext cx="8820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rm up the instrument for 15 minut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s %T selector switc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just wavelength control to read the wavelength at which the test is desir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مستطيل 1"/>
          <p:cNvSpPr/>
          <p:nvPr/>
        </p:nvSpPr>
        <p:spPr>
          <a:xfrm>
            <a:off x="357120" y="1773360"/>
            <a:ext cx="82868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mbda max is the wavelength at which the maximum fraction of light is absorbed by a s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مستطيل 2"/>
          <p:cNvSpPr/>
          <p:nvPr/>
        </p:nvSpPr>
        <p:spPr>
          <a:xfrm>
            <a:off x="1763640" y="642960"/>
            <a:ext cx="472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mbda </a:t>
            </a:r>
            <a:r>
              <a:rPr b="1" lang="el-G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λ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max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How to calculate </a:t>
            </a:r>
            <a:r>
              <a:rPr b="1" lang="el-GR" sz="4400" spc="-1" strike="noStrike">
                <a:solidFill>
                  <a:srgbClr val="ff0000"/>
                </a:solidFill>
                <a:latin typeface="Times New Roman"/>
              </a:rPr>
              <a:t>λ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 max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509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Materials</a:t>
            </a:r>
            <a:r>
              <a:rPr b="1" lang="en-GB" sz="3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omium nitrate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nk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rophotometer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velengths :400- 800 nm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79280" y="115560"/>
            <a:ext cx="878544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ocedure</a:t>
            </a:r>
            <a:r>
              <a:rPr b="1" lang="en-GB" sz="3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just spectrophotometer to  zero against blank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 the readings of chromium nitrate at wavelengths starting from 400 till 800 nm in 50 nm interval (400-450-500-550-........800)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e the max absorption and take one interval before and one interval after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179280" y="836640"/>
            <a:ext cx="835344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, take the reading in 10 intervals and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e the max absorption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take the reading in 5 intervals and observe the max absorption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79280" y="54900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 the reading now in 2 intervals and observe the max absorption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 ,take the reading in one interval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going to be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pectrophotome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1384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f the simplest and most widely used methods to determine concentration of a substance in solu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s light absorbed by solution at a specific wavelengt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مستطيل 1"/>
          <p:cNvSpPr/>
          <p:nvPr/>
        </p:nvSpPr>
        <p:spPr>
          <a:xfrm>
            <a:off x="393840" y="928800"/>
            <a:ext cx="8750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analysis, the amount of light radiation absorbed by a sample is measured. The light absorption is directly related to the concentration of the coloured compound in the samp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مستطيل 3"/>
          <p:cNvSpPr/>
          <p:nvPr/>
        </p:nvSpPr>
        <p:spPr>
          <a:xfrm>
            <a:off x="214200" y="457200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avelength (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of maximum absorption is known for different compound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مستطيل 1"/>
          <p:cNvSpPr/>
          <p:nvPr/>
        </p:nvSpPr>
        <p:spPr>
          <a:xfrm>
            <a:off x="428760" y="1571760"/>
            <a:ext cx="8286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ethod is used to determine concentrations of various chemicals which can give colours either directly or after addition of some other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مستطيل 1"/>
          <p:cNvSpPr/>
          <p:nvPr/>
        </p:nvSpPr>
        <p:spPr>
          <a:xfrm>
            <a:off x="0" y="907920"/>
            <a:ext cx="914400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nciples of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ctrophotometer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pectrophotometer consists of two instr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ctrometer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producing light of any selected color (wavelength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otometer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measuring the intensity of ligh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مستطيل 1"/>
          <p:cNvSpPr/>
          <p:nvPr/>
        </p:nvSpPr>
        <p:spPr>
          <a:xfrm>
            <a:off x="34920" y="907920"/>
            <a:ext cx="8858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struments are arranged so that liquid in 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vette can be placed between th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rometer beam and the photomet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-23760" y="836640"/>
            <a:ext cx="8891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mount of light passing through the tube is measured by the photomet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hotometer delivers a voltage signal to a display device, normally a galvanomet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gnal changes as the amount of light absorbed by the liquid chang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1"/>
          <p:cNvSpPr/>
          <p:nvPr/>
        </p:nvSpPr>
        <p:spPr>
          <a:xfrm>
            <a:off x="285840" y="765000"/>
            <a:ext cx="8643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ble light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only a small portion of the entire electromagnetic spectrum and it includes the colors commonly observed (red, yellow, green, blue and violet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isible spectrum consists of electromagnetic radiation whose wavelengths range from 400 nm to nearly 800 n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su</cp:lastModifiedBy>
  <dcterms:modified xsi:type="dcterms:W3CDTF">2012-02-20T07:01:03Z</dcterms:modified>
  <cp:revision>20</cp:revision>
  <dc:subject/>
  <dc:title>الشريحة 1</dc:title>
</cp:coreProperties>
</file>