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AB91A-B409-427E-B570-3ADA8A5C7FA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9F0B1-F877-4D7B-ABED-87155B833AA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AEB96-4E8F-44C7-91B1-3AC28AADDDE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D87C8-6158-4D05-8C89-D4A2AAA0147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0ADC-380F-4565-9F60-130455A64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6017-65D0-4EC4-B146-7A45B2E11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5AFB-7020-4969-9C0D-41919C785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EC6A-988A-42B5-9C73-086BDFEB8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3724E-531A-4B20-8049-20225DFED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38A8E-6E5C-48B2-98F7-3810F3FEC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F8FD6-0917-4EA2-80FD-171EE7408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2B58B-99EE-41E5-889C-C664D09F5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B9A27-A124-4140-BC4C-9F044D87B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CF185-25E0-47A6-9F78-CA389AD36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0A440-0D5D-4893-83ED-A95016D50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BAE9-A376-4190-93F7-D073222DC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76565-7639-4F02-B9E2-BEAD08FD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8B3F5-6171-4BAD-B7F0-34BB8083A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357A8-DA65-450C-9521-DD203BED3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8EEB4-4E85-4C98-A98B-509C9ECB6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F674D-0B6C-4F6A-937E-01C7CCC69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2380-34EC-4443-B804-7BC0F0146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B2A9-C701-41CE-A0F0-F71AAF9B2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952C-EE02-4681-A661-998F834D1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1A48-6E45-41E8-9290-F526018C9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C93C-7F00-439E-A56E-230D85FBB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D7EB-3D49-4E55-9E55-638D6B88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A735-449A-458A-BA79-5E3A17C8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01F90-DD1B-46C1-B6CC-457B7B02868F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69CEF-1945-4B10-8125-0EDF4DF459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مستطيل 3"/>
          <p:cNvSpPr/>
          <p:nvPr/>
        </p:nvSpPr>
        <p:spPr>
          <a:xfrm>
            <a:off x="428760" y="1357200"/>
            <a:ext cx="8072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LS 33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LINICAL INSTRUMENTAL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Visible region waveleng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68360" y="1484280"/>
          <a:ext cx="7772400" cy="466416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MS PGothic"/>
                        </a:rPr>
                        <a:t>Col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MS PGothic"/>
                        </a:rPr>
                        <a:t>Wavelength (n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Ultraviol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400 and und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Viol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400 - 4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Bl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450 - 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Gre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500 - 5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Ye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570 - 5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Oran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590 - 6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620 - 6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Infra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750 &amp; ov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مستطيل 1"/>
          <p:cNvSpPr/>
          <p:nvPr/>
        </p:nvSpPr>
        <p:spPr>
          <a:xfrm>
            <a:off x="250920" y="1341360"/>
            <a:ext cx="85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%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ttance means no light is absorbed by the solution so that incident light is 100% transmitte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%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= 0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مستطيل 1"/>
          <p:cNvSpPr/>
          <p:nvPr/>
        </p:nvSpPr>
        <p:spPr>
          <a:xfrm>
            <a:off x="214200" y="428760"/>
            <a:ext cx="892980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Spectrophotometer Instru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spectrophotometer instruments designed to measure the absorption of radiant energy hav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asic components as follow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ght source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ngsten lamp for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ible reg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tensity of out put of the lamp varies with the wavelength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مستطيل 1"/>
          <p:cNvSpPr/>
          <p:nvPr/>
        </p:nvSpPr>
        <p:spPr>
          <a:xfrm>
            <a:off x="214200" y="857160"/>
            <a:ext cx="8643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</a:t>
            </a:r>
            <a:r>
              <a:rPr b="1" lang="en-GB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onochromator  (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ilter </a:t>
            </a:r>
            <a:r>
              <a:rPr b="1" lang="en-GB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isolate a desired wavelength from the sourc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مستطيل 1"/>
          <p:cNvSpPr/>
          <p:nvPr/>
        </p:nvSpPr>
        <p:spPr>
          <a:xfrm>
            <a:off x="214200" y="714240"/>
            <a:ext cx="8678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ransparent container (cuvette)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the sample and the bla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radiation detector (phototube)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onvert the radiant energy received to a measurable signal; and a readout device that displays the signal from the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http://t0.gstatic.com/images?q=tbn:ANd9GcSaFXps7tGy3_Y6CMM2mBsLVYAETP5WoZnk9zmCZN-Z8ClTzWBLFQ"/>
          <p:cNvPicPr/>
          <p:nvPr/>
        </p:nvPicPr>
        <p:blipFill>
          <a:blip r:embed="rId1"/>
          <a:stretch/>
        </p:blipFill>
        <p:spPr>
          <a:xfrm>
            <a:off x="6396120" y="155736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5" descr="4dce1656815acc30"/>
          <p:cNvPicPr/>
          <p:nvPr/>
        </p:nvPicPr>
        <p:blipFill>
          <a:blip r:embed="rId1"/>
          <a:stretch/>
        </p:blipFill>
        <p:spPr>
          <a:xfrm>
            <a:off x="1219320" y="3048120"/>
            <a:ext cx="833400" cy="112068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6"/>
          <p:cNvSpPr/>
          <p:nvPr/>
        </p:nvSpPr>
        <p:spPr>
          <a:xfrm>
            <a:off x="2666880" y="3276720"/>
            <a:ext cx="1600200" cy="685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5257800" y="2895480"/>
            <a:ext cx="609480" cy="14479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8"/>
          <p:cNvSpPr/>
          <p:nvPr/>
        </p:nvSpPr>
        <p:spPr>
          <a:xfrm>
            <a:off x="7162920" y="3276720"/>
            <a:ext cx="1600200" cy="685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808200" y="4343400"/>
            <a:ext cx="12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50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o                              I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 = 0.012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2362320" y="44197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ochrom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5"/>
          <p:cNvSpPr/>
          <p:nvPr/>
        </p:nvSpPr>
        <p:spPr>
          <a:xfrm>
            <a:off x="5084640" y="46148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vet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6"/>
          <p:cNvSpPr/>
          <p:nvPr/>
        </p:nvSpPr>
        <p:spPr>
          <a:xfrm>
            <a:off x="6948360" y="4343400"/>
            <a:ext cx="15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7"/>
          <p:cNvSpPr/>
          <p:nvPr/>
        </p:nvSpPr>
        <p:spPr>
          <a:xfrm flipV="1">
            <a:off x="2057400" y="320004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8"/>
          <p:cNvSpPr/>
          <p:nvPr/>
        </p:nvSpPr>
        <p:spPr>
          <a:xfrm>
            <a:off x="1981080" y="38098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24"/>
          <p:cNvSpPr/>
          <p:nvPr/>
        </p:nvSpPr>
        <p:spPr>
          <a:xfrm>
            <a:off x="4267080" y="3200400"/>
            <a:ext cx="990720" cy="69840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25"/>
          <p:cNvSpPr/>
          <p:nvPr/>
        </p:nvSpPr>
        <p:spPr>
          <a:xfrm>
            <a:off x="5867280" y="3276720"/>
            <a:ext cx="1295640" cy="69840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مستطيل 1"/>
          <p:cNvSpPr/>
          <p:nvPr/>
        </p:nvSpPr>
        <p:spPr>
          <a:xfrm>
            <a:off x="324000" y="692280"/>
            <a:ext cx="849600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ification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yrex glass absorbs no light in the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ible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on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ut absorbs almost all the light in the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V region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Hence in UV range </a:t>
            </a:r>
            <a:r>
              <a:rPr b="1" lang="en-GB" sz="36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quartz or silica</a:t>
            </a:r>
            <a:r>
              <a:rPr b="1" lang="en-GB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uvettes are u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cedure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مستطيل 2"/>
          <p:cNvSpPr/>
          <p:nvPr/>
        </p:nvSpPr>
        <p:spPr>
          <a:xfrm>
            <a:off x="214200" y="1071720"/>
            <a:ext cx="87156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The general measurement procedure consists of 5 steps</a:t>
            </a:r>
            <a:r>
              <a:rPr b="0" lang="en-US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pare samples to make coloured comp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series of standard solutions of known concentrations and treat them in the same manner as the sample for making coloured comp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179280" y="907920"/>
            <a:ext cx="8569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spectrophotometer to l of maximum light absor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sure light absorbance of stand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ot standard curve: Absorbance vs. Concent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Rules to handle cuvettes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50560" y="148392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not handle lower portion of the cuvette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nse cuvette with two portion of solution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pe off any liquid drops with a clean lens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per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ert the cuvette with the index-line facing the front of the instrument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152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A VISIBLE  ABSORPTION SPECTROME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4067280" y="2997360"/>
            <a:ext cx="461016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مستطيل 1"/>
          <p:cNvSpPr/>
          <p:nvPr/>
        </p:nvSpPr>
        <p:spPr>
          <a:xfrm>
            <a:off x="-17640" y="36360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ome OPERATING INSTRUCTIONS FOR SPECTROPHOTOMET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230V, 50Hz, single-phase power supply is available in the 3 contact 5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point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ert the power cord of the instrument in to a power poin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rn the switch at ‘ON” posit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"/>
          <p:cNvSpPr/>
          <p:nvPr/>
        </p:nvSpPr>
        <p:spPr>
          <a:xfrm>
            <a:off x="324000" y="692280"/>
            <a:ext cx="8820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rm up the instrument for 15 minute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s %T selector switch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just wavelength control to read the wavelength at which the test is desire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مستطيل 1"/>
          <p:cNvSpPr/>
          <p:nvPr/>
        </p:nvSpPr>
        <p:spPr>
          <a:xfrm>
            <a:off x="357120" y="1773360"/>
            <a:ext cx="82868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mbda max is the wavelength at which the maximum fraction of light is absorbed by a sol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مستطيل 2"/>
          <p:cNvSpPr/>
          <p:nvPr/>
        </p:nvSpPr>
        <p:spPr>
          <a:xfrm>
            <a:off x="1763640" y="642960"/>
            <a:ext cx="472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ambda </a:t>
            </a:r>
            <a:r>
              <a:rPr b="1" lang="el-GR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λ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max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How to calculate </a:t>
            </a:r>
            <a:r>
              <a:rPr b="1" lang="el-GR" sz="4400" spc="-1" strike="noStrike">
                <a:solidFill>
                  <a:srgbClr val="ff0000"/>
                </a:solidFill>
                <a:latin typeface="Times New Roman"/>
              </a:rPr>
              <a:t>λ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 max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5092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Materials</a:t>
            </a:r>
            <a:r>
              <a:rPr b="1" lang="en-GB" sz="3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romium nitrate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ank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rophotometer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velengths :400- 800 nm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79280" y="115560"/>
            <a:ext cx="878544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rocedure</a:t>
            </a:r>
            <a:r>
              <a:rPr b="1" lang="en-GB" sz="3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just spectrophotometer to  zero against blank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e the readings of chromium nitrate at wavelengths starting from 400 till 800 nm in 50 nm interval (400-450-500-550-........800)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serve the max absorption and take one interval before and one interval after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3"/>
          <p:cNvSpPr/>
          <p:nvPr/>
        </p:nvSpPr>
        <p:spPr>
          <a:xfrm>
            <a:off x="179280" y="836640"/>
            <a:ext cx="8353440" cy="45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w, take the reading in 10 intervals and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serve the max absorption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take the reading in 5 intervals and observe the max absorption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79280" y="549000"/>
            <a:ext cx="82296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e the reading now in 2 intervals and observe the max absorption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ly ,take the reading in one interval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going to be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ax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Spectrophotomet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13840" y="160020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f the simplest and most widely used methods to determine concentration of a substance in solu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rtl="1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sures light absorbed by solution at a specific wavelengt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rtl="1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مستطيل 1"/>
          <p:cNvSpPr/>
          <p:nvPr/>
        </p:nvSpPr>
        <p:spPr>
          <a:xfrm>
            <a:off x="393840" y="928800"/>
            <a:ext cx="8750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analysis, the amount of light radiation absorbed by a sample is measured. The light absorption is directly related to the concentration of the coloured compound in the sampl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مستطيل 3"/>
          <p:cNvSpPr/>
          <p:nvPr/>
        </p:nvSpPr>
        <p:spPr>
          <a:xfrm>
            <a:off x="214200" y="4572000"/>
            <a:ext cx="864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avelength (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of maximum absorption is known for different compound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مستطيل 1"/>
          <p:cNvSpPr/>
          <p:nvPr/>
        </p:nvSpPr>
        <p:spPr>
          <a:xfrm>
            <a:off x="428760" y="1571760"/>
            <a:ext cx="8286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method is used to determine concentrations of various chemicals which can give colours either directly or after addition of some other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mic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مستطيل 1"/>
          <p:cNvSpPr/>
          <p:nvPr/>
        </p:nvSpPr>
        <p:spPr>
          <a:xfrm>
            <a:off x="0" y="907920"/>
            <a:ext cx="914400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inciples of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ectrophotometer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pectrophotometer consists of two instr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ectrometer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producing light of any selected color (wavelength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otometer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measuring the intensity of ligh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مستطيل 1"/>
          <p:cNvSpPr/>
          <p:nvPr/>
        </p:nvSpPr>
        <p:spPr>
          <a:xfrm>
            <a:off x="34920" y="907920"/>
            <a:ext cx="8858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struments are arranged so that liquid in 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vette can be placed between th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rometer beam and the photomete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"/>
          <p:cNvSpPr/>
          <p:nvPr/>
        </p:nvSpPr>
        <p:spPr>
          <a:xfrm>
            <a:off x="-23760" y="836640"/>
            <a:ext cx="8891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mount of light passing through the tube is measured by the photomete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hotometer delivers a voltage signal to a display device, normally a galvanomete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ignal changes as the amount of light absorbed by the liquid change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مستطيل 1"/>
          <p:cNvSpPr/>
          <p:nvPr/>
        </p:nvSpPr>
        <p:spPr>
          <a:xfrm>
            <a:off x="285840" y="765000"/>
            <a:ext cx="86439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sible light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only a small portion of the entire electromagnetic spectrum and it includes the colors commonly observed (red, yellow, green, blue and violet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visible spectrum consists of electromagnetic radiation whose wavelengths range from 400 nm to nearly 800 n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su</cp:lastModifiedBy>
  <dcterms:modified xsi:type="dcterms:W3CDTF">2012-02-20T07:01:03Z</dcterms:modified>
  <cp:revision>20</cp:revision>
  <dc:subject/>
  <dc:title>الشريحة 1</dc:title>
</cp:coreProperties>
</file>