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7C58-77B5-49BB-9FBE-15CC660D7B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2882-97E3-4093-93A8-8D5BBB9D3C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61E5-D530-4A90-BC6D-33CF54D4EA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52C7-DB26-475C-B600-D8877789DB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803-7A65-4E9F-92DD-D6698E8F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2832-38AB-4323-A435-054680DD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67D-D43A-4C8B-BCFD-6AD1BD06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6B7-EE4F-49CF-84BC-27F4CD8F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7397-31FC-4CF4-902D-E9097568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C777-706E-4603-8339-5ED52CB6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1E84-AFA2-4D09-8F36-1565981C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18AF-F61B-4598-A840-484CFF59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96FA-389B-4316-998C-7909EFCB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0947-8620-4206-9460-90B46FF8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0F05-2D9F-40BB-86AC-983C0967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C3B-7ED0-415F-848D-2B39939D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94CD-EB93-44BD-AC70-43561BAB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3705-A266-4D2C-85E0-16EABB8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5C30-4DBA-4943-A6B5-249BA5CA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11F8-C59F-4188-BD90-885377C8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54D8-77FB-4E55-83AB-0B5CB813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47E-829C-47A8-BE28-F7A76FD4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A09-E9C7-488F-8F4C-D07751DF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052-7E05-49E8-811A-1BC1D1FA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DFA-AAFC-4521-ABF6-32B2BD34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312-4DF7-4B1A-A4C8-0E68E178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234-24CE-4E00-ADDC-18E21374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DB4-52DF-4E8E-A37D-0ADEC5E4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672E-706F-4738-A2FF-453C62B1363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B0B-AA34-457C-A048-A7D36258B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3"/>
          <p:cNvSpPr/>
          <p:nvPr/>
        </p:nvSpPr>
        <p:spPr>
          <a:xfrm>
            <a:off x="428760" y="135720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S 3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LINICAL INSTRUMENTAL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Visible region waveleng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484280"/>
          <a:ext cx="7772400" cy="46641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Co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MS PGothic"/>
                        </a:rPr>
                        <a:t>Wavelength (n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Ultra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and u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Viol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00 -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B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450 -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00 - 5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70 - 5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O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590 - 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620 - 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Infra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750 &amp; 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مستطيل 1"/>
          <p:cNvSpPr/>
          <p:nvPr/>
        </p:nvSpPr>
        <p:spPr>
          <a:xfrm>
            <a:off x="250920" y="1341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ance means no light is absorbed by the solution so that incident light is 100% transmit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مستطيل 1"/>
          <p:cNvSpPr/>
          <p:nvPr/>
        </p:nvSpPr>
        <p:spPr>
          <a:xfrm>
            <a:off x="214200" y="428760"/>
            <a:ext cx="8929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pectrophotometer Instr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pectrophotometer instruments designed to measure the absorption of radiant energy ha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mponents as foll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ght sourc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ngsten lamp fo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 reg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nsity of out put of the lamp varies with the wavelength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مستطيل 1"/>
          <p:cNvSpPr/>
          <p:nvPr/>
        </p:nvSpPr>
        <p:spPr>
          <a:xfrm>
            <a:off x="214200" y="85716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chromator  (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lter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solate a desired wavelength from the sour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1"/>
          <p:cNvSpPr/>
          <p:nvPr/>
        </p:nvSpPr>
        <p:spPr>
          <a:xfrm>
            <a:off x="214200" y="714240"/>
            <a:ext cx="867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parent container (cuvette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ample and the 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radiation detector (phototube)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vert the radiant energy received to a measurable signal; and a readout device that displays the signal from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http://t0.gstatic.com/images?q=tbn:ANd9GcSaFXps7tGy3_Y6CMM2mBsLVYAETP5WoZnk9zmCZN-Z8ClTzWBLFQ"/>
          <p:cNvPicPr/>
          <p:nvPr/>
        </p:nvPicPr>
        <p:blipFill>
          <a:blip r:embed="rId1"/>
          <a:stretch/>
        </p:blipFill>
        <p:spPr>
          <a:xfrm>
            <a:off x="6396120" y="155736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4dce1656815acc30"/>
          <p:cNvPicPr/>
          <p:nvPr/>
        </p:nvPicPr>
        <p:blipFill>
          <a:blip r:embed="rId1"/>
          <a:stretch/>
        </p:blipFill>
        <p:spPr>
          <a:xfrm>
            <a:off x="1219320" y="3048120"/>
            <a:ext cx="833400" cy="11206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266688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5257800" y="2895480"/>
            <a:ext cx="609480" cy="14479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7162920" y="32767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808200" y="4343400"/>
            <a:ext cx="12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o                              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= 0.01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236232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chrom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5084640" y="4614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6948360" y="434340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 flipV="1">
            <a:off x="2057400" y="320004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1981080" y="3809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4"/>
          <p:cNvSpPr/>
          <p:nvPr/>
        </p:nvSpPr>
        <p:spPr>
          <a:xfrm>
            <a:off x="4267080" y="3200400"/>
            <a:ext cx="99072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5"/>
          <p:cNvSpPr/>
          <p:nvPr/>
        </p:nvSpPr>
        <p:spPr>
          <a:xfrm>
            <a:off x="5867280" y="3276720"/>
            <a:ext cx="1295640" cy="69840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مستطيل 1"/>
          <p:cNvSpPr/>
          <p:nvPr/>
        </p:nvSpPr>
        <p:spPr>
          <a:xfrm>
            <a:off x="324000" y="692280"/>
            <a:ext cx="84960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ification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ex glass absorbs no light in the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l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absorbs almost all the light in th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 reg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nce in UV range </a:t>
            </a:r>
            <a:r>
              <a:rPr b="1" lang="en-GB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quartz or silica</a:t>
            </a:r>
            <a:r>
              <a:rPr b="1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uvettes are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مستطيل 2"/>
          <p:cNvSpPr/>
          <p:nvPr/>
        </p:nvSpPr>
        <p:spPr>
          <a:xfrm>
            <a:off x="214200" y="1071720"/>
            <a:ext cx="8715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general measurement procedure consists of 5 steps</a:t>
            </a:r>
            <a:r>
              <a:rPr b="0" lang="en-US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samples to make coloured com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series of standard solutions of known concentrations and treat them in the same manner as the sample for making coloured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79280" y="907920"/>
            <a:ext cx="856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spectrophotometer to l of maximum light 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light absorbance of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ot standard curve: Absorbance vs.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Rules to handle cuvettes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560" y="1483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handle lower portion of the cuvet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se cuvette with two portion of solu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off any liquid drops with a clean len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cuvette with the index-line facing the front of the instrumen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 VISIBLE  ABSORPTION SPECTRO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6101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مستطيل 1"/>
          <p:cNvSpPr/>
          <p:nvPr/>
        </p:nvSpPr>
        <p:spPr>
          <a:xfrm>
            <a:off x="-17640" y="363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me OPERATING INSTRUCTIONS FOR SPECTROPHOTOMETE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230V, 50Hz, single-phase power supply is available in the 3 contact 5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poin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the power cord of the instrument in to a power poi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the switch at ‘ON” posi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324000" y="69228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m up the instrument for 15 minut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 %T selector switc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wavelength control to read the wavelength at which the test is desi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مستطيل 1"/>
          <p:cNvSpPr/>
          <p:nvPr/>
        </p:nvSpPr>
        <p:spPr>
          <a:xfrm>
            <a:off x="357120" y="1773360"/>
            <a:ext cx="8286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mbda max is the wavelength at which the maximum fraction of light is absorbed by a 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ستطيل 2"/>
          <p:cNvSpPr/>
          <p:nvPr/>
        </p:nvSpPr>
        <p:spPr>
          <a:xfrm>
            <a:off x="1763640" y="642960"/>
            <a:ext cx="47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mbda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λ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ax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How to calculate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</a:rPr>
              <a:t>λ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 max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1" lang="en-GB" sz="3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mium nitr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photomet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lengths :400- 800 n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15560"/>
            <a:ext cx="87854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cedure</a:t>
            </a:r>
            <a:r>
              <a:rPr b="1" lang="en-GB" sz="3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spectrophotometer to  zero against blank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readings of chromium nitrate at wavelengths starting from 400 till 800 nm in 50 nm interval (400-450-500-550-........800)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max absorption and take one interval before and one interval after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179280" y="836640"/>
            <a:ext cx="835344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take the reading in 10 intervals an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ake the reading in 5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9280" y="54900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reading now in 2 intervals and observe the max absorption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 ,take the reading in one interval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going to be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simplest and most widely used methods to determine concentration of a substance in s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light absorbed by solution at a specific waveleng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مستطيل 1"/>
          <p:cNvSpPr/>
          <p:nvPr/>
        </p:nvSpPr>
        <p:spPr>
          <a:xfrm>
            <a:off x="393840" y="928800"/>
            <a:ext cx="875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analysis, the amount of light radiation absorbed by a sample is measured. The light absorption is directly related to the concentration of the coloured compound in the samp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3"/>
          <p:cNvSpPr/>
          <p:nvPr/>
        </p:nvSpPr>
        <p:spPr>
          <a:xfrm>
            <a:off x="214200" y="4572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avelength (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of maximum absorption is known for different compound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مستطيل 1"/>
          <p:cNvSpPr/>
          <p:nvPr/>
        </p:nvSpPr>
        <p:spPr>
          <a:xfrm>
            <a:off x="428760" y="1571760"/>
            <a:ext cx="8286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ed to determine concentrations of various chemicals which can give colours either directly or after addition of some other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مستطيل 1"/>
          <p:cNvSpPr/>
          <p:nvPr/>
        </p:nvSpPr>
        <p:spPr>
          <a:xfrm>
            <a:off x="0" y="907920"/>
            <a:ext cx="91440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s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trophotometer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trophotometer consists of two instr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trome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producing light of any selected color (wavelength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otome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measuring the intensity of l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مستطيل 1"/>
          <p:cNvSpPr/>
          <p:nvPr/>
        </p:nvSpPr>
        <p:spPr>
          <a:xfrm>
            <a:off x="34920" y="90792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struments are arranged so that liquid in 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vette can be placed between th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meter beam and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-23760" y="836640"/>
            <a:ext cx="889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light passing through the tube is measured by the phot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otometer delivers a voltage signal to a display device, normally a galvan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l changes as the amount of light absorbed by the liquid chang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"/>
          <p:cNvSpPr/>
          <p:nvPr/>
        </p:nvSpPr>
        <p:spPr>
          <a:xfrm>
            <a:off x="285840" y="76500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ble ligh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nly a small portion of the entire electromagnetic spectrum and it includes the colors commonly observed (red, yellow, green, blue and violet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isible spectrum consists of electromagnetic radiation whose wavelengths range from 400 nm to nearly 800 n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2-02-20T07:01:03Z</dcterms:modified>
  <cp:revision>20</cp:revision>
  <dc:subject/>
  <dc:title>الشريحة 1</dc:title>
</cp:coreProperties>
</file>