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B5C-81FE-4196-BD8A-2A65E0B5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792-1B02-4C38-B492-D0AD6023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625-47DD-48F6-A286-A2FFD7D3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131-7DFB-4D0A-8CC7-40F46586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B2C-0FC5-4C61-BDF9-D9ECD2D0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1D1-1C7F-44D0-8DEF-8F615C32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284-2CCA-46F2-A194-2F8CFED9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BF0-9F50-4B9E-8259-A4F717AF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C83-62D5-41F2-8565-EAA60965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A90-A0EC-470C-AF6E-46581FA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B9A-E2BC-4E18-84A3-E39C880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2FC-18C7-4262-928D-C389940F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912F-3736-4FEF-896B-9BE769C2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4191120"/>
            <a:ext cx="716292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doni MT Black"/>
              </a:rPr>
              <a:t>Waleed Awwad. MD, FRC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doni MT Black"/>
              </a:rPr>
              <a:t>Assistant prof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doni MT Black"/>
              </a:rPr>
              <a:t>Consultant spine and scoli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371600" y="2286000"/>
            <a:ext cx="6705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pinal Inju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ligaments2"/>
          <p:cNvPicPr/>
          <p:nvPr/>
        </p:nvPicPr>
        <p:blipFill>
          <a:blip r:embed="rId2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pine2"/>
          <p:cNvPicPr/>
          <p:nvPr/>
        </p:nvPicPr>
        <p:blipFill>
          <a:blip r:embed="rId2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ver"/>
          <p:cNvPicPr/>
          <p:nvPr/>
        </p:nvPicPr>
        <p:blipFill>
          <a:blip r:embed="rId3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vertebrae4"/>
          <p:cNvPicPr/>
          <p:nvPr/>
        </p:nvPicPr>
        <p:blipFill>
          <a:blip r:embed="rId4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ligaments1"/>
          <p:cNvPicPr/>
          <p:nvPr/>
        </p:nvPicPr>
        <p:blipFill>
          <a:blip r:embed="rId5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ligaments2"/>
          <p:cNvPicPr/>
          <p:nvPr/>
        </p:nvPicPr>
        <p:blipFill>
          <a:blip r:embed="rId6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pine2"/>
          <p:cNvPicPr/>
          <p:nvPr/>
        </p:nvPicPr>
        <p:blipFill>
          <a:blip r:embed="rId7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tras section cord anatomy"/>
          <p:cNvPicPr/>
          <p:nvPr/>
        </p:nvPicPr>
        <p:blipFill>
          <a:blip r:embed="rId2"/>
          <a:stretch/>
        </p:blipFill>
        <p:spPr>
          <a:xfrm>
            <a:off x="3581280" y="1676520"/>
            <a:ext cx="523260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spinal cord anatomy dome"/>
          <p:cNvPicPr/>
          <p:nvPr/>
        </p:nvPicPr>
        <p:blipFill>
          <a:blip r:embed="rId2"/>
          <a:stretch/>
        </p:blipFill>
        <p:spPr>
          <a:xfrm>
            <a:off x="838080" y="2133720"/>
            <a:ext cx="73915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The Three colum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http://www.hawaii.edu/medicine/pediatrics/pemxray/v6c13c.jpg"/>
          <p:cNvPicPr/>
          <p:nvPr/>
        </p:nvPicPr>
        <p:blipFill>
          <a:blip r:embed="rId2"/>
          <a:stretch/>
        </p:blipFill>
        <p:spPr>
          <a:xfrm>
            <a:off x="1276200" y="1600200"/>
            <a:ext cx="42865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n cases of trauma, ABCDE</a:t>
            </a:r>
            <a:r>
              <a:rPr b="0" lang="ja-JP" sz="3200" spc="-1" strike="noStrike">
                <a:solidFill>
                  <a:srgbClr val="99ff9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s must be assessed first and treated appropria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Patients should be examined with spinal collar until spinal pathology is ex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Careful log rolling keeping the head, neck and pelvis in line should be done to examine the spine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Immob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Mechanism of inju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ff99"/>
                </a:solidFill>
                <a:latin typeface="Arial"/>
              </a:rPr>
              <a:t>compression, flexion, extension, di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Other inju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Seat b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Other caus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Physical exa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Inspection, palp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Neurologic exa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mmob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ollar"/>
          <p:cNvPicPr/>
          <p:nvPr/>
        </p:nvPicPr>
        <p:blipFill>
          <a:blip r:embed="rId2"/>
          <a:stretch/>
        </p:blipFill>
        <p:spPr>
          <a:xfrm>
            <a:off x="914400" y="2286000"/>
            <a:ext cx="193500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iamij"/>
          <p:cNvPicPr/>
          <p:nvPr/>
        </p:nvPicPr>
        <p:blipFill>
          <a:blip r:embed="rId3"/>
          <a:stretch/>
        </p:blipFill>
        <p:spPr>
          <a:xfrm>
            <a:off x="914400" y="4419720"/>
            <a:ext cx="1903320" cy="220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back board"/>
          <p:cNvPicPr/>
          <p:nvPr/>
        </p:nvPicPr>
        <p:blipFill>
          <a:blip r:embed="rId4"/>
          <a:stretch/>
        </p:blipFill>
        <p:spPr>
          <a:xfrm>
            <a:off x="7291440" y="2286000"/>
            <a:ext cx="1366920" cy="441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127.0.0.1:1818/images/10FF5B.jpg"/>
          <p:cNvPicPr/>
          <p:nvPr/>
        </p:nvPicPr>
        <p:blipFill>
          <a:blip r:embed="rId5"/>
          <a:stretch/>
        </p:blipFill>
        <p:spPr>
          <a:xfrm>
            <a:off x="3124080" y="2263680"/>
            <a:ext cx="3429000" cy="44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Muscl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ensory 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ff99"/>
                </a:solidFill>
                <a:latin typeface="Bradley Hand ITC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ight touch, Sharp dull discrimination, Vibration sense, Proprioception and two-point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Refle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The ability to demonstrate knowledge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asic anatomy of the sp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Initial assessment and treatment of spinal injuries at the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Principle of spinal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Understanding of neurologic syndromes caused by spinal tra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anagement of Cauda equina syndr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066680" y="1336680"/>
            <a:ext cx="7315200" cy="5423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ia Score: Brief Trauma Neurologic Su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621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3276720" y="304920"/>
            <a:ext cx="571500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l of Cord Injury determines level of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0040" y="2438280"/>
            <a:ext cx="5715000" cy="19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nosis for Recovery of spinal Cord Inju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834360" y="4419720"/>
            <a:ext cx="4934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Poor prognosis for recover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-pt arrives in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-pt cannot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-pt has a complet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  <a:ea typeface="ＭＳ Ｐゴシック"/>
              </a:rPr>
              <a:t>Flaccid paralysis below level of inj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  <a:ea typeface="ＭＳ Ｐゴシック"/>
              </a:rPr>
              <a:t>May involve diaphragm if injury above C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  <a:ea typeface="ＭＳ Ｐゴシック"/>
              </a:rPr>
              <a:t>Sympathetic tone lost if fracture above T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r>
              <a:rPr b="0" lang="en-US" sz="2000" spc="-1" strike="noStrike">
                <a:solidFill>
                  <a:srgbClr val="99ff99"/>
                </a:solidFill>
                <a:latin typeface="Bradley Hand ITC"/>
              </a:rPr>
              <a:t>?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Any sen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? Sacral spai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entral cord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Characterized by disproportionally (UL&gt;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Mechanism: hyper-ext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Occur with or without fra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Recovery: 50% regaining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Prognosis is f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hyper ext"/>
          <p:cNvPicPr/>
          <p:nvPr/>
        </p:nvPicPr>
        <p:blipFill>
          <a:blip r:embed="rId2"/>
          <a:stretch/>
        </p:blipFill>
        <p:spPr>
          <a:xfrm>
            <a:off x="6477120" y="4267080"/>
            <a:ext cx="22809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Anterior cord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Characterized by loss of corticospinal and spinothalamic tract with preserved posterior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Mechanism: ischemia or infarction to spinal cord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Commo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Recovery: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Prognosis is good if progressive recovery within 24hrs, absent SS after 24hrs protends a poor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Brown-Sequard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0880" y="228600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Characterized by hemicord injury with ipsilateral paralysis, loss of proprioception and fine touch, and contralateral temperature and pain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Prognosis is good, with over 90% regaining of bowel and bladder function and ambulatory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onus Medullaris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80880" y="228600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Seen in T12-L1 inju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Loss of voluntary bowel and bladder control with preserved lumbar root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Uncommon as pure lesion (mixed conus-cau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auda Equina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80880" y="2286000"/>
            <a:ext cx="82296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Saddle anesthesia, urinary retention and stool incontin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</a:t>
            </a:r>
            <a:r>
              <a:rPr b="0" lang="en-CA" sz="2400" spc="-1" strike="noStrike">
                <a:solidFill>
                  <a:srgbClr val="99ff99"/>
                </a:solidFill>
                <a:latin typeface="Arial"/>
              </a:rPr>
              <a:t>Usually due to large central disc herniation rather than fracture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7200" y="46483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Nerve root deficit: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L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pinal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Transient loss of spinal refle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Lasts 24-72 hours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eurogenic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Reduced tissue perfusion due to loss of sympathetic outflow and un-apposed vagal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Peripheral vasodilatation (hypotension and bradycard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Rx: fluid resuscitation and vasopress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X-r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Cervical: 3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ff99"/>
                </a:solidFill>
                <a:latin typeface="Arial"/>
              </a:rPr>
              <a:t>AP, lateral and open m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Thoraco-lumbar: 2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ff99"/>
                </a:solidFill>
                <a:latin typeface="Arial"/>
              </a:rPr>
              <a:t>AP &amp; 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Flexion-Extension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CT: </a:t>
            </a: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best for bony anat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MRI: </a:t>
            </a: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best to evaluate soft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50000 cases per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11000 new spinal cord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15-20% multiple non-contiguous lev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10% involving the cervical s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90% involving thoracolumbar s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25% have neurologic def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Age: mostly between 15-24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Gender: mostly males (4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Level of inj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Degree and morphology of injury: </a:t>
            </a:r>
            <a:r>
              <a:rPr b="1" lang="en-CA" sz="2800" spc="-1" strike="noStrike" u="sng">
                <a:solidFill>
                  <a:srgbClr val="99ff99"/>
                </a:solidFill>
                <a:uFillTx/>
                <a:latin typeface="Arial"/>
              </a:rPr>
              <a:t>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Presence of neurologic defic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Other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Management of Spinal Inju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Some general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 u="sng">
                <a:solidFill>
                  <a:srgbClr val="99ff99"/>
                </a:solidFill>
                <a:uFillTx/>
                <a:latin typeface="Arial"/>
              </a:rPr>
              <a:t>Stable</a:t>
            </a: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 injuries are usually treated </a:t>
            </a:r>
            <a:r>
              <a:rPr b="0" lang="en-CA" sz="2800" spc="-1" strike="noStrike" u="sng">
                <a:solidFill>
                  <a:srgbClr val="99ff99"/>
                </a:solidFill>
                <a:uFillTx/>
                <a:latin typeface="Arial"/>
              </a:rPr>
              <a:t>conserva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 u="sng">
                <a:solidFill>
                  <a:srgbClr val="99ff99"/>
                </a:solidFill>
                <a:uFillTx/>
                <a:latin typeface="Arial"/>
              </a:rPr>
              <a:t>Unstable</a:t>
            </a: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 injuries usually require </a:t>
            </a:r>
            <a:r>
              <a:rPr b="0" lang="en-CA" sz="2800" spc="-1" strike="noStrike" u="sng">
                <a:solidFill>
                  <a:srgbClr val="99ff99"/>
                </a:solidFill>
                <a:uFillTx/>
                <a:latin typeface="Arial"/>
              </a:rPr>
              <a:t>surg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Neurologic compression requires decom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pecific Inju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ervical spine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Descriptive: depends on mechanism of inj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Flexion/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Compression/dis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S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Presence of subluxation/dis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SC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high fracture results in quadriple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Low fracture results in paraple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ervical spine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cspinealign-thumb1"/>
          <p:cNvPicPr/>
          <p:nvPr/>
        </p:nvPicPr>
        <p:blipFill>
          <a:blip r:embed="rId2"/>
          <a:stretch/>
        </p:blipFill>
        <p:spPr>
          <a:xfrm>
            <a:off x="609480" y="1447920"/>
            <a:ext cx="2949840" cy="491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spine-bifacet-thumb #"/>
          <p:cNvPicPr/>
          <p:nvPr/>
        </p:nvPicPr>
        <p:blipFill>
          <a:blip r:embed="rId3"/>
          <a:stretch/>
        </p:blipFill>
        <p:spPr>
          <a:xfrm>
            <a:off x="4648320" y="1447920"/>
            <a:ext cx="292572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Thoraco-Lumbar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Spinal cord terminates at L1/2 disc in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L2/3 in a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50% of injuries occur at Thoraco-lumbar j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Common fra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Wedge fracture (flexion/compress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Burst (compress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Chance (flexion/distra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edg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Anteroposterior and lateral radiographs of an L1 ..."/>
          <p:cNvPicPr/>
          <p:nvPr/>
        </p:nvPicPr>
        <p:blipFill>
          <a:blip r:embed="rId2"/>
          <a:stretch/>
        </p:blipFill>
        <p:spPr>
          <a:xfrm>
            <a:off x="1981080" y="2057400"/>
            <a:ext cx="5378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urs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http://www.ncbi.nlm.nih.gov/bookshelf/picrender.fcgi?book=spinalcord&amp;part=A282&amp;blobname=ch3f25.jpg"/>
          <p:cNvPicPr/>
          <p:nvPr/>
        </p:nvPicPr>
        <p:blipFill>
          <a:blip r:embed="rId2"/>
          <a:stretch/>
        </p:blipFill>
        <p:spPr>
          <a:xfrm>
            <a:off x="457200" y="1905120"/>
            <a:ext cx="4143240" cy="384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4713120" y="1905120"/>
            <a:ext cx="214488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6400800" y="5334120"/>
            <a:ext cx="457200" cy="38088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c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876920" cy="256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rcRect l="18433" t="0" r="22187" b="0"/>
          <a:stretch/>
        </p:blipFill>
        <p:spPr>
          <a:xfrm>
            <a:off x="6019920" y="1676520"/>
            <a:ext cx="2590560" cy="2560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4"/>
          <a:srcRect l="0" t="0" r="0" b="13986"/>
          <a:stretch/>
        </p:blipFill>
        <p:spPr>
          <a:xfrm>
            <a:off x="380880" y="4419720"/>
            <a:ext cx="213372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Fracture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spine complex"/>
          <p:cNvPicPr/>
          <p:nvPr/>
        </p:nvPicPr>
        <p:blipFill>
          <a:blip r:embed="rId2"/>
          <a:stretch/>
        </p:blipFill>
        <p:spPr>
          <a:xfrm>
            <a:off x="609480" y="1295280"/>
            <a:ext cx="3689640" cy="5410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spine com CT"/>
          <p:cNvPicPr/>
          <p:nvPr/>
        </p:nvPicPr>
        <p:blipFill>
          <a:blip r:embed="rId3"/>
          <a:stretch/>
        </p:blipFill>
        <p:spPr>
          <a:xfrm>
            <a:off x="4800600" y="2590920"/>
            <a:ext cx="408132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chanism of Inj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High energy trauma such as an MVA or fall from a height or a h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MVA: 40-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Falls: 20-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Sports: 6-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Others: 12-2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Low energy trauma in a high risk patient (ie a patient with known spinal canal compromise such as ankylosing spondylitis, Osteoporosis or metatstatic vertebral le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Penetrating trauma from gunshot or kn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Pathologic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Low-energy fra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Osteoporotic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Usually due to infection or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X-rays: “winking owl” 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Pathologic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311360" cy="3733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ejbjs.org/Image_Quiz/2006/oct06/iqoct06_fig1_mag.jpg"/>
          <p:cNvPicPr/>
          <p:nvPr/>
        </p:nvPicPr>
        <p:blipFill>
          <a:blip r:embed="rId3"/>
          <a:stretch/>
        </p:blipFill>
        <p:spPr>
          <a:xfrm>
            <a:off x="533520" y="1600200"/>
            <a:ext cx="3504960" cy="377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4"/>
          <a:stretch/>
        </p:blipFill>
        <p:spPr>
          <a:xfrm>
            <a:off x="609480" y="5638680"/>
            <a:ext cx="1511280" cy="10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da Equina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 surgic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Requires full neurologic examination </a:t>
            </a:r>
            <a:r>
              <a:rPr b="0" i="1" lang="en-US" sz="3200" spc="-1" strike="noStrike" u="sng">
                <a:solidFill>
                  <a:srgbClr val="99ff99"/>
                </a:solidFill>
                <a:uFillTx/>
                <a:latin typeface="Arial"/>
              </a:rPr>
              <a:t>including rectal examination for anal 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nvestigations: X-rays initially, but </a:t>
            </a:r>
            <a:r>
              <a:rPr b="0" i="1" lang="en-US" sz="3200" spc="-1" strike="noStrike">
                <a:solidFill>
                  <a:srgbClr val="99ff99"/>
                </a:solidFill>
                <a:latin typeface="Arial"/>
              </a:rPr>
              <a:t>MRI is mandatory as X-rays are usually unremark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reatment: Emergency decompression-usually discectomy and wide laminectomy within 24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da Equina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4221000" cy="2666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3"/>
          <a:stretch/>
        </p:blipFill>
        <p:spPr>
          <a:xfrm>
            <a:off x="5334120" y="1441440"/>
            <a:ext cx="3483000" cy="49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stellar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46_VERTEBRAL_COLUMN"/>
          <p:cNvPicPr/>
          <p:nvPr/>
        </p:nvPicPr>
        <p:blipFill>
          <a:blip r:embed="rId2"/>
          <a:stretch/>
        </p:blipFill>
        <p:spPr>
          <a:xfrm>
            <a:off x="838080" y="2362320"/>
            <a:ext cx="28958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ver"/>
          <p:cNvPicPr/>
          <p:nvPr/>
        </p:nvPicPr>
        <p:blipFill>
          <a:blip r:embed="rId2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vertebrae4"/>
          <p:cNvPicPr/>
          <p:nvPr/>
        </p:nvPicPr>
        <p:blipFill>
          <a:blip r:embed="rId2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ligaments1"/>
          <p:cNvPicPr/>
          <p:nvPr/>
        </p:nvPicPr>
        <p:blipFill>
          <a:blip r:embed="rId2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17:47:32Z</dcterms:created>
  <dc:creator>scorpion</dc:creator>
  <dc:description/>
  <dc:language>en-US</dc:language>
  <cp:lastModifiedBy>Administrator</cp:lastModifiedBy>
  <dcterms:modified xsi:type="dcterms:W3CDTF">2013-12-09T04:04:59Z</dcterms:modified>
  <cp:revision>49</cp:revision>
  <dc:subject/>
  <dc:title>Slide 1</dc:title>
</cp:coreProperties>
</file>