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63D-B648-46AF-AE52-EBB034F3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743-D66B-4CDB-8236-B5738219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869-0AC4-412A-92F3-935754E4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FF6-43A0-4E23-A2AE-BE996645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789-A64A-41CD-B1F0-A01FC949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B1B-6259-4BCA-AD19-DC1D2B5C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519-490F-4750-BBB2-D97FCEC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CA9-8C39-4150-9A8B-E0D3490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6AD-D286-44C0-8678-985EC947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8E0-5D6F-42E3-88A9-348CC78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654-8E9F-4DAC-9BD3-CF462E0A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2EF-512D-418F-BBDA-796C7E1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FFC-4919-43C6-B303-BFFE6566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4191120"/>
            <a:ext cx="792504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odoni MT Black"/>
              </a:rPr>
              <a:t>Waleed Awwad, MD, FR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e Physical Ex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Physical ex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Insp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Ga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Palp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ange of mo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anipulation ( Neurologic Ex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ecial tests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insp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urface anatomy and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Coronal and sagittal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houlder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oracic h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Waist 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Pelvic obliq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kin le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ga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huffling and slap foot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Broad-based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Antalgic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palp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inous process for tenderness or 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ulature for sp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Range of Mo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Cervical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oracic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Flexion and extension, Modified Schober test and chest expa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Lumber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l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ensory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Bradley Hand ITC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ight touch, Sharp dull discrimination, Vibration sense, Proprioception and two-poin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nsor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5 over delt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6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7 Middle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8 Little fi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4 N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8 Xiphi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0 Umbil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2 Symphysis pu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4 medial aspect of c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5 Web space 1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st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&amp; 2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nd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1 Lateral border of the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4-5 Perian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ermatom"/>
          <p:cNvPicPr/>
          <p:nvPr/>
        </p:nvPicPr>
        <p:blipFill>
          <a:blip r:embed="rId2"/>
          <a:stretch/>
        </p:blipFill>
        <p:spPr>
          <a:xfrm>
            <a:off x="4800600" y="2209680"/>
            <a:ext cx="41068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yot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5  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6 wrist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7 Elbow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8 fing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T1 Small finger ab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( lower thoracic nerve root –Beever sig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2 Hip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3-4 Knee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 4,5 S1 Kne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5 Ankle and big toe dorsiflex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S1 Ankle plant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Biceps reflex, Brachioradialis reflex, triceps re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Abdominal reflex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Knee, ankle, planter re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al t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Nerve Tens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Bradley Hand ITC"/>
              </a:rPr>
              <a:t>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Upper limb tens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Lower limb tens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trait-leg raising test (SL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Crossed SL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Lasegue’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Femoral nerve stretch test</a:t>
            </a: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al t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Axial compression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urling’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Nonorganic signs of Wad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imulation test (axial compression, rotation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Non anatomic tend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Distraction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Regional sensory or motor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Over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9:55:46Z</dcterms:created>
  <dc:creator>scorpion</dc:creator>
  <dc:description/>
  <dc:language>en-US</dc:language>
  <cp:lastModifiedBy>Waleed Awwad</cp:lastModifiedBy>
  <dcterms:modified xsi:type="dcterms:W3CDTF">2012-07-24T15:21:11Z</dcterms:modified>
  <cp:revision>43</cp:revision>
  <dc:subject/>
  <dc:title>Slide 1</dc:title>
</cp:coreProperties>
</file>