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0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5.jpeg" ContentType="image/jpeg"/>
  <Override PartName="/ppt/media/image3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0AAF-BE7A-45DC-A999-22EAB0B0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8A7-4B9C-4C82-ADF9-C439F715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ABF-56ED-47D2-A814-57BAC2D2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B44-BCC2-440A-B336-A9B949D4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25B-1485-4814-A7DE-96052666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0A6-EF18-41FC-8262-D1641199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815A-6E37-4F34-A2F9-99299D34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828-F289-4E8E-A862-D21D5B80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22E-090F-4A2E-AD89-C48B9B2A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4F0-7C60-4383-A5AC-ACF93A5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A2D-27C8-4168-B835-B11B2805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FCD-4E3B-43AC-B8C7-867D7407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A90A-6E19-4CDA-9F69-721D265B6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Bodoni MT Black"/>
              </a:rPr>
              <a:t>Waleed Awwad, MD, FRC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371600" y="2286000"/>
            <a:ext cx="67057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pine and Spinal Cord Traum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atlas"/>
          <p:cNvPicPr/>
          <p:nvPr/>
        </p:nvPicPr>
        <p:blipFill>
          <a:blip r:embed="rId2"/>
          <a:stretch/>
        </p:blipFill>
        <p:spPr>
          <a:xfrm>
            <a:off x="609480" y="2209680"/>
            <a:ext cx="2481480" cy="208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ver"/>
          <p:cNvPicPr/>
          <p:nvPr/>
        </p:nvPicPr>
        <p:blipFill>
          <a:blip r:embed="rId3"/>
          <a:stretch/>
        </p:blipFill>
        <p:spPr>
          <a:xfrm>
            <a:off x="3276720" y="2209680"/>
            <a:ext cx="2514600" cy="208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vertebrae4"/>
          <p:cNvPicPr/>
          <p:nvPr/>
        </p:nvPicPr>
        <p:blipFill>
          <a:blip r:embed="rId4"/>
          <a:stretch/>
        </p:blipFill>
        <p:spPr>
          <a:xfrm>
            <a:off x="5943600" y="2209680"/>
            <a:ext cx="2743200" cy="2095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ligaments1"/>
          <p:cNvPicPr/>
          <p:nvPr/>
        </p:nvPicPr>
        <p:blipFill>
          <a:blip r:embed="rId5"/>
          <a:stretch/>
        </p:blipFill>
        <p:spPr>
          <a:xfrm>
            <a:off x="609480" y="4495680"/>
            <a:ext cx="2514600" cy="197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igaments2"/>
          <p:cNvPicPr/>
          <p:nvPr/>
        </p:nvPicPr>
        <p:blipFill>
          <a:blip r:embed="rId6"/>
          <a:stretch/>
        </p:blipFill>
        <p:spPr>
          <a:xfrm>
            <a:off x="3276720" y="4495680"/>
            <a:ext cx="2514600" cy="19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spine2"/>
          <p:cNvPicPr/>
          <p:nvPr/>
        </p:nvPicPr>
        <p:blipFill>
          <a:blip r:embed="rId7"/>
          <a:stretch/>
        </p:blipFill>
        <p:spPr>
          <a:xfrm>
            <a:off x="5943600" y="4495680"/>
            <a:ext cx="27432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tras section cord anatomy"/>
          <p:cNvPicPr/>
          <p:nvPr/>
        </p:nvPicPr>
        <p:blipFill>
          <a:blip r:embed="rId2"/>
          <a:stretch/>
        </p:blipFill>
        <p:spPr>
          <a:xfrm>
            <a:off x="3581280" y="1676520"/>
            <a:ext cx="5232600" cy="49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spinal cord anatomy dome"/>
          <p:cNvPicPr/>
          <p:nvPr/>
        </p:nvPicPr>
        <p:blipFill>
          <a:blip r:embed="rId2"/>
          <a:stretch/>
        </p:blipFill>
        <p:spPr>
          <a:xfrm>
            <a:off x="838080" y="2133720"/>
            <a:ext cx="739152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Spinal C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Complete spinal cord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Incomplete spinal cord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Sacral sp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Neurogenic shock Vs Spinal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ensory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C5 over delt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C6 Thu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C7 Middle fi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C8 Little fin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T4 Nip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T8 Xiphister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T10 Umbili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T12 Symphysis pub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L4 medial aspect of c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L5 Web space 1</a:t>
            </a:r>
            <a:r>
              <a:rPr b="1" lang="en-US" sz="2000" spc="-1" strike="noStrike" baseline="30000">
                <a:solidFill>
                  <a:srgbClr val="bbe0e3"/>
                </a:solidFill>
                <a:latin typeface="Bradley Hand ITC"/>
              </a:rPr>
              <a:t>st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&amp; 2</a:t>
            </a:r>
            <a:r>
              <a:rPr b="1" lang="en-US" sz="2000" spc="-1" strike="noStrike" baseline="30000">
                <a:solidFill>
                  <a:srgbClr val="bbe0e3"/>
                </a:solidFill>
                <a:latin typeface="Bradley Hand ITC"/>
              </a:rPr>
              <a:t>nd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t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S1 Lateral border of the f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S4-5 Perianal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ermatom"/>
          <p:cNvPicPr/>
          <p:nvPr/>
        </p:nvPicPr>
        <p:blipFill>
          <a:blip r:embed="rId2"/>
          <a:stretch/>
        </p:blipFill>
        <p:spPr>
          <a:xfrm>
            <a:off x="4800600" y="2209680"/>
            <a:ext cx="4106880" cy="44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Myot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C5  Delt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C6 wrist ext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C7 Elbow ext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C8 finger flex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T1 Small finger ab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L2 Hip flex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L3-4 Knee exten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L 4,5 S1 Knee fl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L5 Ankle and big toe dorsiflex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         </a:t>
            </a:r>
            <a:r>
              <a:rPr b="1" lang="en-US" sz="1800" spc="-1" strike="noStrike">
                <a:solidFill>
                  <a:srgbClr val="ccecff"/>
                </a:solidFill>
                <a:latin typeface="Bradley Hand ITC"/>
              </a:rPr>
              <a:t>S1 Ankle planter flex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eve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rd syndr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Morph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3946680" y="49896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    </a:t>
            </a: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Neurologic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    </a:t>
            </a: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Sensor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    </a:t>
            </a: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Motor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    </a:t>
            </a: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T1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946680" y="49896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everity of neurologic def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Incompl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          </a:t>
            </a: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? Any s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                       </a:t>
            </a:r>
            <a:r>
              <a:rPr b="0" lang="en-US" sz="2000" spc="-1" strike="noStrike">
                <a:solidFill>
                  <a:srgbClr val="bbe0e3"/>
                </a:solidFill>
                <a:latin typeface="Bradley Hand ITC"/>
              </a:rPr>
              <a:t>? Sacral spa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946680" y="49896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rd Syndr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Central cord synd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Anterior cord synd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Brown-Sequard’s Synd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3946680" y="49896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Bradley Hand ITC"/>
              </a:rPr>
              <a:t>Multiple  inju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Bradley Hand ITC"/>
              </a:rPr>
              <a:t>Brain inju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Bradley Hand ITC"/>
              </a:rPr>
              <a:t>Spinal inju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Bradley Hand ITC"/>
              </a:rPr>
              <a:t>Area of inju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Bradley Hand ITC"/>
              </a:rPr>
              <a:t>5% of patent with neurological sympt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ccec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Bradley Hand ITC"/>
              </a:rPr>
              <a:t>Excluding the presence of spinal inju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Central Cord Syndrom</a:t>
            </a: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Characterized by disproportion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Mechani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Occure with or witho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Recover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Prognos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Due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946680" y="49896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hyper ext"/>
          <p:cNvPicPr/>
          <p:nvPr/>
        </p:nvPicPr>
        <p:blipFill>
          <a:blip r:embed="rId2"/>
          <a:stretch/>
        </p:blipFill>
        <p:spPr>
          <a:xfrm>
            <a:off x="5594400" y="3276720"/>
            <a:ext cx="334476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Anterior Cord Synd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Characterized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Posterior colum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Due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    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# Prognos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1600200" y="449568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anterior cord"/>
          <p:cNvPicPr/>
          <p:nvPr/>
        </p:nvPicPr>
        <p:blipFill>
          <a:blip r:embed="rId2"/>
          <a:stretch/>
        </p:blipFill>
        <p:spPr>
          <a:xfrm>
            <a:off x="5105520" y="4038480"/>
            <a:ext cx="3736800" cy="23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Brown-Sequard’s Synd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Bradley Hand ITC"/>
              </a:rPr>
              <a:t> 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# Occurance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# Due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# Characteristi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3946680" y="49896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brown sequ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1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Morp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Fractures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Fracture dislo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SCIW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Penetrating Inj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Blunt trau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3946680" y="498960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>
            <a:hlinkClick r:id="" action="ppaction://hlinkshowjump?jump=nextslide"/>
          </p:cNvPr>
          <p:cNvSpPr/>
          <p:nvPr/>
        </p:nvSpPr>
        <p:spPr>
          <a:xfrm>
            <a:off x="3505320" y="2514600"/>
            <a:ext cx="1042920" cy="304920"/>
          </a:xfrm>
          <a:custGeom>
            <a:avLst/>
            <a:gdLst>
              <a:gd name="textAreaLeft" fmla="*/ 19440 w 1042920"/>
              <a:gd name="textAreaRight" fmla="*/ 1023480 w 104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3817" h="21600">
                <a:moveTo>
                  <a:pt x="0" y="0"/>
                </a:moveTo>
                <a:lnTo>
                  <a:pt x="73817" y="0"/>
                </a:lnTo>
                <a:lnTo>
                  <a:pt x="73817" y="21600"/>
                </a:lnTo>
                <a:lnTo>
                  <a:pt x="0" y="21600"/>
                </a:lnTo>
                <a:close/>
              </a:path>
              <a:path fill="lightenLess" w="73817" h="21600">
                <a:moveTo>
                  <a:pt x="0" y="0"/>
                </a:moveTo>
                <a:lnTo>
                  <a:pt x="73817" y="0"/>
                </a:lnTo>
                <a:lnTo>
                  <a:pt x="72417" y="1400"/>
                </a:lnTo>
                <a:lnTo>
                  <a:pt x="1400" y="1400"/>
                </a:lnTo>
                <a:close/>
              </a:path>
              <a:path fill="darken" w="73817" h="21600">
                <a:moveTo>
                  <a:pt x="73817" y="0"/>
                </a:moveTo>
                <a:lnTo>
                  <a:pt x="73817" y="21600"/>
                </a:lnTo>
                <a:lnTo>
                  <a:pt x="72417" y="20200"/>
                </a:lnTo>
                <a:lnTo>
                  <a:pt x="72417" y="1400"/>
                </a:lnTo>
                <a:close/>
              </a:path>
              <a:path fill="darkenLess" w="73817" h="21600">
                <a:moveTo>
                  <a:pt x="7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17" y="20200"/>
                </a:lnTo>
                <a:close/>
              </a:path>
              <a:path fill="lighten" w="7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9">
            <a:hlinkClick r:id="rId2" action="ppaction://hlinksldjump"/>
          </p:cNvPr>
          <p:cNvSpPr/>
          <p:nvPr/>
        </p:nvSpPr>
        <p:spPr>
          <a:xfrm>
            <a:off x="3505320" y="3124080"/>
            <a:ext cx="1042920" cy="304920"/>
          </a:xfrm>
          <a:custGeom>
            <a:avLst/>
            <a:gdLst>
              <a:gd name="textAreaLeft" fmla="*/ 19440 w 1042920"/>
              <a:gd name="textAreaRight" fmla="*/ 1023480 w 104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3817" h="21600">
                <a:moveTo>
                  <a:pt x="0" y="0"/>
                </a:moveTo>
                <a:lnTo>
                  <a:pt x="73817" y="0"/>
                </a:lnTo>
                <a:lnTo>
                  <a:pt x="73817" y="21600"/>
                </a:lnTo>
                <a:lnTo>
                  <a:pt x="0" y="21600"/>
                </a:lnTo>
                <a:close/>
              </a:path>
              <a:path fill="lightenLess" w="73817" h="21600">
                <a:moveTo>
                  <a:pt x="0" y="0"/>
                </a:moveTo>
                <a:lnTo>
                  <a:pt x="73817" y="0"/>
                </a:lnTo>
                <a:lnTo>
                  <a:pt x="72417" y="1400"/>
                </a:lnTo>
                <a:lnTo>
                  <a:pt x="1400" y="1400"/>
                </a:lnTo>
                <a:close/>
              </a:path>
              <a:path fill="darken" w="73817" h="21600">
                <a:moveTo>
                  <a:pt x="73817" y="0"/>
                </a:moveTo>
                <a:lnTo>
                  <a:pt x="73817" y="21600"/>
                </a:lnTo>
                <a:lnTo>
                  <a:pt x="72417" y="20200"/>
                </a:lnTo>
                <a:lnTo>
                  <a:pt x="72417" y="1400"/>
                </a:lnTo>
                <a:close/>
              </a:path>
              <a:path fill="darkenLess" w="73817" h="21600">
                <a:moveTo>
                  <a:pt x="7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17" y="20200"/>
                </a:lnTo>
                <a:close/>
              </a:path>
              <a:path fill="lighten" w="7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3505320" y="5105520"/>
            <a:ext cx="1042920" cy="304560"/>
          </a:xfrm>
          <a:custGeom>
            <a:avLst/>
            <a:gdLst>
              <a:gd name="textAreaLeft" fmla="*/ 19440 w 1042920"/>
              <a:gd name="textAreaRight" fmla="*/ 1023480 w 1042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3904" h="21600">
                <a:moveTo>
                  <a:pt x="0" y="0"/>
                </a:moveTo>
                <a:lnTo>
                  <a:pt x="73904" y="0"/>
                </a:lnTo>
                <a:lnTo>
                  <a:pt x="73904" y="21600"/>
                </a:lnTo>
                <a:lnTo>
                  <a:pt x="0" y="21600"/>
                </a:lnTo>
                <a:close/>
              </a:path>
              <a:path fill="lightenLess" w="73904" h="21600">
                <a:moveTo>
                  <a:pt x="0" y="0"/>
                </a:moveTo>
                <a:lnTo>
                  <a:pt x="73904" y="0"/>
                </a:lnTo>
                <a:lnTo>
                  <a:pt x="72504" y="1400"/>
                </a:lnTo>
                <a:lnTo>
                  <a:pt x="1400" y="1400"/>
                </a:lnTo>
                <a:close/>
              </a:path>
              <a:path fill="darken" w="73904" h="21600">
                <a:moveTo>
                  <a:pt x="73904" y="0"/>
                </a:moveTo>
                <a:lnTo>
                  <a:pt x="73904" y="21600"/>
                </a:lnTo>
                <a:lnTo>
                  <a:pt x="72504" y="20200"/>
                </a:lnTo>
                <a:lnTo>
                  <a:pt x="72504" y="1400"/>
                </a:lnTo>
                <a:close/>
              </a:path>
              <a:path fill="darkenLess" w="73904" h="21600">
                <a:moveTo>
                  <a:pt x="73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04" y="20200"/>
                </a:lnTo>
                <a:close/>
              </a:path>
              <a:path fill="lighten" w="73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3505320" y="4419720"/>
            <a:ext cx="1042920" cy="304560"/>
          </a:xfrm>
          <a:custGeom>
            <a:avLst/>
            <a:gdLst>
              <a:gd name="textAreaLeft" fmla="*/ 19440 w 1042920"/>
              <a:gd name="textAreaRight" fmla="*/ 1023480 w 1042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3904" h="21600">
                <a:moveTo>
                  <a:pt x="0" y="0"/>
                </a:moveTo>
                <a:lnTo>
                  <a:pt x="73904" y="0"/>
                </a:lnTo>
                <a:lnTo>
                  <a:pt x="73904" y="21600"/>
                </a:lnTo>
                <a:lnTo>
                  <a:pt x="0" y="21600"/>
                </a:lnTo>
                <a:close/>
              </a:path>
              <a:path fill="lightenLess" w="73904" h="21600">
                <a:moveTo>
                  <a:pt x="0" y="0"/>
                </a:moveTo>
                <a:lnTo>
                  <a:pt x="73904" y="0"/>
                </a:lnTo>
                <a:lnTo>
                  <a:pt x="72504" y="1400"/>
                </a:lnTo>
                <a:lnTo>
                  <a:pt x="1400" y="1400"/>
                </a:lnTo>
                <a:close/>
              </a:path>
              <a:path fill="darken" w="73904" h="21600">
                <a:moveTo>
                  <a:pt x="73904" y="0"/>
                </a:moveTo>
                <a:lnTo>
                  <a:pt x="73904" y="21600"/>
                </a:lnTo>
                <a:lnTo>
                  <a:pt x="72504" y="20200"/>
                </a:lnTo>
                <a:lnTo>
                  <a:pt x="72504" y="1400"/>
                </a:lnTo>
                <a:close/>
              </a:path>
              <a:path fill="darkenLess" w="73904" h="21600">
                <a:moveTo>
                  <a:pt x="73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04" y="20200"/>
                </a:lnTo>
                <a:close/>
              </a:path>
              <a:path fill="lighten" w="73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4495680" y="518148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wedge lum #"/>
          <p:cNvPicPr/>
          <p:nvPr/>
        </p:nvPicPr>
        <p:blipFill>
          <a:blip r:embed="rId2"/>
          <a:stretch/>
        </p:blipFill>
        <p:spPr>
          <a:xfrm>
            <a:off x="2057400" y="1905120"/>
            <a:ext cx="5029200" cy="41353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3">
            <a:hlinkClick r:id="" action="ppaction://hlinkshowjump?jump=previousslide"/>
          </p:cNvPr>
          <p:cNvSpPr/>
          <p:nvPr/>
        </p:nvSpPr>
        <p:spPr>
          <a:xfrm>
            <a:off x="7848720" y="609588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4495680" y="518148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spine complex"/>
          <p:cNvPicPr/>
          <p:nvPr/>
        </p:nvPicPr>
        <p:blipFill>
          <a:blip r:embed="rId2"/>
          <a:stretch/>
        </p:blipFill>
        <p:spPr>
          <a:xfrm>
            <a:off x="609480" y="1295280"/>
            <a:ext cx="3689640" cy="5410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spine com CT"/>
          <p:cNvPicPr/>
          <p:nvPr/>
        </p:nvPicPr>
        <p:blipFill>
          <a:blip r:embed="rId3"/>
          <a:stretch/>
        </p:blipFill>
        <p:spPr>
          <a:xfrm>
            <a:off x="4800600" y="2590920"/>
            <a:ext cx="4081320" cy="409572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9"/>
          <p:cNvSpPr/>
          <p:nvPr/>
        </p:nvSpPr>
        <p:spPr>
          <a:xfrm>
            <a:off x="784872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xit" presetID="8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4495680" y="518148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neck2 - peni"/>
          <p:cNvPicPr/>
          <p:nvPr/>
        </p:nvPicPr>
        <p:blipFill>
          <a:blip r:embed="rId2"/>
          <a:stretch/>
        </p:blipFill>
        <p:spPr>
          <a:xfrm>
            <a:off x="685800" y="36576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penitrating"/>
          <p:cNvPicPr/>
          <p:nvPr/>
        </p:nvPicPr>
        <p:blipFill>
          <a:blip r:embed="rId3"/>
          <a:stretch/>
        </p:blipFill>
        <p:spPr>
          <a:xfrm>
            <a:off x="3733920" y="1371600"/>
            <a:ext cx="5105160" cy="382896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9"/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4495680" y="518148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deadskiier"/>
          <p:cNvPicPr/>
          <p:nvPr/>
        </p:nvPicPr>
        <p:blipFill>
          <a:blip r:embed="rId2"/>
          <a:stretch/>
        </p:blipFill>
        <p:spPr>
          <a:xfrm>
            <a:off x="533520" y="1219320"/>
            <a:ext cx="650232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4495680" y="518148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roll over"/>
          <p:cNvPicPr/>
          <p:nvPr/>
        </p:nvPicPr>
        <p:blipFill>
          <a:blip r:embed="rId2"/>
          <a:stretch/>
        </p:blipFill>
        <p:spPr>
          <a:xfrm>
            <a:off x="1752480" y="16002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4495680" y="518148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crr vs lorry"/>
          <p:cNvPicPr/>
          <p:nvPr/>
        </p:nvPicPr>
        <p:blipFill>
          <a:blip r:embed="rId2"/>
          <a:stretch/>
        </p:blipFill>
        <p:spPr>
          <a:xfrm>
            <a:off x="1676520" y="182880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P46_VERTEBRAL_COLUMN"/>
          <p:cNvPicPr/>
          <p:nvPr/>
        </p:nvPicPr>
        <p:blipFill>
          <a:blip r:embed="rId2"/>
          <a:stretch/>
        </p:blipFill>
        <p:spPr>
          <a:xfrm>
            <a:off x="838080" y="2362320"/>
            <a:ext cx="28958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Classif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4495680" y="5181480"/>
            <a:ext cx="24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719760" y="70956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Of       sp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stellar"/>
              </a:rPr>
              <a:t>Cord inj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lat impact"/>
          <p:cNvPicPr/>
          <p:nvPr/>
        </p:nvPicPr>
        <p:blipFill>
          <a:blip r:embed="rId2"/>
          <a:stretch/>
        </p:blipFill>
        <p:spPr>
          <a:xfrm>
            <a:off x="4038480" y="1523880"/>
            <a:ext cx="4724640" cy="3141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frontal impact"/>
          <p:cNvPicPr/>
          <p:nvPr/>
        </p:nvPicPr>
        <p:blipFill>
          <a:blip r:embed="rId3"/>
          <a:stretch/>
        </p:blipFill>
        <p:spPr>
          <a:xfrm>
            <a:off x="457200" y="3505320"/>
            <a:ext cx="4572000" cy="303984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9">
            <a:hlinkClick r:id="" action="ppaction://hlinkshowjump?jump=nextslide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Specific typ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Atlanto-occipital dis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Atlas fra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Axis frac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Odontoid fra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Posterior element fracture of C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Fractures and dislocations ( C3-C7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Thoracic spine fra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Thoracolumber junction fra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Lumbar fra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7">
            <a:hlinkClick r:id="" action="ppaction://hlinkshowjump?jump=nextslide"/>
          </p:cNvPr>
          <p:cNvSpPr/>
          <p:nvPr/>
        </p:nvSpPr>
        <p:spPr>
          <a:xfrm>
            <a:off x="5105520" y="1676520"/>
            <a:ext cx="1042920" cy="304560"/>
          </a:xfrm>
          <a:custGeom>
            <a:avLst/>
            <a:gdLst>
              <a:gd name="textAreaLeft" fmla="*/ 19440 w 1042920"/>
              <a:gd name="textAreaRight" fmla="*/ 1023480 w 1042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3904" h="21600">
                <a:moveTo>
                  <a:pt x="0" y="0"/>
                </a:moveTo>
                <a:lnTo>
                  <a:pt x="73904" y="0"/>
                </a:lnTo>
                <a:lnTo>
                  <a:pt x="73904" y="21600"/>
                </a:lnTo>
                <a:lnTo>
                  <a:pt x="0" y="21600"/>
                </a:lnTo>
                <a:close/>
              </a:path>
              <a:path fill="lightenLess" w="73904" h="21600">
                <a:moveTo>
                  <a:pt x="0" y="0"/>
                </a:moveTo>
                <a:lnTo>
                  <a:pt x="73904" y="0"/>
                </a:lnTo>
                <a:lnTo>
                  <a:pt x="72504" y="1400"/>
                </a:lnTo>
                <a:lnTo>
                  <a:pt x="1400" y="1400"/>
                </a:lnTo>
                <a:close/>
              </a:path>
              <a:path fill="darken" w="73904" h="21600">
                <a:moveTo>
                  <a:pt x="73904" y="0"/>
                </a:moveTo>
                <a:lnTo>
                  <a:pt x="73904" y="21600"/>
                </a:lnTo>
                <a:lnTo>
                  <a:pt x="72504" y="20200"/>
                </a:lnTo>
                <a:lnTo>
                  <a:pt x="72504" y="1400"/>
                </a:lnTo>
                <a:close/>
              </a:path>
              <a:path fill="darkenLess" w="73904" h="21600">
                <a:moveTo>
                  <a:pt x="73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04" y="20200"/>
                </a:lnTo>
                <a:close/>
              </a:path>
              <a:path fill="lighten" w="73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Specific typ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</a:t>
            </a:r>
            <a:r>
              <a:rPr b="1" lang="en-US" sz="2400" spc="-1" strike="noStrike">
                <a:solidFill>
                  <a:srgbClr val="99ff99"/>
                </a:solidFill>
                <a:latin typeface="Comic Sans MS"/>
              </a:rPr>
              <a:t>Atlanto-occipital dis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Uncom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Sever flexion and Dist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Prognos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Shaken baby syndr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          </a:t>
            </a:r>
            <a:r>
              <a:rPr b="1" lang="en-US" sz="2000" spc="-1" strike="noStrike">
                <a:solidFill>
                  <a:srgbClr val="bbe0e3"/>
                </a:solidFill>
                <a:latin typeface="Bradley Hand ITC"/>
              </a:rPr>
              <a:t># Traction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aodissoc-thumb"/>
          <p:cNvPicPr/>
          <p:nvPr/>
        </p:nvPicPr>
        <p:blipFill>
          <a:blip r:embed="rId2"/>
          <a:stretch/>
        </p:blipFill>
        <p:spPr>
          <a:xfrm>
            <a:off x="5562720" y="1371600"/>
            <a:ext cx="3155760" cy="525780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6">
            <a:hlinkClick r:id="" action="ppaction://hlinkshowjump?jump=previousslide"/>
          </p:cNvPr>
          <p:cNvSpPr/>
          <p:nvPr/>
        </p:nvSpPr>
        <p:spPr>
          <a:xfrm>
            <a:off x="7848720" y="6324480"/>
            <a:ext cx="1042920" cy="381240"/>
          </a:xfrm>
          <a:custGeom>
            <a:avLst/>
            <a:gdLst>
              <a:gd name="textAreaLeft" fmla="*/ 24480 w 1042920"/>
              <a:gd name="textAreaRight" fmla="*/ 1018440 w 10429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9054" h="21600">
                <a:moveTo>
                  <a:pt x="0" y="0"/>
                </a:moveTo>
                <a:lnTo>
                  <a:pt x="59054" y="0"/>
                </a:lnTo>
                <a:lnTo>
                  <a:pt x="59054" y="21600"/>
                </a:lnTo>
                <a:lnTo>
                  <a:pt x="0" y="21600"/>
                </a:lnTo>
                <a:close/>
              </a:path>
              <a:path fill="lightenLess" w="59054" h="21600">
                <a:moveTo>
                  <a:pt x="0" y="0"/>
                </a:moveTo>
                <a:lnTo>
                  <a:pt x="59054" y="0"/>
                </a:lnTo>
                <a:lnTo>
                  <a:pt x="57654" y="1400"/>
                </a:lnTo>
                <a:lnTo>
                  <a:pt x="1400" y="1400"/>
                </a:lnTo>
                <a:close/>
              </a:path>
              <a:path fill="darken" w="59054" h="21600">
                <a:moveTo>
                  <a:pt x="59054" y="0"/>
                </a:moveTo>
                <a:lnTo>
                  <a:pt x="59054" y="21600"/>
                </a:lnTo>
                <a:lnTo>
                  <a:pt x="57654" y="20200"/>
                </a:lnTo>
                <a:lnTo>
                  <a:pt x="57654" y="1400"/>
                </a:lnTo>
                <a:close/>
              </a:path>
              <a:path fill="darkenLess" w="59054" h="21600">
                <a:moveTo>
                  <a:pt x="5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54" y="20200"/>
                </a:lnTo>
                <a:close/>
              </a:path>
              <a:path fill="lighten" w="5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stellar"/>
              </a:rPr>
              <a:t>X-Ray Eval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C-Spine X-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lateral, open mouth and Flex-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CT-S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M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CT myelograp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>
            <a:hlinkClick r:id="" action="ppaction://hlinkshowjump?jump=nextslide"/>
          </p:cNvPr>
          <p:cNvSpPr/>
          <p:nvPr/>
        </p:nvSpPr>
        <p:spPr>
          <a:xfrm>
            <a:off x="6629400" y="2209680"/>
            <a:ext cx="1042920" cy="304920"/>
          </a:xfrm>
          <a:custGeom>
            <a:avLst/>
            <a:gdLst>
              <a:gd name="textAreaLeft" fmla="*/ 19440 w 1042920"/>
              <a:gd name="textAreaRight" fmla="*/ 1023480 w 104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3817" h="21600">
                <a:moveTo>
                  <a:pt x="0" y="0"/>
                </a:moveTo>
                <a:lnTo>
                  <a:pt x="73817" y="0"/>
                </a:lnTo>
                <a:lnTo>
                  <a:pt x="73817" y="21600"/>
                </a:lnTo>
                <a:lnTo>
                  <a:pt x="0" y="21600"/>
                </a:lnTo>
                <a:close/>
              </a:path>
              <a:path fill="lightenLess" w="73817" h="21600">
                <a:moveTo>
                  <a:pt x="0" y="0"/>
                </a:moveTo>
                <a:lnTo>
                  <a:pt x="73817" y="0"/>
                </a:lnTo>
                <a:lnTo>
                  <a:pt x="72417" y="1400"/>
                </a:lnTo>
                <a:lnTo>
                  <a:pt x="1400" y="1400"/>
                </a:lnTo>
                <a:close/>
              </a:path>
              <a:path fill="darken" w="73817" h="21600">
                <a:moveTo>
                  <a:pt x="73817" y="0"/>
                </a:moveTo>
                <a:lnTo>
                  <a:pt x="73817" y="21600"/>
                </a:lnTo>
                <a:lnTo>
                  <a:pt x="72417" y="20200"/>
                </a:lnTo>
                <a:lnTo>
                  <a:pt x="72417" y="1400"/>
                </a:lnTo>
                <a:close/>
              </a:path>
              <a:path fill="darkenLess" w="73817" h="21600">
                <a:moveTo>
                  <a:pt x="7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17" y="20200"/>
                </a:lnTo>
                <a:close/>
              </a:path>
              <a:path fill="lighten" w="7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3124080" y="3200400"/>
            <a:ext cx="1043280" cy="380880"/>
          </a:xfrm>
          <a:custGeom>
            <a:avLst/>
            <a:gdLst>
              <a:gd name="textAreaLeft" fmla="*/ 24480 w 1043280"/>
              <a:gd name="textAreaRight" fmla="*/ 1018800 w 1043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30" h="21600">
                <a:moveTo>
                  <a:pt x="0" y="0"/>
                </a:moveTo>
                <a:lnTo>
                  <a:pt x="59130" y="0"/>
                </a:lnTo>
                <a:lnTo>
                  <a:pt x="59130" y="21600"/>
                </a:lnTo>
                <a:lnTo>
                  <a:pt x="0" y="21600"/>
                </a:lnTo>
                <a:close/>
              </a:path>
              <a:path fill="lightenLess" w="59130" h="21600">
                <a:moveTo>
                  <a:pt x="0" y="0"/>
                </a:moveTo>
                <a:lnTo>
                  <a:pt x="59130" y="0"/>
                </a:lnTo>
                <a:lnTo>
                  <a:pt x="57730" y="1400"/>
                </a:lnTo>
                <a:lnTo>
                  <a:pt x="1400" y="1400"/>
                </a:lnTo>
                <a:close/>
              </a:path>
              <a:path fill="darken" w="59130" h="21600">
                <a:moveTo>
                  <a:pt x="59130" y="0"/>
                </a:moveTo>
                <a:lnTo>
                  <a:pt x="59130" y="21600"/>
                </a:lnTo>
                <a:lnTo>
                  <a:pt x="57730" y="20200"/>
                </a:lnTo>
                <a:lnTo>
                  <a:pt x="57730" y="1400"/>
                </a:lnTo>
                <a:close/>
              </a:path>
              <a:path fill="darkenLess" w="59130" h="21600">
                <a:moveTo>
                  <a:pt x="59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0" y="20200"/>
                </a:lnTo>
                <a:close/>
              </a:path>
              <a:path fill="lighten" w="59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stellar"/>
              </a:rPr>
              <a:t>X-Ray Eval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cspinealign-thumb1"/>
          <p:cNvPicPr/>
          <p:nvPr/>
        </p:nvPicPr>
        <p:blipFill>
          <a:blip r:embed="rId2"/>
          <a:stretch/>
        </p:blipFill>
        <p:spPr>
          <a:xfrm>
            <a:off x="609480" y="1447920"/>
            <a:ext cx="2949840" cy="4914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cspine-bifacet-thumb #"/>
          <p:cNvPicPr/>
          <p:nvPr/>
        </p:nvPicPr>
        <p:blipFill>
          <a:blip r:embed="rId3"/>
          <a:stretch/>
        </p:blipFill>
        <p:spPr>
          <a:xfrm>
            <a:off x="4648320" y="1447920"/>
            <a:ext cx="2925720" cy="487656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9">
            <a:hlinkClick r:id="" action="ppaction://hlinkshowjump?jump=previousslide"/>
          </p:cNvPr>
          <p:cNvSpPr/>
          <p:nvPr/>
        </p:nvSpPr>
        <p:spPr>
          <a:xfrm>
            <a:off x="7848720" y="6248520"/>
            <a:ext cx="1042920" cy="35712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3038" h="21600">
                <a:moveTo>
                  <a:pt x="0" y="0"/>
                </a:moveTo>
                <a:lnTo>
                  <a:pt x="63038" y="0"/>
                </a:lnTo>
                <a:lnTo>
                  <a:pt x="63038" y="21600"/>
                </a:lnTo>
                <a:lnTo>
                  <a:pt x="0" y="21600"/>
                </a:lnTo>
                <a:close/>
              </a:path>
              <a:path fill="lightenLess" w="63038" h="21600">
                <a:moveTo>
                  <a:pt x="0" y="0"/>
                </a:moveTo>
                <a:lnTo>
                  <a:pt x="63038" y="0"/>
                </a:lnTo>
                <a:lnTo>
                  <a:pt x="61638" y="1400"/>
                </a:lnTo>
                <a:lnTo>
                  <a:pt x="1400" y="1400"/>
                </a:lnTo>
                <a:close/>
              </a:path>
              <a:path fill="darken" w="63038" h="21600">
                <a:moveTo>
                  <a:pt x="63038" y="0"/>
                </a:moveTo>
                <a:lnTo>
                  <a:pt x="63038" y="21600"/>
                </a:lnTo>
                <a:lnTo>
                  <a:pt x="61638" y="20200"/>
                </a:lnTo>
                <a:lnTo>
                  <a:pt x="61638" y="1400"/>
                </a:lnTo>
                <a:close/>
              </a:path>
              <a:path fill="darkenLess" w="63038" h="21600">
                <a:moveTo>
                  <a:pt x="6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638" y="20200"/>
                </a:lnTo>
                <a:close/>
              </a:path>
              <a:path fill="lighten" w="6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stellar"/>
              </a:rPr>
              <a:t>Rad.    Eval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pen bullet CT"/>
          <p:cNvPicPr/>
          <p:nvPr/>
        </p:nvPicPr>
        <p:blipFill>
          <a:blip r:embed="rId2"/>
          <a:stretch/>
        </p:blipFill>
        <p:spPr>
          <a:xfrm>
            <a:off x="533520" y="1600200"/>
            <a:ext cx="4952880" cy="47131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6"/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manag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Immob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collar"/>
          <p:cNvPicPr/>
          <p:nvPr/>
        </p:nvPicPr>
        <p:blipFill>
          <a:blip r:embed="rId2"/>
          <a:stretch/>
        </p:blipFill>
        <p:spPr>
          <a:xfrm>
            <a:off x="914400" y="2286000"/>
            <a:ext cx="1935000" cy="1971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miamij"/>
          <p:cNvPicPr/>
          <p:nvPr/>
        </p:nvPicPr>
        <p:blipFill>
          <a:blip r:embed="rId3"/>
          <a:stretch/>
        </p:blipFill>
        <p:spPr>
          <a:xfrm>
            <a:off x="914400" y="4419720"/>
            <a:ext cx="1903320" cy="2209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back board"/>
          <p:cNvPicPr/>
          <p:nvPr/>
        </p:nvPicPr>
        <p:blipFill>
          <a:blip r:embed="rId4"/>
          <a:stretch/>
        </p:blipFill>
        <p:spPr>
          <a:xfrm>
            <a:off x="7315200" y="2286000"/>
            <a:ext cx="13431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manag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IV Fl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Med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      </a:t>
            </a: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Vasopressors: Phynylephrine, Dopamine or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      </a:t>
            </a: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Steroi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          </a:t>
            </a: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&gt; Within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          </a:t>
            </a: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&gt; First 3h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          </a:t>
            </a:r>
            <a:r>
              <a:rPr b="1" lang="en-US" sz="2400" spc="-1" strike="noStrike">
                <a:solidFill>
                  <a:srgbClr val="ccecff"/>
                </a:solidFill>
                <a:latin typeface="Bradley Hand ITC"/>
              </a:rPr>
              <a:t>&gt; Between 3-8hr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stellar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atlas"/>
          <p:cNvPicPr/>
          <p:nvPr/>
        </p:nvPicPr>
        <p:blipFill>
          <a:blip r:embed="rId2"/>
          <a:stretch/>
        </p:blipFill>
        <p:spPr>
          <a:xfrm>
            <a:off x="609480" y="2209680"/>
            <a:ext cx="2481480" cy="20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ver"/>
          <p:cNvPicPr/>
          <p:nvPr/>
        </p:nvPicPr>
        <p:blipFill>
          <a:blip r:embed="rId2"/>
          <a:stretch/>
        </p:blipFill>
        <p:spPr>
          <a:xfrm>
            <a:off x="3276720" y="2209680"/>
            <a:ext cx="25146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vertebrae4"/>
          <p:cNvPicPr/>
          <p:nvPr/>
        </p:nvPicPr>
        <p:blipFill>
          <a:blip r:embed="rId2"/>
          <a:stretch/>
        </p:blipFill>
        <p:spPr>
          <a:xfrm>
            <a:off x="5943600" y="2209680"/>
            <a:ext cx="274320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ligaments1"/>
          <p:cNvPicPr/>
          <p:nvPr/>
        </p:nvPicPr>
        <p:blipFill>
          <a:blip r:embed="rId2"/>
          <a:stretch/>
        </p:blipFill>
        <p:spPr>
          <a:xfrm>
            <a:off x="609480" y="4495680"/>
            <a:ext cx="251460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ligaments2"/>
          <p:cNvPicPr/>
          <p:nvPr/>
        </p:nvPicPr>
        <p:blipFill>
          <a:blip r:embed="rId2"/>
          <a:stretch/>
        </p:blipFill>
        <p:spPr>
          <a:xfrm>
            <a:off x="3276720" y="4495680"/>
            <a:ext cx="25146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7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Anat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Comic Sans MS"/>
              </a:rPr>
              <a:t>Spinal Col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back veiw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1190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spine2"/>
          <p:cNvPicPr/>
          <p:nvPr/>
        </p:nvPicPr>
        <p:blipFill>
          <a:blip r:embed="rId2"/>
          <a:stretch/>
        </p:blipFill>
        <p:spPr>
          <a:xfrm>
            <a:off x="5943600" y="4495680"/>
            <a:ext cx="2743200" cy="19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19:55:46Z</dcterms:created>
  <dc:creator>scorpion</dc:creator>
  <dc:description/>
  <dc:language>en-US</dc:language>
  <cp:lastModifiedBy>Waleed Awwad</cp:lastModifiedBy>
  <dcterms:modified xsi:type="dcterms:W3CDTF">2012-07-24T16:24:54Z</dcterms:modified>
  <cp:revision>30</cp:revision>
  <dc:subject/>
  <dc:title>Slide 1</dc:title>
</cp:coreProperties>
</file>