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B4B4C-D612-462C-9E28-11F5EABDC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7FF54-2834-4360-81EA-7A389931A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0083D-0824-4C8E-B66F-C0908BF16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7B687-974F-4A9C-B52C-D6F1BB986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68954-A05F-4D37-8245-D8DBF740B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1B08C-4381-493D-8E38-E69294BA3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0BE12-7132-47C3-940F-142CBCD49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049FE-7A2E-42BC-93BE-C89999EE3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12587-BB5B-40EC-910D-3543C005E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7448E-2110-47C5-B20A-6554B32FE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2C64F-EF68-4AC6-B7B5-91D9CF72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70F96-C05A-43FD-81D4-13BD19C28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FB8A9-71AE-4C16-9790-53452EBE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DC609-B68B-4CE4-8A45-2E148B6C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93183-5F6C-4D3A-8384-297862616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9ED2C-5311-4C06-8776-4F121CDED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5E5A9-0AF9-42F1-8E2A-3440F66AD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23860-ADC9-4653-915A-D18284E29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703ED-6FA6-4B61-B76A-41AFC927F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99EE6-A3BD-4FE5-A5DB-F2E8DA287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50813-044B-4F66-9231-BB8B76165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AA0FA-4013-434F-9FA5-9713ED53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BE627-70E7-4EA2-A62C-41C04040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FC0E1-8799-47F5-9F7E-90DA6546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25647-36C8-4C3F-9DD4-A13E6910B0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CC99-C470-499E-85D3-AC27B4C8600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Sterile Products Lab</a:t>
            </a:r>
            <a:br>
              <a:rPr sz="5400"/>
            </a:b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PHT 434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068280"/>
            <a:ext cx="6400800" cy="25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Garamond"/>
              </a:rPr>
              <a:t>Sterile Area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Clean Area Separation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- Positive pressure differential between rooms of different class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- Use of a double-door, airlocks or integrated sterilizer helps ensure direct product flow, often from a lower to a higher classified are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ir Filtra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672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lass A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HEPA-filtered air should be supplied a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velocity sufficient to sweep particles away from the filling/closing area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maintain unidirectional airflow during opera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4211640" y="1413000"/>
            <a:ext cx="493236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ir Filtr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6756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lass A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mbrane filters can be used to filter a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pressed ga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to meet an appropriate high-quality standard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se filters are often used to produce a sterile compressed gas to conduct operations involving sterile materials, such as components and equipmen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br>
              <a:rPr sz="4400"/>
            </a:b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Design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6756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eptic processes are designed to minimize exposure of sterile articles to the potential contamination hazards of the manufacturing opera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oth personnel and material flow should be optimized to prevent unnecessary activities that could increase the potential for introducing contaminants to exposed product, container-closures, or the surrounding environment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br>
              <a:rPr sz="4400"/>
            </a:b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Changing room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6756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anging rooms leading into class A and B environment should be designed as airlock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re should be physical separation of the different stages of changing to minimize microbial and particulate contamination of clean room cloth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anging rooms for all classes should be flushed effectively with filtered air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br>
              <a:rPr sz="4400"/>
            </a:b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Changing room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6756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final stage of the changing room should be the same grade as the area into which it lead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use of separate changing rooms for entering and leaving clean areas is sometimes desirabl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general, hand washing facilities should be provided only in the first stage of the changing room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quipm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hould be appropriately designed to facilitate ease of sterilizatio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hould not obstruct airflow and, in critical areas, its design should not disturb unidirectional airflow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ersonnel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56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GMP train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owning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316520" indent="-43884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teriliz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316520" indent="-43884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on- shedd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316520" indent="-43884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ver skin and hair (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ace-masks, hoods, beard/moustache covers, protective goggles, and elastic gloves are examples of common elements of gown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eep the entire body out of the path of unidirectional airflow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ersonnel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8920" y="1700280"/>
            <a:ext cx="396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eep the entire body out of the path of unidirectional airflow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umber of personnel per are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4211640" y="1413000"/>
            <a:ext cx="493236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onents, containers, closu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t is important to characterize the microbial content (e.g., bioburden, endotoxin) of each component that could be contaminated and establish appropriate acceptance limits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-sterilization preparation of glass containers usually involves a series of wash and rinse cycles. These cycles serve an important role in removing foreign matter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y should be subjected to sterilization and depyrogenation process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finition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terilization: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fers to any process that effectively kills or eliminates living microorganisms. It is not absolute. It is acceptable when it achieves killing effect of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-6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.e. every 1 million sterile items have a chance for only 1 item to be non-sterile.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lean room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has a controlled level of contamination that is specified by the number of particles per cubic meter at a specified particle siz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aminar flow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n airflow moving in a single direction and in parallel layers at constant velocity from the beginning to the end of a straight line vector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ew featu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low/fill/seal technolog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low/fill/seal units are purpose built machines in which, in one continuous operation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ntainers are formed from a thermoplastic granulate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illed with the sterile formul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nd then sealed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ll by the one automatic machi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finition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HEBA filters: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igh Efficiency Particulate Air: remove at leas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99.97%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of airborne particle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0.3 µm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n diameter.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ULPA filter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Ultra Low Particulate Air: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move at leas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99.999%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of airborne particle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0.12 µm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n diameter.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irlock: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small room with interlocked doors, constructed to maintain air pressure control between adjoining rooms (generally with different air cleanliness standards).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finition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Bioburden: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total number of microorganisms associated with a specific item prior to steriliza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lony Forming Unit (CFU)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 microbiological term that describes the formation of a single macroscopic colony after the introduction of one or more microorganisms to microbiological growth media.  One colony forming unit is expressed as 1 CFU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ndotoxin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 pyrogenic product (e.g., lipopolysaccharide) present in the bacterial cell wall.  Endotoxin can lead to reactions in patients receiving injections ranging from fever to death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ethods of sterilization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erminal steriliz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product, container, and closure have low bioburden, but they are not steril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product in its final container is then subjected to a sterilization process such as heat or irradiation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septic condi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drug product, container, and closure are first subjected to sterilization methods separately, as appropriate, and then brought togethe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br>
              <a:rPr sz="4000"/>
            </a:b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Clean rooms classification system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ree classification system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- US Federal Standard 209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easuring unit: max particles/ft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ass 100, 1000, 10000, 10000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ass 100 means: not more than 100 particles of siz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≥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0.5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 present in one ft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-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SO 14644-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easuring unit: max particles/m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ass ISO 5, ISO 6, ISO 7, ISO8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ass ISO 5 means: not more than 3500 particles of siz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≥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0.5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 present in one m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-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European GMP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easuring unit: max particles/m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ass A, B, C, 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ass A means: not more than 3500 particles of siz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≥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0.5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 present in one m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br>
              <a:rPr sz="4000"/>
            </a:b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Clean rooms classification system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1m ≈ 35 ft, in the 3 classification system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 100 = ISO 5 = Class 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 1000 = ISO 6 = Class 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 10,000 = ISO 7 = Class 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 100,000 = ISO 8 = Class 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 100 = ISO 5 = Class A: contain less than 1 CFU/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CFU/ft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 </a:t>
            </a:r>
            <a:br>
              <a:rPr sz="36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Critical Area (class 100) (ISO 5) (Class A)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381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peration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- Sterile ingredients addi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2- fill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3- closu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39" descr=""/>
          <p:cNvPicPr/>
          <p:nvPr/>
        </p:nvPicPr>
        <p:blipFill>
          <a:blip r:embed="rId1"/>
          <a:stretch/>
        </p:blipFill>
        <p:spPr>
          <a:xfrm>
            <a:off x="3851280" y="1413000"/>
            <a:ext cx="5292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r>
              <a:rPr b="0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e5e5ff"/>
                </a:solidFill>
                <a:latin typeface="Garamond"/>
              </a:rPr>
              <a:t>Supporting Clean Area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unction as zones in which non-sterile components, formulated products, in-process materials, equipment, and container/closures are prepared, held, or transferred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DA recommends that the area immediately adjacent to the aseptic processing line meet, at a minimum, Class 10,000 (ISO 7) standards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n area classified at a Class 100,000 (ISO 8)  is appropriate for less critical activities (e.g., equipment cleaning).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6T21:59:31Z</dcterms:created>
  <dc:creator>usama</dc:creator>
  <dc:description/>
  <dc:language>en-US</dc:language>
  <cp:lastModifiedBy>ADEL ALHOWYAN</cp:lastModifiedBy>
  <dcterms:modified xsi:type="dcterms:W3CDTF">2013-02-02T20:23:54Z</dcterms:modified>
  <cp:revision>8</cp:revision>
  <dc:subject/>
  <dc:title>Sterile Products Lab PHC 434</dc:title>
</cp:coreProperties>
</file>