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42C4-9A6F-4101-A514-8AD45F42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1766-8C9C-47F1-9DFB-23F9C76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2E94-2EA0-4F8F-AC97-6CE07D9E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A089-9819-45E1-8318-9207E6E4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8C9-15D9-4225-85C9-D7A0C15E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1A6A-6F75-4887-A460-865C492B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58B6-2826-490B-9269-E8BE418D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6698-7B99-4FC6-9629-7B5E2D3B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B144-C1E0-4B53-BAE0-F314DAD2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AEF5-1B9B-42EF-85AF-C3792CC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287A-9B54-474F-A6BB-C684850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2F95-F6A0-4630-8338-5F3D4427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8B42-7540-45C9-A1F9-7CA2D7A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2487-F408-40E4-87CF-61FC8040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992D-130B-4545-BA0B-0A1D316A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0C85-39D6-4AEC-A8C3-89397FAA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2AC2-2AEB-41AE-8AA0-3823A8C3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E28B-F857-4E2A-B2BC-217B87A6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8740-9597-49DA-AFE9-C6303A5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0CF0-E641-49A3-8823-5DD3313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73D2-97E2-4CBB-B7FF-3C312EDE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A7F3-6F1D-4DE9-A82D-D9DC1070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DF63-089D-4CBC-803A-DEA5BCC7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2291-1FDC-4379-85E9-57A1955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A9D3-9481-4479-A491-52A47C8AB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3B0C-C477-44FE-8647-F305643F3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B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1m ≈ 35 ft, 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39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ADEL ALHOWYAN</cp:lastModifiedBy>
  <dcterms:modified xsi:type="dcterms:W3CDTF">2013-02-02T20:23:54Z</dcterms:modified>
  <cp:revision>8</cp:revision>
  <dc:subject/>
  <dc:title>Sterile Products Lab PHC 434</dc:title>
</cp:coreProperties>
</file>