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3276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81480" y="0"/>
            <a:ext cx="3276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58920" y="801720"/>
            <a:ext cx="5027760" cy="39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0153800"/>
            <a:ext cx="32767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7"/>
          </p:nvPr>
        </p:nvSpPr>
        <p:spPr>
          <a:xfrm>
            <a:off x="4281480" y="10154880"/>
            <a:ext cx="326376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970BE-EFA4-4A6E-905B-47B067DDF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58920" y="801720"/>
            <a:ext cx="503712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60360" y="801720"/>
            <a:ext cx="5031000" cy="40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58920" y="801720"/>
            <a:ext cx="503712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58920" y="801720"/>
            <a:ext cx="503712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58920" y="801720"/>
            <a:ext cx="503568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58920" y="801720"/>
            <a:ext cx="503568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58920" y="801720"/>
            <a:ext cx="503244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58920" y="801720"/>
            <a:ext cx="503244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60360" y="801720"/>
            <a:ext cx="5031000" cy="40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60360" y="801720"/>
            <a:ext cx="5031000" cy="40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F816-9A0B-43E5-B52A-F0168E98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925668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1400" y="4304520"/>
            <a:ext cx="925668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683A-F5C4-4AF6-98E4-1B410A47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4400" y="170460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1400" y="430452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4400" y="430452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31A7-9F95-4B9C-AAA7-C25CCBAB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298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1240" y="1704600"/>
            <a:ext cx="298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61080" y="1704600"/>
            <a:ext cx="298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1400" y="4304520"/>
            <a:ext cx="298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1240" y="4304520"/>
            <a:ext cx="298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61080" y="4304520"/>
            <a:ext cx="298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3F51-5926-4D7E-A9D4-3EE3C38C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64488-CCD7-48EB-9A43-009AF713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01400" y="1704600"/>
            <a:ext cx="925668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7386B-8EA3-4E46-BB3A-199EA643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925668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BAF9F-507C-4527-902C-A806276E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69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4400" y="1704600"/>
            <a:ext cx="45169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1D908-2531-4CF3-96EE-9D41DE95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F4599-360A-4BC4-8994-53CC7DDB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01400" y="434520"/>
            <a:ext cx="925668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CC313-D7DD-40C7-A8E3-44B2AF67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4400" y="1704600"/>
            <a:ext cx="45169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1400" y="430452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DADBD-4240-4ECC-8E63-A45662BC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1400" y="1704600"/>
            <a:ext cx="925668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AA0E-D001-4C99-83FE-A65200B1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69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4400" y="170460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4400" y="430452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07B4E-6C83-482B-A6E4-C4D68734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4400" y="170460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01400" y="4304520"/>
            <a:ext cx="925668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B8ACB-68BA-4C72-A80F-EC0D559D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925668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1400" y="4304520"/>
            <a:ext cx="925668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C3876-87AC-4144-9B39-873C7085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4400" y="170460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1400" y="430452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44400" y="430452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23362-ECC1-4F0B-8F39-FA27D91C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298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1240" y="1704600"/>
            <a:ext cx="298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61080" y="1704600"/>
            <a:ext cx="298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01400" y="4304520"/>
            <a:ext cx="298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1240" y="4304520"/>
            <a:ext cx="298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61080" y="4304520"/>
            <a:ext cx="298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83E96-6022-4685-AACA-A25C037C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925668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3C41-7DCE-42EC-A7BD-EFDF1ADE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69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4400" y="1704600"/>
            <a:ext cx="45169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082E-540A-415E-9E88-F2739562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C178-3C20-48A0-B6F0-80DF27D5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1400" y="434520"/>
            <a:ext cx="925668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4DA8-60A3-4237-A33F-163C4E60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4400" y="1704600"/>
            <a:ext cx="45169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1400" y="430452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6028-B9C6-42FE-8D8F-0B98AB86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69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4400" y="170460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4400" y="430452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9E19-9F49-4D06-A009-23F84562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4400" y="170460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1400" y="4304520"/>
            <a:ext cx="925668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77C6-59A3-4AC7-99E9-4F82A4BC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1EDD8-CC36-4FB7-B5B7-6E2669AA4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051680"/>
            <a:ext cx="10082160" cy="50328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051680"/>
            <a:ext cx="1007424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91600" y="7007400"/>
            <a:ext cx="1685880" cy="544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01400" y="1704600"/>
            <a:ext cx="925668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7140600" y="680400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5 -</a:t>
            </a:r>
            <a:fld id="{067AC4A1-C43D-4E1E-80F6-59E5CAF7F55B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19040" y="6804000"/>
            <a:ext cx="612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03280" y="503280"/>
            <a:ext cx="778500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idelines for Forward/ Integration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 distributors are expensive, unreliable, or incapable of meeting firm’s nee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ailability of quality distributors is lim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firm competes in an industry that is expected to grow marked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 has both capital and human resources needed to manage new business of distrib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vantages of stable production are hig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 distributors have high profit margi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6440" y="503280"/>
            <a:ext cx="969192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enchment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m has failed to meet its objectives and goals consistently over time but has distinctive competenc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m is one of the weaker competi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efficiency, low profitability, poor employee morale, and pressure from stockholders to improve performa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 organization's strategic managers have fai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quick growth to large organization where a major internal reorganization is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2360" y="503280"/>
            <a:ext cx="882036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idelines for Backward Integration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present suppliers are expensive, unreliable, or incapable of meeting nee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mber of suppliers is small and number of competitors lar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 growth in industry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m has both capital and human resources to manage new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vantages of stable prices are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 supplies have high profit margi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 to quickly acquire a needed re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03280" y="503280"/>
            <a:ext cx="9072360" cy="58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د"/>
              </a:rPr>
              <a:t>Guidelines for Horizontal Integ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-Firm can gain monopolistic characteristics without being challenged by federal gover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-Competes in growing indus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-Increased economies of scale provide major competitive advan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-Firm has both capital and human resources to manage new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-Faltering due to lack of managerial expertise or need for particular resour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44440" y="487440"/>
            <a:ext cx="882036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uidelines for Market Penetration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rrent markets not saturat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age rate of present customers can be increased significantl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shares of competitors declining while total industry sales increas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) Correlation between dollar sales and dollar marketing expenditures historically has been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) Increased economies of scale provide major competitive advantag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03280" y="252360"/>
            <a:ext cx="9072360" cy="59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uidelines for Market Development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channels of distribution that are reliable, inexpensive, and good qual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m is very successful at what it do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tapped or unsaturated marke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ital and human resources necessary to manage expanded oper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cess production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industry rapidly becoming glob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2360" y="503280"/>
            <a:ext cx="907272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uidelines for Product Development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s in maturity stage of lifecyc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etes in industry characterizes by rapid technological developme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jor competitors offer better-quality products at comparable pric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ete in high-growth indus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ong research and development capabil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3000" y="252000"/>
            <a:ext cx="9765000" cy="65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uidelines for Innova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- Firm is facing pressure to stay ahead of its competition and has to shorten the life cycle of existing produc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-Rapid change and fierce competi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-Major competitors come up with a new product with multiple functions at competitive pric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- High growth economy where customer demand for quality and desig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5- Well establish R&amp;D capabilit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6-Seek to be glob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55640" y="755640"/>
            <a:ext cx="790884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lines for Related Diversification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§ Competes in no-or slow-growth indus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§ Adding new&amp;related products increases sales of current produ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§ Current products are indecline stage of the prod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§ Strong management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55640" y="755640"/>
            <a:ext cx="823752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lines for unrelated diversification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§ Revenues from current products/services would increase significantly by adding the new unrelated produ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§ Highly competitive and/or no-growth indus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§ Present distribution channels can be used to market new products to current custom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§ New products have counter cyclical sales patterns compared to existing produ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20:10:08Z</dcterms:created>
  <dc:creator/>
  <dc:description/>
  <dc:language>en-US</dc:language>
  <cp:lastModifiedBy/>
  <cp:revision>1</cp:revision>
  <dc:subject/>
  <dc:title/>
</cp:coreProperties>
</file>