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5" y="0"/>
                </a:moveTo>
                <a:arcTo wR="5" hR="5" stAng="16200000" swAng="-5400000"/>
                <a:lnTo>
                  <a:pt x="0" y="30544"/>
                </a:lnTo>
                <a:arcTo wR="5" hR="5" stAng="10800000" swAng="-5400000"/>
                <a:lnTo>
                  <a:pt x="21595" y="305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5" y="0"/>
                </a:moveTo>
                <a:arcTo wR="5" hR="5" stAng="16200000" swAng="-5400000"/>
                <a:lnTo>
                  <a:pt x="0" y="30544"/>
                </a:lnTo>
                <a:arcTo wR="5" hR="5" stAng="10800000" swAng="-5400000"/>
                <a:lnTo>
                  <a:pt x="21595" y="305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5" y="0"/>
                </a:moveTo>
                <a:arcTo wR="5" hR="5" stAng="16200000" swAng="-5400000"/>
                <a:lnTo>
                  <a:pt x="0" y="30544"/>
                </a:lnTo>
                <a:arcTo wR="5" hR="5" stAng="10800000" swAng="-5400000"/>
                <a:lnTo>
                  <a:pt x="21595" y="305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5" y="0"/>
                </a:moveTo>
                <a:arcTo wR="5" hR="5" stAng="16200000" swAng="-5400000"/>
                <a:lnTo>
                  <a:pt x="0" y="30544"/>
                </a:lnTo>
                <a:arcTo wR="5" hR="5" stAng="10800000" swAng="-5400000"/>
                <a:lnTo>
                  <a:pt x="21595" y="305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5" y="0"/>
                </a:moveTo>
                <a:arcTo wR="5" hR="5" stAng="16200000" swAng="-5400000"/>
                <a:lnTo>
                  <a:pt x="0" y="30544"/>
                </a:lnTo>
                <a:arcTo wR="5" hR="5" stAng="10800000" swAng="-5400000"/>
                <a:lnTo>
                  <a:pt x="21595" y="305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5" y="0"/>
                </a:moveTo>
                <a:arcTo wR="5" hR="5" stAng="16200000" swAng="-5400000"/>
                <a:lnTo>
                  <a:pt x="0" y="30544"/>
                </a:lnTo>
                <a:arcTo wR="5" hR="5" stAng="10800000" swAng="-5400000"/>
                <a:lnTo>
                  <a:pt x="21595" y="305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3276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81480" y="0"/>
            <a:ext cx="3276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58920" y="801720"/>
            <a:ext cx="5027760" cy="39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0153800"/>
            <a:ext cx="32767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7"/>
          </p:nvPr>
        </p:nvSpPr>
        <p:spPr>
          <a:xfrm>
            <a:off x="4281480" y="10154880"/>
            <a:ext cx="326376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7DD52-6C50-4CB8-BD1E-2585835DD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58920" y="801720"/>
            <a:ext cx="5037120" cy="40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60360" y="801720"/>
            <a:ext cx="5031000" cy="40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58920" y="801720"/>
            <a:ext cx="5037120" cy="40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58920" y="801720"/>
            <a:ext cx="5037120" cy="40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58920" y="801720"/>
            <a:ext cx="503568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58920" y="801720"/>
            <a:ext cx="503568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58920" y="801720"/>
            <a:ext cx="503244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58920" y="801720"/>
            <a:ext cx="503244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60360" y="801720"/>
            <a:ext cx="5031000" cy="40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60360" y="801720"/>
            <a:ext cx="5031000" cy="40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B8B6-E07D-40FA-8582-916A94EC2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1400" y="434520"/>
            <a:ext cx="92566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925668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1400" y="4304520"/>
            <a:ext cx="925668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71ED-2156-4CAC-B36A-DA72D415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1400" y="434520"/>
            <a:ext cx="92566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45169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4400" y="1704600"/>
            <a:ext cx="45169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1400" y="4304520"/>
            <a:ext cx="45169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4400" y="4304520"/>
            <a:ext cx="45169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844F-4A9D-4F3D-BDE3-1B7E45F7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1400" y="434520"/>
            <a:ext cx="92566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298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1240" y="1704600"/>
            <a:ext cx="298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61080" y="1704600"/>
            <a:ext cx="298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1400" y="4304520"/>
            <a:ext cx="298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1240" y="4304520"/>
            <a:ext cx="298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61080" y="4304520"/>
            <a:ext cx="298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9F1E-2324-43C9-A29B-59EE5D3DA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BDB27-92D1-4F3F-9819-AD0DC189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1400" y="434520"/>
            <a:ext cx="92566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01400" y="1704600"/>
            <a:ext cx="925668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E33CD-1D57-44D2-92FC-1A9E5EA6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1400" y="434520"/>
            <a:ext cx="92566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925668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531EC-DA1B-469C-ABDC-102261BD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1400" y="434520"/>
            <a:ext cx="92566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45169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4400" y="1704600"/>
            <a:ext cx="45169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988E1-2F4D-4F70-AC3D-BD1C755A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1400" y="434520"/>
            <a:ext cx="92566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F130A-C637-4697-8015-DB337922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01400" y="434520"/>
            <a:ext cx="925668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CE08A-271E-42D1-89FC-27E609CE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1400" y="434520"/>
            <a:ext cx="92566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45169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4400" y="1704600"/>
            <a:ext cx="45169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1400" y="4304520"/>
            <a:ext cx="45169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2F5A6-05E0-4635-8B8B-EE89E8ED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1400" y="434520"/>
            <a:ext cx="92566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1400" y="1704600"/>
            <a:ext cx="925668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F9E0-FD7D-47EC-9D2E-8953CE19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1400" y="434520"/>
            <a:ext cx="92566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45169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4400" y="1704600"/>
            <a:ext cx="45169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44400" y="4304520"/>
            <a:ext cx="45169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764EA-FF53-479B-9766-EB4ADA9F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1400" y="434520"/>
            <a:ext cx="92566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45169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4400" y="1704600"/>
            <a:ext cx="45169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01400" y="4304520"/>
            <a:ext cx="925668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4B686-6EA0-4470-9E15-BB6107C1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434520"/>
            <a:ext cx="92566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925668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1400" y="4304520"/>
            <a:ext cx="925668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2728C-15F8-4E89-B255-8BDD60AB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1400" y="434520"/>
            <a:ext cx="92566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45169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4400" y="1704600"/>
            <a:ext cx="45169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1400" y="4304520"/>
            <a:ext cx="45169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44400" y="4304520"/>
            <a:ext cx="45169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7CF3B-3EA7-47F7-A85D-D82FA3E3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1400" y="434520"/>
            <a:ext cx="92566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298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1240" y="1704600"/>
            <a:ext cx="298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61080" y="1704600"/>
            <a:ext cx="298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01400" y="4304520"/>
            <a:ext cx="298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1240" y="4304520"/>
            <a:ext cx="298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61080" y="4304520"/>
            <a:ext cx="298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5D620-ECCC-4781-A2C7-5435F2AC5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1400" y="434520"/>
            <a:ext cx="92566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925668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4342-7BDE-47F0-89A3-922C81DD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1400" y="434520"/>
            <a:ext cx="92566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45169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4400" y="1704600"/>
            <a:ext cx="45169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67E8-AC15-457B-8CE9-26AE4C3C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1400" y="434520"/>
            <a:ext cx="92566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EA9D-21B4-4CBD-B4BF-FBA32286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1400" y="434520"/>
            <a:ext cx="925668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5240-9BBD-48AA-AF00-D8B495D5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1400" y="434520"/>
            <a:ext cx="92566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45169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4400" y="1704600"/>
            <a:ext cx="45169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1400" y="4304520"/>
            <a:ext cx="45169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E34D-602F-44FD-B985-6C5258EA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1400" y="434520"/>
            <a:ext cx="92566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45169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4400" y="1704600"/>
            <a:ext cx="45169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4400" y="4304520"/>
            <a:ext cx="45169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E8E6-116F-4337-A38B-9EB7A876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1400" y="434520"/>
            <a:ext cx="92566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45169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4400" y="1704600"/>
            <a:ext cx="45169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1400" y="4304520"/>
            <a:ext cx="925668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4B81-FEA6-494B-887F-0F1307D4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87F41-E816-430F-B18D-88892F3B2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051680"/>
            <a:ext cx="10082160" cy="50328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051680"/>
            <a:ext cx="1007424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91600" y="7007400"/>
            <a:ext cx="1685880" cy="544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1400" y="434520"/>
            <a:ext cx="92566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01400" y="1704600"/>
            <a:ext cx="925668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7140600" y="680400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5 -</a:t>
            </a:r>
            <a:fld id="{527C8725-B07E-4475-B6BB-D9B2DCA12422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19040" y="6804000"/>
            <a:ext cx="612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03280" y="503280"/>
            <a:ext cx="7785000" cy="56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uidelines for Forward/ Integration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Verdan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 distributors are expensive, unreliable, or incapable of meeting firm’s nee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Verdan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vailability of quality distributors is lim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Verdan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firm competes in an industry that is expected to grow marked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Verdan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 has both capital and human resources needed to manage new business of distrib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Verdan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vantages of stable production are hig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Verdan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 distributors have high profit margi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6440" y="503280"/>
            <a:ext cx="969192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enchment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m has failed to meet its objectives and goals consistently over time but has distinctive competenc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m is one of the weaker competi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efficiency, low profitability, poor employee morale, and pressure from stockholders to improve performa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n organization's strategic managers have fai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quick growth to large organization where a major internal reorganization is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2360" y="503280"/>
            <a:ext cx="882036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uidelines for Backward Integration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Verdan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present suppliers are expensive, unreliable, or incapable of meeting nee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Verdan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mber of suppliers is small and number of competitors lar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Verdan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 growth in industry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Verdan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m has both capital and human resources to manage new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Verdan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vantages of stable prices are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Verdan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 supplies have high profit margi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Verdan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 to quickly acquire a needed resou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03280" y="503280"/>
            <a:ext cx="9072360" cy="58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د"/>
              </a:rPr>
              <a:t>Guidelines for Horizontal Integr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-Firm can gain monopolistic characteristics without being challenged by federal gover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-Competes in growing indus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-Increased economies of scale provide major competitive advan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-Firm has both capital and human resources to manage new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-Faltering due to lack of managerial expertise or need for particular resour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44440" y="487440"/>
            <a:ext cx="882036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uidelines for Market Penetration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rrent markets not saturat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age rate of present customers can be increased significantl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 shares of competitors declining while total industry sales increas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) Correlation between dollar sales and dollar marketing expenditures historically has been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) Increased economies of scale provide major competitive advantag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03280" y="252360"/>
            <a:ext cx="9072360" cy="59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uidelines for Market Development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channels of distribution that are reliable, inexpensive, and good qual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m is very successful at what it do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tapped or unsaturated marke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ital and human resources necessary to manage expanded opera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cess production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c industry rapidly becoming glob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2360" y="503280"/>
            <a:ext cx="907272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uidelines for Product Development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Verdan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s in maturity stage of lifecyc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Verdan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etes in industry characterizes by rapid technological developme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Verdan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jor competitors offer better-quality products at comparable pric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Verdan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ete in high-growth indust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Verdan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ong research and development capabil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3000" y="252000"/>
            <a:ext cx="9765000" cy="65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uidelines for Innova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- Firm is facing pressure to stay ahead of its competition and has to shorten the life cycle of existing produc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-Rapid change and fierce competi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3-Major competitors come up with a new product with multiple functions at competitive price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4- High growth economy where customer demand for quality and desig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5- Well establish R&amp;D capabilit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6-Seek to be glob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55640" y="755640"/>
            <a:ext cx="790884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lines for Related Diversification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§ Competes in no-or slow-growth indus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§ Adding new&amp;related products increases sales of current produ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§ Current products are indecline stage of the produ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e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§ Strong management t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55640" y="755640"/>
            <a:ext cx="823752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lines for unrelated diversification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§ Revenues from current products/services would increase significantly by adding the new unrelated produ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§ Highly competitive and/or no-growth indus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§ Present distribution channels can be used to market new products to current custom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§ New products have counter cyclical sales patterns compared to existing produ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20:10:08Z</dcterms:created>
  <dc:creator/>
  <dc:description/>
  <dc:language>en-US</dc:language>
  <cp:lastModifiedBy/>
  <cp:revision>1</cp:revision>
  <dc:subject/>
  <dc:title/>
</cp:coreProperties>
</file>