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E3F-AA1F-484B-A799-9C300DE1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C66-5D20-4871-A4E8-95CFE3F9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9E5-109E-401A-AF31-EBC0AA45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B60-DD6D-4C9B-BD35-8A240940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0845-78DF-4C40-94B9-AFFB8A13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DE6C-0C2C-4B4E-8A84-D927687F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6885-3543-4B87-B5E0-657B92E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7EF3-A5AD-4D68-BBF2-B1C0C1F3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8B13-555E-4E93-AB54-678BAF1E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9C49-13A5-4B64-A870-ED2846B9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D5EE-A9D3-4115-8D19-36DDC041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783-98E0-4ED7-83E5-86E74A6F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3BC8-361A-4F63-AA43-F22EAB93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9B3E-E009-4ACD-940D-2D5F6679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B3B2-BD44-4B18-B870-8DBE3A23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3CD6-E768-406E-BF68-1228E405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6260-4E46-4A3B-945F-AA8D4CCB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516-BCDB-4C66-BA5D-4115EF12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A26-819C-4644-A882-6378B3B7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7CC-6945-4646-A756-3ACF5CEE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584-28F4-460B-8462-3493CA97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B8D-ABFE-4E80-980A-DE23FFE8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517-588C-46D9-B7FD-7AF26CC1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976-757C-436B-9E03-F535986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83A5-122D-4A58-97B7-073085F07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C172-6A2D-4F78-81E2-27B1E7353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b7e7ff"/>
                </a:solidFill>
                <a:latin typeface="Arial"/>
              </a:rPr>
              <a:t>STRESS </a:t>
            </a:r>
            <a:br>
              <a:rPr sz="7200"/>
            </a:br>
            <a:r>
              <a:rPr b="0" lang="en-GB" sz="7200" spc="-1" strike="noStrike">
                <a:solidFill>
                  <a:srgbClr val="b7e7ff"/>
                </a:solidFill>
                <a:latin typeface="Arial"/>
              </a:rPr>
              <a:t>&amp;</a:t>
            </a:r>
            <a:br>
              <a:rPr sz="7200"/>
            </a:br>
            <a:r>
              <a:rPr b="0" lang="en-GB" sz="7200" spc="-1" strike="noStrike">
                <a:solidFill>
                  <a:srgbClr val="b7e7ff"/>
                </a:solidFill>
                <a:latin typeface="Arial"/>
              </a:rPr>
              <a:t> ADAPTATION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ping Mechanis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ing, laughing, sleeping, c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activity,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ing, dr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ye contact, withdraw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relationships to those with similar values and inte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Stress and Adap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 of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tressors experie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tegories of Stre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person progresses through stages of growth and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al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occur in predictabl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s of Stress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agents, physical agents, infectious agents, nutritional imbalances, hypoxia, genetic or immune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real and perceived thr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ess Management Techniqu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ory gu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ima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sis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isis Interven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sis: is a disturbance caused by a precipitating event such as a perceived loss, a threat of loss, or a challenge, that is perceived as a threat to sel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sis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alter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om alter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th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the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ss: is a condition in which the human system responds to changes in its normal balanced st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ssor: is any thing that is perceived as challenging, threatening or dema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aptation: is the change that takes place as a result of the response to a stress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meostasis: various physiologic mechanisms within the body respond to internal changes to maintain a relative constancy in the internal environ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Sources of stressor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al e.g. illness, abnormal change, or f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ternal e.g. noise, cold environment, death, m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ysiologic Homeosta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Adaptation System (LAS) — involves only one specific body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x pain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ory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Adaptation Syndrome — biochemical model of stress (Hans Sely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rm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hau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arm Re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perceives stressor, defense mechanisms activ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ht-or-flight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mone levels rise, body prepares to re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ck and counter-shock phases (1 min - 24 h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sista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attempts to adapt to stress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l signs, hormone levels, and energy production return to norm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regains homeostasis or adaptive mechanisms f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haus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when adaptive mechanisms are exhau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either rests and mobilizes it’s defenses to return to normal or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Physiological responses to stres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reases heart r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reases respir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reased blood press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lated pupi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en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adac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motional Responses to Stre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xiety (most comm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NAN</cp:lastModifiedBy>
  <dcterms:modified xsi:type="dcterms:W3CDTF">2007-12-03T13:23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