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76E-8EAD-42A8-A233-5199F2F7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166-C427-478C-A54F-FE8B6BC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B43-2F0E-478C-BAA4-8062C40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275-D99A-4788-9EA8-D03B8D5C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A060-BA08-4B07-9060-FA138CCD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FB51-0F03-4C0B-AF30-ABBCB3EA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F26-B5EB-4FCC-93FD-EF8E7893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7A6-5C81-4A5A-A9AD-447B0BD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E7C-48E9-4CD2-959F-E482D8B4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9FCB-2E35-4C86-B1EE-AF847944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855C-B367-4639-87EE-8231469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E6F-1A53-4448-8CF6-09B0D5E7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A69-2E58-4766-AC9C-E1D451F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7C2-7802-4216-AFF7-C4B19D6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3CB6-87B2-41ED-96E3-CB5D33B5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18F-DFB7-4400-86B7-90470F69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0D6D-A0CD-4A2C-8141-C8BC09AD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851-5F0B-43E6-8C66-2B284CA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71D-022A-4645-9DF5-E95C678B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1A3-63C4-40CB-B38B-FEF7503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712-B355-4B68-8AAA-77F4FFBD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8DB-3E7D-4BDE-8D62-2C6D833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C5C-7055-40EC-BB90-6742350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B05-2ADD-405F-A39D-76A3613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D75-ABFA-458C-A005-2A57D712E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894-2D99-4CF2-8DF3-E1CE3CB65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STRESS </a:t>
            </a:r>
            <a:br>
              <a:rPr sz="7200"/>
            </a:b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&amp;</a:t>
            </a:r>
            <a:br>
              <a:rPr sz="7200"/>
            </a:b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 ADAPTATION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ping Mechanis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ing, laughing, sleeping, c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ctivity,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ing, dr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ye contact, withdra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relationships to those with similar values and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Stress and Adap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 of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tressors experi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tegories of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person progresses through stages of growth and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al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occur in predictabl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Stress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agents, physical agents, infectious agents, nutritional imbalances, hypoxia, genetic or immun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real and perceived 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ess Management Techniq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ory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ima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sis Interven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sis: is a disturbance caused by a precipitating event such as a perceived loss, a threat of loss, or a challenge, that is perceived as a threat to sel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e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ss: is a condition in which the human system responds to changes in its normal balanced st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ssor: is any thing that is perceived as challenging, threatening or dema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aptation: is the change that takes place as a result of the response to a stress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meostasis: various physiologic mechanisms within the body respond to internal changes to maintain a relative constancy in the internal enviro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Sources of stressor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l e.g. illness, abnormal change, or f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e.g. noise, cold environment, death, m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ysiologic Homeosta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Adaptation System (LAS) — involves only one specific body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x pai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ory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Adaptation Syndrome — biochemical model of stress (Hans Sely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au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arm Re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perceives stressor, defense mechanisms activ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ht-or-flight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mone levels rise, body prepares to re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ck and counter-shock phases (1 min - 24 h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attempts to adapt to stres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, hormone levels, and energy production return to nor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regains homeostasis or adaptive mechanisms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haus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when adaptive mechanisms are exhau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either rests and mobilizes it’s defenses to return to normal or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Physiological responses to stres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s heart r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s respi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d blood press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lated pupi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ad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motional Responses to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xiety (most com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NAN</cp:lastModifiedBy>
  <dcterms:modified xsi:type="dcterms:W3CDTF">2007-12-03T13:23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