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F384-EB37-446B-A36F-BF7CD52BD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AD8A-AB45-4757-B5C9-6F76ED325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2A8F-4884-48BE-B31C-4CEA52413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60CC-61F0-492D-9AF7-C70061A93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411-CE67-4744-804E-76A86CA9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4FC5-7E3C-4A60-9FCC-A3477814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18FE-716B-4844-BE56-812EAFF51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BC6-A030-4F1C-B68E-E9793C82F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F90-9F7A-4050-AB19-8FE63D77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89E4-FAAA-434B-BEE9-1FB3779D4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D7FC-DA1C-4173-A963-FE8DA1EB4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071-99E6-4FBF-BE35-3E71D9C6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1044-97EC-4A41-A20F-9338FE686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A88E-2068-436A-A784-006E51248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F32-6630-4217-8E06-F2C0FA820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D6B-D501-482B-901F-3B3423303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5E06-641C-43E2-92DB-6FEF390F0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ADCD-869B-410D-9E49-6F0CDFB8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DCA4-2FBC-4AE1-95A5-33DAA85E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D015-BD26-4D65-B9A3-77EC91CF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B272-A3ED-4A42-AFC2-5F2FF56E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D9E-4720-4F69-9D1F-9A46C88C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E09-4B4E-4ECC-9893-A34E67D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F79-EB4F-4795-B9EA-CBEC08B6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127-0376-4B32-95C3-E38B5147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39C-EDA5-4E5A-AFDA-9976716E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376-4616-4842-B5CF-22FBDF6C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821-D99F-4CB8-A53E-C370601E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40F-E67A-4E7D-A8D0-843D1F4B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268-04E1-4FE8-B079-8DA2ABC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AAC-8A13-485F-AEAD-5DD020A0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733-6B4B-40CE-9A66-02F10B8B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AE5-0039-40A9-8247-31EAEF7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D93-FAD6-4154-BD23-652D9380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Fig"/>
          <p:cNvPicPr/>
          <p:nvPr/>
        </p:nvPicPr>
        <p:blipFill>
          <a:blip r:embed="rId1"/>
          <a:stretch/>
        </p:blipFill>
        <p:spPr>
          <a:xfrm>
            <a:off x="1143000" y="1676520"/>
            <a:ext cx="69343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873600" cy="40654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04920" y="3124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le Earth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5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705720" y="32004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face R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2 - 2.5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09480" y="5486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Nearly pure Fe/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12408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le: Fe/Mg rich, Si/Al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867280" y="54864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t: Si/Al rich, Na/K/Ca 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Source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idual heat from the formation of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Gravitational Sett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=GMm/r  (gravitational potential ener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ly speak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-kg ball of iron, settling from the surface to the center of the earth produces enough energy to heat a 10-kg piece of rock (granite) to 750°C, where it would begin to me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capacity of granite = 840 J/kg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EA Fig"/>
          <p:cNvPicPr/>
          <p:nvPr/>
        </p:nvPicPr>
        <p:blipFill>
          <a:blip r:embed="rId1"/>
          <a:stretch/>
        </p:blipFill>
        <p:spPr>
          <a:xfrm>
            <a:off x="2286000" y="1295280"/>
            <a:ext cx="5046840" cy="5257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A Fig"/>
          <p:cNvPicPr/>
          <p:nvPr/>
        </p:nvPicPr>
        <p:blipFill>
          <a:blip r:embed="rId2"/>
          <a:stretch/>
        </p:blipFill>
        <p:spPr>
          <a:xfrm>
            <a:off x="6629400" y="4419720"/>
            <a:ext cx="2209680" cy="1841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85800" y="4419720"/>
            <a:ext cx="396252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ental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5 - 4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ess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ic C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7 -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More D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57280" y="1447920"/>
            <a:ext cx="4852800" cy="2395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3016080" cy="5004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85800" y="411480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thenosphere may contain a few percent molten rock, but the mantle is by and large 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ite this, given time, it will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3520" y="-838080"/>
            <a:ext cx="8007120" cy="103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elestial bodies lose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eroids &gt; Moon &gt; Mars &gt;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hree main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 is the transfer of heat without movement of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eratures in the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2400" cy="335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17524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geothe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escription of how the temperature of the earth increases with dep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9480" y="3352680"/>
            <a:ext cx="3276720" cy="179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the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 8 km dept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 °C/100 m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eat loss by con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3"/>
          <p:cNvGrpSpPr/>
          <p:nvPr/>
        </p:nvGrpSpPr>
        <p:grpSpPr>
          <a:xfrm>
            <a:off x="4831560" y="2743200"/>
            <a:ext cx="4408920" cy="4109040"/>
            <a:chOff x="4831560" y="2743200"/>
            <a:chExt cx="4408920" cy="4109040"/>
          </a:xfrm>
        </p:grpSpPr>
        <p:sp>
          <p:nvSpPr>
            <p:cNvPr id="134" name="Rectangle 7"/>
            <p:cNvSpPr/>
            <p:nvPr/>
          </p:nvSpPr>
          <p:spPr>
            <a:xfrm>
              <a:off x="4835520" y="3178080"/>
              <a:ext cx="3909960" cy="2678040"/>
            </a:xfrm>
            <a:prstGeom prst="rect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rc 11"/>
            <p:cNvSpPr/>
            <p:nvPr/>
          </p:nvSpPr>
          <p:spPr>
            <a:xfrm flipH="1" flipV="1" rot="8643600">
              <a:off x="4967640" y="4003200"/>
              <a:ext cx="4135680" cy="1806840"/>
            </a:xfrm>
            <a:custGeom>
              <a:avLst/>
              <a:gdLst>
                <a:gd name="textAreaLeft" fmla="*/ 360 w 4135680"/>
                <a:gd name="textAreaRight" fmla="*/ 4136400 w 4135680"/>
                <a:gd name="textAreaTop" fmla="*/ -360 h 1806840"/>
                <a:gd name="textAreaBottom" fmla="*/ 1806840 h 1806840"/>
              </a:gdLst>
              <a:ahLst/>
              <a:rect l="textAreaLeft" t="textAreaTop" r="textAreaRight" b="textAreaBottom"/>
              <a:pathLst>
                <a:path fill="none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</a:path>
                <a:path stroke="0" w="19060" h="21600">
                  <a:moveTo>
                    <a:pt x="0" y="-1"/>
                  </a:moveTo>
                  <a:cubicBezTo>
                    <a:pt x="7978" y="-1"/>
                    <a:pt x="15307" y="4398"/>
                    <a:pt x="19061" y="1143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5410080" y="27432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re conduction geothe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70400" cy="40384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419720" y="1905120"/>
            <a:ext cx="441936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ting at the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 dense hot water ris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ing the cooler, denser water at the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nser, cool water descend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is h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8001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re &amp; The Earth’s Magnet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4992_EA Fig"/>
          <p:cNvPicPr/>
          <p:nvPr/>
        </p:nvPicPr>
        <p:blipFill>
          <a:blip r:embed="rId1"/>
          <a:stretch/>
        </p:blipFill>
        <p:spPr>
          <a:xfrm>
            <a:off x="1295280" y="3657600"/>
            <a:ext cx="2819520" cy="25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4992_EA Fig"/>
          <p:cNvPicPr/>
          <p:nvPr/>
        </p:nvPicPr>
        <p:blipFill>
          <a:blip r:embed="rId2"/>
          <a:stretch/>
        </p:blipFill>
        <p:spPr>
          <a:xfrm>
            <a:off x="4495680" y="3276720"/>
            <a:ext cx="3886200" cy="311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696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e is almost completely Fe/Ni alloy.  The outer core is liquid, while the inner core is sol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of the outer, liquid core gives rise to the Earth’s 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158080" cy="431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7392240" y="1889280"/>
            <a:ext cx="17748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sent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 (1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.0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(v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960" y="1889280"/>
            <a:ext cx="15372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At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72160" y="62485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’s the H and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"/>
          <p:cNvGrpSpPr/>
          <p:nvPr/>
        </p:nvGrpSpPr>
        <p:grpSpPr>
          <a:xfrm>
            <a:off x="5562360" y="152280"/>
            <a:ext cx="3384720" cy="2133720"/>
            <a:chOff x="5562360" y="152280"/>
            <a:chExt cx="3384720" cy="2133720"/>
          </a:xfrm>
        </p:grpSpPr>
        <p:pic>
          <p:nvPicPr>
            <p:cNvPr id="151" name="Picture 8" descr="S_T_COME"/>
            <p:cNvPicPr/>
            <p:nvPr/>
          </p:nvPicPr>
          <p:blipFill>
            <a:blip r:embed="rId2"/>
            <a:stretch/>
          </p:blipFill>
          <p:spPr>
            <a:xfrm>
              <a:off x="6553080" y="152280"/>
              <a:ext cx="23940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Line 9"/>
            <p:cNvSpPr/>
            <p:nvPr/>
          </p:nvSpPr>
          <p:spPr>
            <a:xfrm flipH="1">
              <a:off x="5562360" y="1752480"/>
              <a:ext cx="11430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Rectangle 11"/>
          <p:cNvSpPr/>
          <p:nvPr/>
        </p:nvSpPr>
        <p:spPr>
          <a:xfrm>
            <a:off x="5334120" y="4191120"/>
            <a:ext cx="1752480" cy="12189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Fig26-27c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78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6320" y="2209680"/>
            <a:ext cx="266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y reshapes the proto-Earth into a sphere. The interior of the Earth separates into  a core and man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419720" y="388620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ing the planets from planetesimals: Planetessimals grow by continuous collisions. Gradually, an irregularly shaped proto-Earth develops. The interior heats up and becomes so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life to the development of the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EA13"/>
          <p:cNvPicPr/>
          <p:nvPr/>
        </p:nvPicPr>
        <p:blipFill>
          <a:blip r:embed="rId1"/>
          <a:stretch/>
        </p:blipFill>
        <p:spPr>
          <a:xfrm>
            <a:off x="1295280" y="1523880"/>
            <a:ext cx="321012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A 13"/>
          <p:cNvPicPr/>
          <p:nvPr/>
        </p:nvPicPr>
        <p:blipFill>
          <a:blip r:embed="rId2"/>
          <a:stretch/>
        </p:blipFill>
        <p:spPr>
          <a:xfrm>
            <a:off x="4724280" y="1523880"/>
            <a:ext cx="2743200" cy="254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4992_Fig"/>
          <p:cNvPicPr/>
          <p:nvPr/>
        </p:nvPicPr>
        <p:blipFill>
          <a:blip r:embed="rId3"/>
          <a:stretch/>
        </p:blipFill>
        <p:spPr>
          <a:xfrm>
            <a:off x="304920" y="3657600"/>
            <a:ext cx="4190760" cy="311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4572000" y="3733920"/>
            <a:ext cx="40384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7"/>
          <p:cNvGrpSpPr/>
          <p:nvPr/>
        </p:nvGrpSpPr>
        <p:grpSpPr>
          <a:xfrm>
            <a:off x="304920" y="1905120"/>
            <a:ext cx="8610480" cy="2960640"/>
            <a:chOff x="304920" y="1905120"/>
            <a:chExt cx="8610480" cy="2960640"/>
          </a:xfrm>
        </p:grpSpPr>
        <p:pic>
          <p:nvPicPr>
            <p:cNvPr id="160" name="Picture 8" descr=""/>
            <p:cNvPicPr/>
            <p:nvPr/>
          </p:nvPicPr>
          <p:blipFill>
            <a:blip r:embed="rId5"/>
            <a:stretch/>
          </p:blipFill>
          <p:spPr>
            <a:xfrm>
              <a:off x="304920" y="1905120"/>
              <a:ext cx="4184640" cy="29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9" descr=""/>
            <p:cNvPicPr/>
            <p:nvPr/>
          </p:nvPicPr>
          <p:blipFill>
            <a:blip r:embed="rId6"/>
            <a:stretch/>
          </p:blipFill>
          <p:spPr>
            <a:xfrm>
              <a:off x="4495680" y="1905120"/>
              <a:ext cx="4419720" cy="29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AR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380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ar Earth Asteroid Rendezvous 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273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Earth (near) spheric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:  the gradual addition of new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Earth first accreted, it probably wasn’t spherica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2120" y="49528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genera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4d37fb"/>
                </a:solidFill>
                <a:latin typeface="Times New Roman"/>
              </a:rPr>
              <a:t>reta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42"/>
          <p:cNvGrpSpPr/>
          <p:nvPr/>
        </p:nvGrpSpPr>
        <p:grpSpPr>
          <a:xfrm>
            <a:off x="457200" y="2666880"/>
            <a:ext cx="5165640" cy="3978360"/>
            <a:chOff x="457200" y="2666880"/>
            <a:chExt cx="5165640" cy="3978360"/>
          </a:xfrm>
        </p:grpSpPr>
        <p:sp>
          <p:nvSpPr>
            <p:cNvPr id="64" name="Line 22"/>
            <p:cNvSpPr/>
            <p:nvPr/>
          </p:nvSpPr>
          <p:spPr>
            <a:xfrm>
              <a:off x="685800" y="45720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>
              <a:off x="1676160" y="3200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>
              <a:off x="312408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 flipH="1" flipV="1">
              <a:off x="3886200" y="4621320"/>
              <a:ext cx="1446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6"/>
            <p:cNvSpPr/>
            <p:nvPr/>
          </p:nvSpPr>
          <p:spPr>
            <a:xfrm flipH="1" flipV="1">
              <a:off x="3748320" y="5244480"/>
              <a:ext cx="73188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7"/>
            <p:cNvSpPr/>
            <p:nvPr/>
          </p:nvSpPr>
          <p:spPr>
            <a:xfrm flipV="1">
              <a:off x="3033360" y="5410080"/>
              <a:ext cx="2880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8"/>
            <p:cNvSpPr/>
            <p:nvPr/>
          </p:nvSpPr>
          <p:spPr>
            <a:xfrm flipV="1">
              <a:off x="1600200" y="51811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9"/>
            <p:cNvSpPr/>
            <p:nvPr/>
          </p:nvSpPr>
          <p:spPr>
            <a:xfrm flipH="1">
              <a:off x="3657600" y="33526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>
              <a:off x="2243160" y="3894120"/>
              <a:ext cx="1544400" cy="140184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973" h="883">
                  <a:moveTo>
                    <a:pt x="473" y="18"/>
                  </a:moveTo>
                  <a:cubicBezTo>
                    <a:pt x="374" y="24"/>
                    <a:pt x="365" y="0"/>
                    <a:pt x="349" y="77"/>
                  </a:cubicBezTo>
                  <a:cubicBezTo>
                    <a:pt x="338" y="175"/>
                    <a:pt x="325" y="147"/>
                    <a:pt x="212" y="155"/>
                  </a:cubicBezTo>
                  <a:cubicBezTo>
                    <a:pt x="219" y="183"/>
                    <a:pt x="229" y="211"/>
                    <a:pt x="238" y="239"/>
                  </a:cubicBezTo>
                  <a:cubicBezTo>
                    <a:pt x="236" y="250"/>
                    <a:pt x="237" y="262"/>
                    <a:pt x="232" y="272"/>
                  </a:cubicBezTo>
                  <a:cubicBezTo>
                    <a:pt x="224" y="284"/>
                    <a:pt x="185" y="296"/>
                    <a:pt x="173" y="305"/>
                  </a:cubicBezTo>
                  <a:cubicBezTo>
                    <a:pt x="164" y="332"/>
                    <a:pt x="151" y="359"/>
                    <a:pt x="128" y="376"/>
                  </a:cubicBezTo>
                  <a:cubicBezTo>
                    <a:pt x="121" y="394"/>
                    <a:pt x="120" y="425"/>
                    <a:pt x="108" y="441"/>
                  </a:cubicBezTo>
                  <a:cubicBezTo>
                    <a:pt x="93" y="458"/>
                    <a:pt x="63" y="462"/>
                    <a:pt x="43" y="467"/>
                  </a:cubicBezTo>
                  <a:cubicBezTo>
                    <a:pt x="0" y="531"/>
                    <a:pt x="86" y="543"/>
                    <a:pt x="134" y="558"/>
                  </a:cubicBezTo>
                  <a:cubicBezTo>
                    <a:pt x="155" y="572"/>
                    <a:pt x="167" y="589"/>
                    <a:pt x="193" y="597"/>
                  </a:cubicBezTo>
                  <a:cubicBezTo>
                    <a:pt x="188" y="613"/>
                    <a:pt x="174" y="626"/>
                    <a:pt x="173" y="643"/>
                  </a:cubicBezTo>
                  <a:cubicBezTo>
                    <a:pt x="165" y="735"/>
                    <a:pt x="228" y="715"/>
                    <a:pt x="303" y="721"/>
                  </a:cubicBezTo>
                  <a:cubicBezTo>
                    <a:pt x="339" y="731"/>
                    <a:pt x="311" y="717"/>
                    <a:pt x="329" y="747"/>
                  </a:cubicBezTo>
                  <a:cubicBezTo>
                    <a:pt x="333" y="755"/>
                    <a:pt x="355" y="768"/>
                    <a:pt x="362" y="773"/>
                  </a:cubicBezTo>
                  <a:cubicBezTo>
                    <a:pt x="379" y="797"/>
                    <a:pt x="385" y="821"/>
                    <a:pt x="395" y="851"/>
                  </a:cubicBezTo>
                  <a:cubicBezTo>
                    <a:pt x="397" y="857"/>
                    <a:pt x="395" y="866"/>
                    <a:pt x="401" y="870"/>
                  </a:cubicBezTo>
                  <a:cubicBezTo>
                    <a:pt x="412" y="877"/>
                    <a:pt x="440" y="883"/>
                    <a:pt x="440" y="883"/>
                  </a:cubicBezTo>
                  <a:cubicBezTo>
                    <a:pt x="477" y="875"/>
                    <a:pt x="520" y="879"/>
                    <a:pt x="551" y="857"/>
                  </a:cubicBezTo>
                  <a:cubicBezTo>
                    <a:pt x="603" y="819"/>
                    <a:pt x="553" y="838"/>
                    <a:pt x="596" y="825"/>
                  </a:cubicBezTo>
                  <a:cubicBezTo>
                    <a:pt x="619" y="809"/>
                    <a:pt x="635" y="791"/>
                    <a:pt x="661" y="779"/>
                  </a:cubicBezTo>
                  <a:cubicBezTo>
                    <a:pt x="696" y="788"/>
                    <a:pt x="703" y="787"/>
                    <a:pt x="726" y="818"/>
                  </a:cubicBezTo>
                  <a:cubicBezTo>
                    <a:pt x="730" y="831"/>
                    <a:pt x="732" y="848"/>
                    <a:pt x="752" y="851"/>
                  </a:cubicBezTo>
                  <a:cubicBezTo>
                    <a:pt x="773" y="853"/>
                    <a:pt x="844" y="828"/>
                    <a:pt x="869" y="825"/>
                  </a:cubicBezTo>
                  <a:cubicBezTo>
                    <a:pt x="902" y="813"/>
                    <a:pt x="927" y="762"/>
                    <a:pt x="947" y="734"/>
                  </a:cubicBezTo>
                  <a:cubicBezTo>
                    <a:pt x="951" y="727"/>
                    <a:pt x="960" y="714"/>
                    <a:pt x="960" y="714"/>
                  </a:cubicBezTo>
                  <a:cubicBezTo>
                    <a:pt x="941" y="615"/>
                    <a:pt x="951" y="651"/>
                    <a:pt x="908" y="584"/>
                  </a:cubicBezTo>
                  <a:cubicBezTo>
                    <a:pt x="911" y="555"/>
                    <a:pt x="912" y="514"/>
                    <a:pt x="928" y="487"/>
                  </a:cubicBezTo>
                  <a:cubicBezTo>
                    <a:pt x="971" y="410"/>
                    <a:pt x="940" y="483"/>
                    <a:pt x="967" y="415"/>
                  </a:cubicBezTo>
                  <a:cubicBezTo>
                    <a:pt x="952" y="296"/>
                    <a:pt x="973" y="305"/>
                    <a:pt x="889" y="279"/>
                  </a:cubicBezTo>
                  <a:cubicBezTo>
                    <a:pt x="882" y="274"/>
                    <a:pt x="873" y="271"/>
                    <a:pt x="869" y="265"/>
                  </a:cubicBezTo>
                  <a:cubicBezTo>
                    <a:pt x="861" y="253"/>
                    <a:pt x="856" y="226"/>
                    <a:pt x="856" y="226"/>
                  </a:cubicBezTo>
                  <a:cubicBezTo>
                    <a:pt x="849" y="178"/>
                    <a:pt x="852" y="128"/>
                    <a:pt x="837" y="83"/>
                  </a:cubicBezTo>
                  <a:cubicBezTo>
                    <a:pt x="831" y="68"/>
                    <a:pt x="798" y="57"/>
                    <a:pt x="798" y="57"/>
                  </a:cubicBezTo>
                  <a:cubicBezTo>
                    <a:pt x="787" y="57"/>
                    <a:pt x="705" y="52"/>
                    <a:pt x="681" y="77"/>
                  </a:cubicBezTo>
                  <a:cubicBezTo>
                    <a:pt x="669" y="88"/>
                    <a:pt x="655" y="116"/>
                    <a:pt x="655" y="116"/>
                  </a:cubicBezTo>
                  <a:cubicBezTo>
                    <a:pt x="630" y="109"/>
                    <a:pt x="607" y="102"/>
                    <a:pt x="583" y="96"/>
                  </a:cubicBezTo>
                  <a:cubicBezTo>
                    <a:pt x="570" y="87"/>
                    <a:pt x="548" y="84"/>
                    <a:pt x="544" y="70"/>
                  </a:cubicBezTo>
                  <a:cubicBezTo>
                    <a:pt x="537" y="49"/>
                    <a:pt x="539" y="45"/>
                    <a:pt x="518" y="31"/>
                  </a:cubicBezTo>
                  <a:cubicBezTo>
                    <a:pt x="505" y="22"/>
                    <a:pt x="473" y="18"/>
                    <a:pt x="473" y="18"/>
                  </a:cubicBezTo>
                  <a:close/>
                </a:path>
              </a:pathLst>
            </a:custGeom>
            <a:solidFill>
              <a:srgbClr val="4d37fb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0"/>
            <p:cNvSpPr/>
            <p:nvPr/>
          </p:nvSpPr>
          <p:spPr>
            <a:xfrm>
              <a:off x="2666880" y="441972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Proto-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>
              <a:off x="1311120" y="292428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>
              <a:off x="457200" y="4419720"/>
              <a:ext cx="288720" cy="32040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>
              <a:off x="1295280" y="58672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>
              <a:off x="2819160" y="63244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>
              <a:off x="4419360" y="60958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>
              <a:off x="5333760" y="4495680"/>
              <a:ext cx="289080" cy="32076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>
              <a:off x="4495680" y="3048120"/>
              <a:ext cx="289080" cy="3204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>
              <a:off x="2971800" y="2666880"/>
              <a:ext cx="288720" cy="3207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82" h="202">
                  <a:moveTo>
                    <a:pt x="38" y="44"/>
                  </a:moveTo>
                  <a:cubicBezTo>
                    <a:pt x="0" y="102"/>
                    <a:pt x="34" y="118"/>
                    <a:pt x="84" y="129"/>
                  </a:cubicBezTo>
                  <a:cubicBezTo>
                    <a:pt x="91" y="149"/>
                    <a:pt x="80" y="179"/>
                    <a:pt x="97" y="194"/>
                  </a:cubicBezTo>
                  <a:cubicBezTo>
                    <a:pt x="106" y="202"/>
                    <a:pt x="123" y="189"/>
                    <a:pt x="136" y="187"/>
                  </a:cubicBezTo>
                  <a:cubicBezTo>
                    <a:pt x="142" y="182"/>
                    <a:pt x="150" y="179"/>
                    <a:pt x="156" y="174"/>
                  </a:cubicBezTo>
                  <a:cubicBezTo>
                    <a:pt x="166" y="162"/>
                    <a:pt x="182" y="135"/>
                    <a:pt x="182" y="135"/>
                  </a:cubicBezTo>
                  <a:cubicBezTo>
                    <a:pt x="179" y="117"/>
                    <a:pt x="182" y="98"/>
                    <a:pt x="175" y="83"/>
                  </a:cubicBezTo>
                  <a:cubicBezTo>
                    <a:pt x="172" y="76"/>
                    <a:pt x="161" y="79"/>
                    <a:pt x="156" y="77"/>
                  </a:cubicBezTo>
                  <a:cubicBezTo>
                    <a:pt x="135" y="66"/>
                    <a:pt x="119" y="57"/>
                    <a:pt x="97" y="51"/>
                  </a:cubicBezTo>
                  <a:cubicBezTo>
                    <a:pt x="70" y="10"/>
                    <a:pt x="99" y="0"/>
                    <a:pt x="45" y="12"/>
                  </a:cubicBezTo>
                  <a:cubicBezTo>
                    <a:pt x="42" y="22"/>
                    <a:pt x="38" y="44"/>
                    <a:pt x="38" y="44"/>
                  </a:cubicBezTo>
                  <a:close/>
                </a:path>
              </a:pathLst>
            </a:cu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43"/>
          <p:cNvSpPr/>
          <p:nvPr/>
        </p:nvSpPr>
        <p:spPr>
          <a:xfrm>
            <a:off x="5867280" y="1905120"/>
            <a:ext cx="28958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Gravity attracts planetesimal to the proto-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Planetesimals accelerate on their journey, gaining kinetic energy (KE=1/2m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They strike the proto-earth at high spe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Their kinetic energy is converted to thermal energy (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retionary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Fig26-27d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tural disintegration of certain isotopes to form new nuc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for nuclei to decay given by a “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alf-li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914400" y="3932280"/>
            <a:ext cx="3657600" cy="2477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5720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37fb"/>
                </a:solidFill>
                <a:latin typeface="Times New Roman"/>
              </a:rPr>
              <a:t>Radioactive decay is an important source of the Earth’s internal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Internal H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active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7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e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6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lived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 + Energy + …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40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70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3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47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fferentiated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21160" cy="4149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80880" y="1828800"/>
            <a:ext cx="45720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he earth differentiated into layers by dens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th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sthenosphe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Man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r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2743200" y="2133720"/>
            <a:ext cx="1523880" cy="2349360"/>
            <a:chOff x="2743200" y="2133720"/>
            <a:chExt cx="1523880" cy="2349360"/>
          </a:xfrm>
        </p:grpSpPr>
        <p:sp>
          <p:nvSpPr>
            <p:cNvPr id="96" name="Text Box 7"/>
            <p:cNvSpPr/>
            <p:nvPr/>
          </p:nvSpPr>
          <p:spPr>
            <a:xfrm>
              <a:off x="274320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ea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2743200" y="4114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Most D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9"/>
            <p:cNvSpPr/>
            <p:nvPr/>
          </p:nvSpPr>
          <p:spPr>
            <a:xfrm>
              <a:off x="3505320" y="2438280"/>
              <a:ext cx="0" cy="16765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457200" y="2133720"/>
            <a:ext cx="4419720" cy="4411080"/>
            <a:chOff x="457200" y="2133720"/>
            <a:chExt cx="4419720" cy="4411080"/>
          </a:xfrm>
        </p:grpSpPr>
        <p:sp>
          <p:nvSpPr>
            <p:cNvPr id="100" name="Text Box 10"/>
            <p:cNvSpPr/>
            <p:nvPr/>
          </p:nvSpPr>
          <p:spPr>
            <a:xfrm>
              <a:off x="457200" y="4724280"/>
              <a:ext cx="4419720" cy="18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cause different minerals have different composition and densities, physical partitioning of the earth led 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4d37fb"/>
                  </a:solidFill>
                  <a:latin typeface="Times New Roman"/>
                </a:rPr>
                <a:t>chemical differenti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22"/>
            <p:cNvGrpSpPr/>
            <p:nvPr/>
          </p:nvGrpSpPr>
          <p:grpSpPr>
            <a:xfrm>
              <a:off x="2666880" y="2133720"/>
              <a:ext cx="1981440" cy="2438280"/>
              <a:chOff x="2666880" y="2133720"/>
              <a:chExt cx="1981440" cy="2438280"/>
            </a:xfrm>
          </p:grpSpPr>
          <p:sp>
            <p:nvSpPr>
              <p:cNvPr id="102" name="Rectangle 13"/>
              <p:cNvSpPr/>
              <p:nvPr/>
            </p:nvSpPr>
            <p:spPr>
              <a:xfrm>
                <a:off x="2819520" y="2209680"/>
                <a:ext cx="1676160" cy="2362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4"/>
              <p:cNvSpPr/>
              <p:nvPr/>
            </p:nvSpPr>
            <p:spPr>
              <a:xfrm>
                <a:off x="26668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High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365760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High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3200400" y="2438280"/>
                <a:ext cx="0" cy="1752840"/>
              </a:xfrm>
              <a:prstGeom prst="line">
                <a:avLst/>
              </a:prstGeom>
              <a:ln w="19080">
                <a:solidFill>
                  <a:srgbClr val="4d37f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7"/>
              <p:cNvSpPr/>
              <p:nvPr/>
            </p:nvSpPr>
            <p:spPr>
              <a:xfrm flipV="1">
                <a:off x="4038480" y="2514240"/>
                <a:ext cx="0" cy="1676520"/>
              </a:xfrm>
              <a:prstGeom prst="line">
                <a:avLst/>
              </a:prstGeom>
              <a:ln w="19080">
                <a:solidFill>
                  <a:srgbClr val="4acb5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0"/>
              <p:cNvSpPr/>
              <p:nvPr/>
            </p:nvSpPr>
            <p:spPr>
              <a:xfrm>
                <a:off x="2666880" y="41911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37fb"/>
                    </a:solidFill>
                    <a:latin typeface="Times New Roman"/>
                  </a:rPr>
                  <a:t>Low 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1"/>
              <p:cNvSpPr/>
              <p:nvPr/>
            </p:nvSpPr>
            <p:spPr>
              <a:xfrm>
                <a:off x="3581280" y="21337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acb59"/>
                    </a:solidFill>
                    <a:latin typeface="Times New Roman"/>
                  </a:rPr>
                  <a:t>Low F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Dell</cp:lastModifiedBy>
  <dcterms:modified xsi:type="dcterms:W3CDTF">2011-10-09T21:14:14Z</dcterms:modified>
  <cp:revision>9</cp:revision>
  <dc:subject/>
  <dc:title>PowerPoint Presentation</dc:title>
</cp:coreProperties>
</file>