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5DB-88C6-4BC1-ADF0-25AC1511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A015-9229-4C26-A90E-C19F289A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56E-A081-45A2-90FB-7BD878965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1E63-CF2E-4001-AECF-49974AC7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4431-CE8E-43CC-BAD1-B541F03C7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6B6-F7E0-4608-832C-5FEE76E9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C06-6126-4484-BDBD-3000892D7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9AC7-D49A-4E62-A806-9AC4B62F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476E-9953-41E8-8DD0-25FE9016E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872A-6681-4F38-A41E-E0BEF5E17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E27E-4277-4196-B8F9-A9C8DA427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7C69-F489-42C4-8B72-E106743B1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A19-C6FC-4FAD-8F38-307FAE863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F2F4-DA24-43B9-96AA-8B780CEE5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251-38E8-43AB-973A-81AC857B9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0493-91C1-44AB-A2C3-F53C670A5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802D-4090-4C3F-8D63-D4446122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BB2-EEFB-4AF4-BBA5-DD6715C3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FD2-F98A-437F-996E-466D10D0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B41-BB0B-462D-895C-F9433D0D6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8A2F-1D86-4426-8AF5-081CB5B6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FCE-A627-4311-ACE9-9ED697F1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F76-10F7-4C11-B18A-302DA35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A82-00AF-46C6-989E-C50A0C24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BE5-D031-4454-9425-CCA436CD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121-C353-4B0C-9967-1189DC0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4F7-00E4-4526-AFE2-62880E3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99C-C794-4C50-8C2D-58A7BBA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B2B-711F-485E-8574-4270320E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0A0-29DB-4F4E-8AA9-6A6339E3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BA7-8373-4799-B571-439ECF3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450-9E94-4E42-B862-A4CB330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F6A-7461-47ED-95E8-AA6BCD6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6D78-2D97-4E34-A4E4-5BD97C482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9T21:14:14Z</dcterms:modified>
  <cp:revision>9</cp:revision>
  <dc:subject/>
  <dc:title>PowerPoint Presentation</dc:title>
</cp:coreProperties>
</file>