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707-ACAE-47B6-B66E-946DDB6C6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9FDE-40A6-493C-B2F7-F71DCAB7C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9CA4-74A4-4D30-B1A7-078AEC45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E495-7130-4328-A66F-C192045B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BC1-B440-407B-9202-349745F78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456-AA10-4A54-B211-6C601DAD3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5C7-1365-42DA-BDDE-A95C0C18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E62-C37C-465B-A9F8-A798D9E7A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B72B-822A-48D6-AE9F-2C8FC268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10D-14BC-4397-84B2-6DAD9EFB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ACB-86DA-4E5E-9BD5-7ABBD70D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F9B-416A-42AD-941A-C73C47E8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250-C691-41F0-8850-4C297CE73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1AF4-E6E7-4FFB-AC36-A68B26618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EE1-8121-4891-A063-BB2DD1E4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B30-A02E-4C5F-96AC-4F0CF9314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C50-813E-4B87-8056-23BB6AA6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6598-8EF4-4A89-B8E7-28F87304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173-77BE-450F-8D10-6AFF5333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C28-38B0-4C01-9B11-FA2EB0FB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A02F-597F-401E-9D96-F25B91BAF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478-0B25-4BE9-B61E-8941F711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B60-431B-4517-8129-B4E7734B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AD4-01E0-4423-B347-39AFBA49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9CF-AF54-4DE4-93AC-60D177D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7FD-C3C5-4324-AD08-5891DE6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C59-F8A1-4003-A23F-3112A7D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BA1-0EA8-4373-A451-23F0BA81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B1D-53F0-4272-8C0C-91CC2578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1C1-D910-4D5B-91B3-BC1C9A2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6E9-BC23-49AD-9D07-0EF2324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116-4E3E-49E3-A1E0-49531C8D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B16-091A-4072-9DBC-C76B165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6A9-0BE2-4BD2-8045-C778375F7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9T21:14:14Z</dcterms:modified>
  <cp:revision>9</cp:revision>
  <dc:subject/>
  <dc:title>PowerPoint Presentation</dc:title>
</cp:coreProperties>
</file>