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303-6947-4546-B8F6-4ACB8D091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D541-3CA1-4246-A4E4-BCE17183C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372-85C8-4CF4-9DE9-4E9D77D6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61B-4675-420C-B5C6-91212116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C490-3409-4153-A7D4-A2C2B1123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4E0-825C-4DB0-B97C-610963CDC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66E4-C3B1-442A-9A6C-5C8BA813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7587-A82A-4E67-9118-5C277029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B064-410A-47D0-AAAE-23CF047C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EB44-97E1-4296-A0DF-59694FC2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68EA-C74B-46E0-9E3C-67D0F2C31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F570-9564-44E1-9711-9CD994915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67A-351F-4EAF-8C7F-B6FEFDD9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F51-02F3-4083-AECD-16533249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43B-8111-4A3C-B4D4-C4A665355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02C5-E7CF-4613-8222-FD5A8E21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47D3-B15C-40F0-A19F-0D1DAA15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83E4-9235-47F7-A04C-2F096226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F6E5-BC14-41D6-94BB-6BCC1CC9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8A0F-1CC6-47D2-9BE0-1B5D56DA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16CD-D0BD-4D0E-A327-ACCED1AFF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D47-FD5A-44D8-86DD-A8C6B073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F63-5BBA-406B-A5CA-33C4AE2C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5D2-1CD5-4BF9-98AB-055068EB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BEB-FC4F-44C3-8C3F-789AD524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291-7EA1-4A17-8D2F-206D247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988-2F67-49EC-800D-6182DFD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95F-6D91-4FCB-B053-7805B52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4DC-CE34-42D4-B521-FD2E555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CDA-22FB-46E5-B743-5BD0C39D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05D-D208-4860-8AC1-AACC860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F37-5C25-436E-96EF-AED4EA61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4C6-84BE-47A9-A091-66F5C961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598F-8B58-4280-A402-EBECFEA69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6T01:00:33Z</dcterms:modified>
  <cp:revision>9</cp:revision>
  <dc:subject/>
  <dc:title>PowerPoint Presentation</dc:title>
</cp:coreProperties>
</file>