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15F-F3D6-4D05-B085-8B8D9A43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C21-6495-462A-8664-E475FF3C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89C-45BB-40CD-BE5B-EACF7C7D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7EB-8B1C-48B5-AB80-8DB4D572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AA7-EE1F-4AD8-B2D2-992289A0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076-ABA5-4321-8C3B-78DE0750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539-8BB0-4AC3-926C-A20FA5FB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7A9-19FC-44C0-A39A-06C8D237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2C3-E449-4C98-B4B7-FF5CCB27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072-D74E-4C6F-AD49-F6AAA457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B19-3213-485B-80E9-CD8049E8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D3E-0C37-4EEC-962F-C8A48358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E966-E5C3-46B2-BDB0-C9DFAA89A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3817" t="15539" r="11606" b="8658"/>
          <a:stretch/>
        </p:blipFill>
        <p:spPr>
          <a:xfrm>
            <a:off x="71280" y="0"/>
            <a:ext cx="89647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3817" t="16538" r="11606" b="9637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13817" t="18512" r="11606" b="8963"/>
          <a:stretch/>
        </p:blipFill>
        <p:spPr>
          <a:xfrm>
            <a:off x="0" y="11592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13817" t="15539" r="11444" b="9460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13817" t="14564" r="11606" b="9637"/>
          <a:stretch/>
        </p:blipFill>
        <p:spPr>
          <a:xfrm>
            <a:off x="144360" y="0"/>
            <a:ext cx="89647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3817" t="16538" r="11606" b="9637"/>
          <a:stretch/>
        </p:blipFill>
        <p:spPr>
          <a:xfrm>
            <a:off x="0" y="23760"/>
            <a:ext cx="9144000" cy="67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3817" t="16538" r="11606" b="8658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3227" t="15539" r="10705" b="8658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3817" t="15539" r="11606" b="8658"/>
          <a:stretch/>
        </p:blipFill>
        <p:spPr>
          <a:xfrm>
            <a:off x="71280" y="0"/>
            <a:ext cx="89647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54:11Z</dcterms:created>
  <dc:creator>Dell</dc:creator>
  <dc:description/>
  <dc:language>en-US</dc:language>
  <cp:lastModifiedBy>Dell</cp:lastModifiedBy>
  <dcterms:modified xsi:type="dcterms:W3CDTF">2011-03-01T07:06:23Z</dcterms:modified>
  <cp:revision>3</cp:revision>
  <dc:subject/>
  <dc:title>الشريحة 1</dc:title>
</cp:coreProperties>
</file>