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695-04E6-4B0D-B584-48BB285B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0E1-9DC4-4F12-A38D-80FCE8C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01FB-9E51-4E6B-9399-7B57CD7B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0C3-4345-41CA-9EF6-FFEF0576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7A5-E1A9-4030-B487-184F6BFA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4CB5-5988-4FE7-B535-DFD14DA1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87E-EBA8-4BE2-845C-1208F30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C11-A0DA-4874-9DC3-740F774E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285-7264-4848-8B11-5F64DCE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D4D-08F1-4F21-B286-36C6281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495-2E07-4337-96A4-BC2FDA0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E73-8761-4BF4-A03E-9DB23256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B406-A897-45F2-87A3-DBE5BBD00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3817" t="15539" r="11606" b="8658"/>
          <a:stretch/>
        </p:blipFill>
        <p:spPr>
          <a:xfrm>
            <a:off x="71280" y="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3817" t="16538" r="11606" b="9637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3817" t="18512" r="11606" b="8963"/>
          <a:stretch/>
        </p:blipFill>
        <p:spPr>
          <a:xfrm>
            <a:off x="0" y="11592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13817" t="15539" r="11444" b="9460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3817" t="14564" r="11606" b="9637"/>
          <a:stretch/>
        </p:blipFill>
        <p:spPr>
          <a:xfrm>
            <a:off x="144360" y="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13817" t="16538" r="11606" b="9637"/>
          <a:stretch/>
        </p:blipFill>
        <p:spPr>
          <a:xfrm>
            <a:off x="0" y="23760"/>
            <a:ext cx="9144000" cy="67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3817" t="16538" r="11606" b="8658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3817" t="15539" r="11606" b="9637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3227" t="15539" r="10705" b="8658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3817" t="15539" r="11606" b="8658"/>
          <a:stretch/>
        </p:blipFill>
        <p:spPr>
          <a:xfrm>
            <a:off x="71280" y="0"/>
            <a:ext cx="8964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4:11Z</dcterms:created>
  <dc:creator>Dell</dc:creator>
  <dc:description/>
  <dc:language>en-US</dc:language>
  <cp:lastModifiedBy>Dell</cp:lastModifiedBy>
  <dcterms:modified xsi:type="dcterms:W3CDTF">2011-03-01T07:06:23Z</dcterms:modified>
  <cp:revision>3</cp:revision>
  <dc:subject/>
  <dc:title>الشريحة 1</dc:title>
</cp:coreProperties>
</file>