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6A5B-AF40-49C5-AD1C-A68933208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7D6A-2D75-4716-8277-23B65F94E52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38A-BA3D-46C7-9279-64C038D3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191-C0C2-46ED-B946-E96FC7BB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8AD-F97F-4B92-941B-3D219845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8F3-8280-4777-8DDE-1B0D5C76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B66-3712-4B8C-8F36-BA191E85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367-1D9E-4F7E-B53E-FB5B85E8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5E8-DCCE-42E6-B1C2-298039D4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806-CAA2-45D9-9F1E-4F7A3510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ED5-48BB-42E4-9C26-0E0B3676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E8D-F6A2-444D-874B-00F168D0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5C3-5150-43B8-A16B-9AE33FE0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2D4-3055-41A3-ADF2-5949F98A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EE22-0300-4DF9-A51F-0DDD3BBA60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-cyanosite.bio.purdue.edu/images/lgimages/anabae7.jpg" TargetMode="External"/><Relationship Id="rId3" Type="http://schemas.openxmlformats.org/officeDocument/2006/relationships/hyperlink" Target="http://www-cyanosite.bio.purdue.edu/images/lgimages/anabae7.jpg" TargetMode="External"/><Relationship Id="rId4" Type="http://schemas.openxmlformats.org/officeDocument/2006/relationships/hyperlink" Target="http://www-cyanosite.bio.purdue.edu/images/lgimages/anabae7.jpg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88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Baskerville Old Face"/>
              </a:rPr>
              <a:t>Nitrogen Fixation by Cyanobacteria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609480" y="2590920"/>
            <a:ext cx="777240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kerville Old Face"/>
              </a:rPr>
              <a:t>KSU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kerville Old Face"/>
              </a:rPr>
              <a:t>Faculty of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kerville Old Face"/>
              </a:rPr>
              <a:t>Botany &amp; Microbiology De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Baskerville Old Face"/>
              </a:rPr>
              <a:t>Supervi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Baskerville Old Face"/>
              </a:rPr>
              <a:t>Prof .Dr. Ibraheem  IB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dd7"/>
                </a:solidFill>
                <a:latin typeface="Baskerville Old Face"/>
              </a:rPr>
              <a:t>Cyanobacte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iversity: Most diverse photosynthetic bacte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plit into five subs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: Unicellular rods or coc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I:  Unicellular, aggregate with use of outer wall, from reproductive baeocy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II: Vegetative unbranched </a:t>
            </a:r>
            <a:r>
              <a:rPr b="0" lang="en-US" sz="2400" spc="-1" strike="noStrike">
                <a:solidFill>
                  <a:srgbClr val="002060"/>
                </a:solidFill>
                <a:latin typeface="Baskerville Old Face"/>
              </a:rPr>
              <a:t>trich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V: Filamentous unbranched trichomes with</a:t>
            </a:r>
            <a:r>
              <a:rPr b="0" lang="en-US" sz="2400" spc="-1" strike="noStrike">
                <a:solidFill>
                  <a:srgbClr val="002060"/>
                </a:solidFill>
                <a:latin typeface="Baskerville Old Face"/>
              </a:rPr>
              <a:t> heterocycst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V: Filamentous branched trichomes with heterocycst 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dd7"/>
                </a:solidFill>
                <a:latin typeface="Baskerville Old Face"/>
              </a:rPr>
              <a:t>Cyanobacte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51920" y="16002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Tricho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80920" y="11430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Heterocys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When the cell is deprived of fixed inorganic nitrogen  (ammonia)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Thick cell wall form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Photosystem I for ATP produc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Degredation of photosysten I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1328040" indent="-189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nvolved in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p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28040" indent="-189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inhibits </a:t>
            </a:r>
            <a:r>
              <a:rPr b="1" lang="en-US" sz="2400" spc="-1" strike="noStrike">
                <a:solidFill>
                  <a:srgbClr val="000000"/>
                </a:solidFill>
                <a:latin typeface="Baskerville Old Face"/>
              </a:rPr>
              <a:t>nitrogen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3" descr="Trichome.png"/>
          <p:cNvPicPr/>
          <p:nvPr/>
        </p:nvPicPr>
        <p:blipFill>
          <a:blip r:embed="rId1"/>
          <a:srcRect l="4206" t="3226" r="5371" b="6453"/>
          <a:stretch/>
        </p:blipFill>
        <p:spPr>
          <a:xfrm>
            <a:off x="228600" y="2514600"/>
            <a:ext cx="3276720" cy="21337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76" name="TextBox 8"/>
          <p:cNvSpPr/>
          <p:nvPr/>
        </p:nvSpPr>
        <p:spPr>
          <a:xfrm>
            <a:off x="6629400" y="5257800"/>
            <a:ext cx="1838160" cy="947160"/>
          </a:xfrm>
          <a:prstGeom prst="rect">
            <a:avLst/>
          </a:prstGeom>
          <a:solidFill>
            <a:srgbClr val="00b050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Nitrogen Fix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nabaena with heterocysts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457200" y="4495680"/>
            <a:ext cx="8001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ther cells have both photosystem I and photosystem II, which generates oxygen when light energy is used to split water to supply H</a:t>
            </a:r>
            <a:r>
              <a:rPr b="0" lang="en-US" sz="2800" spc="-1" strike="noStrike" baseline="-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or synthesis of organic compoun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0" y="0"/>
            <a:ext cx="5703840" cy="4275000"/>
            <a:chOff x="0" y="0"/>
            <a:chExt cx="5703840" cy="4275000"/>
          </a:xfrm>
        </p:grpSpPr>
        <p:pic>
          <p:nvPicPr>
            <p:cNvPr id="81" name="Picture 4" descr="C:\Work\COURSES\Biol101\Lecture17\anabae7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703840" cy="42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3"/>
            <p:cNvSpPr/>
            <p:nvPr/>
          </p:nvSpPr>
          <p:spPr>
            <a:xfrm>
              <a:off x="0" y="3559320"/>
              <a:ext cx="525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3300"/>
                  </a:solidFill>
                  <a:uFillTx/>
                  <a:latin typeface="Arial"/>
                  <a:hlinkClick r:id="rId2"/>
                </a:rPr>
                <a:t>Anabaena</a:t>
              </a:r>
              <a:r>
                <a:rPr b="0" lang="en-US" sz="2000" spc="-1" strike="noStrike" u="sng">
                  <a:solidFill>
                    <a:srgbClr val="ff3300"/>
                  </a:solidFill>
                  <a:uFillTx/>
                  <a:latin typeface="Arial"/>
                  <a:hlinkClick r:id="rId3"/>
                </a:rPr>
                <a:t> sp</a:t>
              </a:r>
              <a:r>
                <a:rPr b="0" lang="en-US" sz="2000" spc="-1" strike="noStrike" u="sng">
                  <a:solidFill>
                    <a:srgbClr val="ff3300"/>
                  </a:solidFill>
                  <a:uFillTx/>
                  <a:latin typeface="Arial"/>
                  <a:hlinkClick r:id="rId4"/>
                </a:rPr>
                <a:t>.</a:t>
              </a:r>
              <a:r>
                <a:rPr b="0" lang="en-US" sz="2000" spc="-1" strike="noStrike">
                  <a:solidFill>
                    <a:srgbClr val="f2f2f2"/>
                  </a:solidFill>
                  <a:latin typeface="Arial"/>
                </a:rPr>
                <a:t> with symbiont bacteria (possibly </a:t>
              </a:r>
              <a:r>
                <a:rPr b="0" i="1" lang="en-US" sz="2000" spc="-1" strike="noStrike">
                  <a:solidFill>
                    <a:srgbClr val="f2f2f2"/>
                  </a:solidFill>
                  <a:latin typeface="Arial"/>
                </a:rPr>
                <a:t>Zoogloea</a:t>
              </a:r>
              <a:r>
                <a:rPr b="0" lang="en-US" sz="2000" spc="-1" strike="noStrike">
                  <a:solidFill>
                    <a:srgbClr val="f2f2f2"/>
                  </a:solidFill>
                  <a:latin typeface="Arial"/>
                </a:rPr>
                <a:t>) around heterocys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Text Box 6"/>
          <p:cNvSpPr/>
          <p:nvPr/>
        </p:nvSpPr>
        <p:spPr>
          <a:xfrm>
            <a:off x="5699160" y="9036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27760" y="457200"/>
            <a:ext cx="321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some cyanobacteria nitogen fixation occurs in heterocycts.  These cells only have Photosystem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36400" y="457200"/>
            <a:ext cx="7921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0948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Nitrogen Fix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09480" y="1219320"/>
            <a:ext cx="81536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l nitrogen fixing bacteria use highly conserved enzyme complex called </a:t>
            </a:r>
            <a:r>
              <a:rPr b="1" lang="en-US" sz="2800" spc="-1" strike="noStrike">
                <a:solidFill>
                  <a:srgbClr val="9999ff"/>
                </a:solidFill>
                <a:latin typeface="Arial"/>
                <a:ea typeface="ＭＳ Ｐゴシック"/>
              </a:rPr>
              <a:t>Nitrogen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  <a:ea typeface="ＭＳ Ｐゴシック"/>
              </a:rPr>
              <a:t>Nitrogen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composed of of two subunits: an iron-sulfur protein and a molybdenum-iron-sulfur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erobic organisms face special challenges to nitrogen fixation because nitrogenase is inactivated when oxygen reacts with the iron component of the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3452760" cy="350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3733920" y="252360"/>
            <a:ext cx="5205240" cy="3494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80880" y="44197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Nitrogen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886200" y="39625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96e3a"/>
                </a:solidFill>
                <a:latin typeface="Baskerville Old Face"/>
              </a:rPr>
              <a:t>Nitrogenase (encoded by </a:t>
            </a:r>
            <a:r>
              <a:rPr b="1" i="1" lang="en-US" sz="4400" spc="-1" strike="noStrike">
                <a:solidFill>
                  <a:srgbClr val="496e3a"/>
                </a:solidFill>
                <a:latin typeface="Baskerville Old Face"/>
              </a:rPr>
              <a:t>nifH</a:t>
            </a:r>
            <a:r>
              <a:rPr b="1" lang="en-US" sz="4400" spc="-1" strike="noStrike">
                <a:solidFill>
                  <a:srgbClr val="496e3a"/>
                </a:solidFill>
                <a:latin typeface="Baskerville Old Face"/>
              </a:rPr>
              <a:t> gen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nitrogenase pretty"/>
          <p:cNvPicPr/>
          <p:nvPr/>
        </p:nvPicPr>
        <p:blipFill>
          <a:blip r:embed="rId1"/>
          <a:srcRect l="27503" t="0" r="28755" b="0"/>
          <a:stretch/>
        </p:blipFill>
        <p:spPr>
          <a:xfrm>
            <a:off x="990720" y="1600200"/>
            <a:ext cx="2666880" cy="45720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0"/>
          <p:cNvGrpSpPr/>
          <p:nvPr/>
        </p:nvGrpSpPr>
        <p:grpSpPr>
          <a:xfrm>
            <a:off x="2286000" y="3124080"/>
            <a:ext cx="5105520" cy="2971800"/>
            <a:chOff x="2286000" y="3124080"/>
            <a:chExt cx="5105520" cy="2971800"/>
          </a:xfrm>
        </p:grpSpPr>
        <p:grpSp>
          <p:nvGrpSpPr>
            <p:cNvPr id="95" name="Group 49"/>
            <p:cNvGrpSpPr/>
            <p:nvPr/>
          </p:nvGrpSpPr>
          <p:grpSpPr>
            <a:xfrm>
              <a:off x="2286000" y="3124080"/>
              <a:ext cx="5105520" cy="2971800"/>
              <a:chOff x="2286000" y="3124080"/>
              <a:chExt cx="5105520" cy="2971800"/>
            </a:xfrm>
          </p:grpSpPr>
          <p:pic>
            <p:nvPicPr>
              <p:cNvPr id="96" name="Picture 7" descr="FeMo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3962160"/>
                <a:ext cx="2819520" cy="21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Straight Connector 10"/>
              <p:cNvSpPr/>
              <p:nvPr/>
            </p:nvSpPr>
            <p:spPr>
              <a:xfrm>
                <a:off x="2286000" y="3124080"/>
                <a:ext cx="2286000" cy="83808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Straight Connector 13"/>
              <p:cNvSpPr/>
              <p:nvPr/>
            </p:nvSpPr>
            <p:spPr>
              <a:xfrm>
                <a:off x="2361960" y="3124080"/>
                <a:ext cx="2209680" cy="29718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Straight Connector 15"/>
              <p:cNvSpPr/>
              <p:nvPr/>
            </p:nvSpPr>
            <p:spPr>
              <a:xfrm>
                <a:off x="2361960" y="3124080"/>
                <a:ext cx="2209680" cy="1447920"/>
              </a:xfrm>
              <a:prstGeom prst="line">
                <a:avLst/>
              </a:prstGeom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Straight Connector 17"/>
            <p:cNvSpPr/>
            <p:nvPr/>
          </p:nvSpPr>
          <p:spPr>
            <a:xfrm>
              <a:off x="2286000" y="3124080"/>
              <a:ext cx="5105520" cy="838080"/>
            </a:xfrm>
            <a:prstGeom prst="line">
              <a:avLst/>
            </a:prstGeom>
            <a:ln w="1908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8"/>
          <p:cNvGrpSpPr/>
          <p:nvPr/>
        </p:nvGrpSpPr>
        <p:grpSpPr>
          <a:xfrm>
            <a:off x="2590920" y="1905120"/>
            <a:ext cx="4419360" cy="1714320"/>
            <a:chOff x="2590920" y="1905120"/>
            <a:chExt cx="4419360" cy="1714320"/>
          </a:xfrm>
        </p:grpSpPr>
        <p:pic>
          <p:nvPicPr>
            <p:cNvPr id="102" name="Picture 6" descr="FeS"/>
            <p:cNvPicPr/>
            <p:nvPr/>
          </p:nvPicPr>
          <p:blipFill>
            <a:blip r:embed="rId3"/>
            <a:stretch/>
          </p:blipFill>
          <p:spPr>
            <a:xfrm>
              <a:off x="4724280" y="1905120"/>
              <a:ext cx="2286000" cy="171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7"/>
            <p:cNvGrpSpPr/>
            <p:nvPr/>
          </p:nvGrpSpPr>
          <p:grpSpPr>
            <a:xfrm>
              <a:off x="2590920" y="1905120"/>
              <a:ext cx="2133360" cy="1676520"/>
              <a:chOff x="2590920" y="1905120"/>
              <a:chExt cx="2133360" cy="1676520"/>
            </a:xfrm>
          </p:grpSpPr>
          <p:sp>
            <p:nvSpPr>
              <p:cNvPr id="104" name="Straight Connector 6"/>
              <p:cNvSpPr/>
              <p:nvPr/>
            </p:nvSpPr>
            <p:spPr>
              <a:xfrm flipV="1">
                <a:off x="2590920" y="1905120"/>
                <a:ext cx="2133360" cy="53352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Straight Connector 8"/>
              <p:cNvSpPr/>
              <p:nvPr/>
            </p:nvSpPr>
            <p:spPr>
              <a:xfrm>
                <a:off x="2590920" y="2438640"/>
                <a:ext cx="2133360" cy="11430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Straight Connector 19"/>
              <p:cNvSpPr/>
              <p:nvPr/>
            </p:nvSpPr>
            <p:spPr>
              <a:xfrm flipV="1">
                <a:off x="2590920" y="2209320"/>
                <a:ext cx="2133360" cy="228600"/>
              </a:xfrm>
              <a:prstGeom prst="line">
                <a:avLst/>
              </a:prstGeom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Straight Connector 21"/>
              <p:cNvSpPr/>
              <p:nvPr/>
            </p:nvSpPr>
            <p:spPr>
              <a:xfrm>
                <a:off x="2590920" y="2438640"/>
                <a:ext cx="2133360" cy="609480"/>
              </a:xfrm>
              <a:prstGeom prst="line">
                <a:avLst/>
              </a:prstGeom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45"/>
          <p:cNvGrpSpPr/>
          <p:nvPr/>
        </p:nvGrpSpPr>
        <p:grpSpPr>
          <a:xfrm>
            <a:off x="68400" y="1905120"/>
            <a:ext cx="2370240" cy="459720"/>
            <a:chOff x="68400" y="1905120"/>
            <a:chExt cx="2370240" cy="459720"/>
          </a:xfrm>
        </p:grpSpPr>
        <p:sp>
          <p:nvSpPr>
            <p:cNvPr id="109" name="TextBox 23"/>
            <p:cNvSpPr/>
            <p:nvPr/>
          </p:nvSpPr>
          <p:spPr>
            <a:xfrm>
              <a:off x="68400" y="190512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Fe Protei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0" name="Straight Arrow Connector 27"/>
            <p:cNvCxnSpPr/>
            <p:nvPr/>
          </p:nvCxnSpPr>
          <p:spPr>
            <a:xfrm>
              <a:off x="1523880" y="2209680"/>
              <a:ext cx="915120" cy="153000"/>
            </a:xfrm>
            <a:prstGeom prst="straightConnector1">
              <a:avLst/>
            </a:prstGeom>
            <a:ln w="57240">
              <a:solidFill>
                <a:srgbClr val="6666ff"/>
              </a:solidFill>
              <a:miter/>
              <a:tailEnd len="med" type="arrow" w="med"/>
            </a:ln>
          </p:spPr>
        </p:cxnSp>
      </p:grpSp>
      <p:grpSp>
        <p:nvGrpSpPr>
          <p:cNvPr id="111" name="Group 46"/>
          <p:cNvGrpSpPr/>
          <p:nvPr/>
        </p:nvGrpSpPr>
        <p:grpSpPr>
          <a:xfrm>
            <a:off x="5400" y="2743200"/>
            <a:ext cx="2128320" cy="825480"/>
            <a:chOff x="5400" y="2743200"/>
            <a:chExt cx="2128320" cy="825480"/>
          </a:xfrm>
        </p:grpSpPr>
        <p:sp>
          <p:nvSpPr>
            <p:cNvPr id="112" name="TextBox 22"/>
            <p:cNvSpPr/>
            <p:nvPr/>
          </p:nvSpPr>
          <p:spPr>
            <a:xfrm>
              <a:off x="5400" y="2743200"/>
              <a:ext cx="122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FeM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Protei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3" name="Straight Arrow Connector 31"/>
            <p:cNvCxnSpPr/>
            <p:nvPr/>
          </p:nvCxnSpPr>
          <p:spPr>
            <a:xfrm>
              <a:off x="990360" y="3047400"/>
              <a:ext cx="1143720" cy="153000"/>
            </a:xfrm>
            <a:prstGeom prst="straightConnector1">
              <a:avLst/>
            </a:prstGeom>
            <a:ln w="57240">
              <a:solidFill>
                <a:srgbClr val="6666ff"/>
              </a:solidFill>
              <a:miter/>
              <a:tailEnd len="med" type="arrow" w="med"/>
            </a:ln>
          </p:spPr>
        </p:cxnSp>
      </p:grpSp>
      <p:grpSp>
        <p:nvGrpSpPr>
          <p:cNvPr id="114" name="Group 76"/>
          <p:cNvGrpSpPr/>
          <p:nvPr/>
        </p:nvGrpSpPr>
        <p:grpSpPr>
          <a:xfrm>
            <a:off x="5092200" y="1077840"/>
            <a:ext cx="2075400" cy="903240"/>
            <a:chOff x="5092200" y="1077840"/>
            <a:chExt cx="2075400" cy="903240"/>
          </a:xfrm>
        </p:grpSpPr>
        <p:sp>
          <p:nvSpPr>
            <p:cNvPr id="115" name="Curved Up Arrow 63"/>
            <p:cNvSpPr/>
            <p:nvPr/>
          </p:nvSpPr>
          <p:spPr>
            <a:xfrm>
              <a:off x="5334120" y="1371240"/>
              <a:ext cx="1142640" cy="609840"/>
            </a:xfrm>
            <a:custGeom>
              <a:avLst/>
              <a:gdLst>
                <a:gd name="textAreaLeft" fmla="*/ 228240 w 1142640"/>
                <a:gd name="textAreaRight" fmla="*/ 838080 w 114264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640" hR="21600" stAng="10800000" swAng="-5400000"/>
                  <a:lnTo>
                    <a:pt x="11520" y="21600"/>
                  </a:lnTo>
                  <a:arcTo wR="8640" hR="21600" stAng="5400000" swAng="-3429472"/>
                  <a:lnTo>
                    <a:pt x="21326" y="5400"/>
                  </a:lnTo>
                  <a:lnTo>
                    <a:pt x="18720" y="0"/>
                  </a:lnTo>
                  <a:lnTo>
                    <a:pt x="15566" y="5400"/>
                  </a:lnTo>
                  <a:lnTo>
                    <a:pt x="17006" y="5400"/>
                  </a:lnTo>
                  <a:arcTo wR="8640" hR="21600" stAng="1970528" swAng="3197391"/>
                  <a:lnTo>
                    <a:pt x="10080" y="21298"/>
                  </a:lnTo>
                  <a:arcTo wR="8640" hR="21600" stAng="5632081" swAng="5167919"/>
                  <a:close/>
                </a:path>
                <a:path fill="darkenLess" w="21600" h="21600">
                  <a:moveTo>
                    <a:pt x="0" y="0"/>
                  </a:moveTo>
                  <a:arcTo wR="8640" hR="21600" stAng="10800000" swAng="-5400000"/>
                  <a:lnTo>
                    <a:pt x="11520" y="21600"/>
                  </a:lnTo>
                  <a:arcTo wR="8640" hR="21600" stAng="5400000" swAng="232081"/>
                  <a:lnTo>
                    <a:pt x="10080" y="21298"/>
                  </a:lnTo>
                  <a:arcTo wR="8640" hR="21600" stAng="5632081" swAng="5167919"/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Box 64"/>
            <p:cNvSpPr/>
            <p:nvPr/>
          </p:nvSpPr>
          <p:spPr>
            <a:xfrm>
              <a:off x="5092200" y="107784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skerville Old Face"/>
                </a:rPr>
                <a:t>2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Box 65"/>
            <p:cNvSpPr/>
            <p:nvPr/>
          </p:nvSpPr>
          <p:spPr>
            <a:xfrm>
              <a:off x="5850000" y="1077840"/>
              <a:ext cx="131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skerville Old Face"/>
                </a:rPr>
                <a:t>2ADP + 2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skerville Old Face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77"/>
          <p:cNvGrpSpPr/>
          <p:nvPr/>
        </p:nvGrpSpPr>
        <p:grpSpPr>
          <a:xfrm>
            <a:off x="5410080" y="2134800"/>
            <a:ext cx="609840" cy="2970720"/>
            <a:chOff x="5410080" y="2134800"/>
            <a:chExt cx="609840" cy="2970720"/>
          </a:xfrm>
        </p:grpSpPr>
        <p:cxnSp>
          <p:nvCxnSpPr>
            <p:cNvPr id="119" name="Straight Arrow Connector 67"/>
            <p:cNvCxnSpPr/>
            <p:nvPr/>
          </p:nvCxnSpPr>
          <p:spPr>
            <a:xfrm flipH="1">
              <a:off x="5890320" y="2134800"/>
              <a:ext cx="1080" cy="297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pic>
          <p:nvPicPr>
            <p:cNvPr id="120" name="TextBox 69" descr=""/>
            <p:cNvPicPr/>
            <p:nvPr/>
          </p:nvPicPr>
          <p:blipFill>
            <a:blip r:embed="rId4"/>
            <a:stretch/>
          </p:blipFill>
          <p:spPr>
            <a:xfrm>
              <a:off x="5410080" y="2853000"/>
              <a:ext cx="60984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78"/>
          <p:cNvGrpSpPr/>
          <p:nvPr/>
        </p:nvGrpSpPr>
        <p:grpSpPr>
          <a:xfrm>
            <a:off x="4956840" y="5257800"/>
            <a:ext cx="2044800" cy="1348560"/>
            <a:chOff x="4956840" y="5257800"/>
            <a:chExt cx="2044800" cy="1348560"/>
          </a:xfrm>
        </p:grpSpPr>
        <p:sp>
          <p:nvSpPr>
            <p:cNvPr id="122" name="Curved Down Arrow 71"/>
            <p:cNvSpPr/>
            <p:nvPr/>
          </p:nvSpPr>
          <p:spPr>
            <a:xfrm>
              <a:off x="5028840" y="5257800"/>
              <a:ext cx="1752840" cy="914760"/>
            </a:xfrm>
            <a:custGeom>
              <a:avLst/>
              <a:gdLst>
                <a:gd name="textAreaLeft" fmla="*/ 352440 w 1752840"/>
                <a:gd name="textAreaRight" fmla="*/ 1286280 w 1752840"/>
                <a:gd name="textAreaTop" fmla="*/ 122400 h 914760"/>
                <a:gd name="textAreaBottom" fmla="*/ 792360 h 9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687" hR="21600" stAng="10800000" swAng="5400000"/>
                  <a:lnTo>
                    <a:pt x="11504" y="0"/>
                  </a:lnTo>
                  <a:arcTo wR="8687" hR="21600" stAng="-5400000" swAng="3437960"/>
                  <a:lnTo>
                    <a:pt x="21324" y="16200"/>
                  </a:lnTo>
                  <a:lnTo>
                    <a:pt x="18783" y="21600"/>
                  </a:lnTo>
                  <a:lnTo>
                    <a:pt x="15689" y="16200"/>
                  </a:lnTo>
                  <a:lnTo>
                    <a:pt x="17098" y="16200"/>
                  </a:lnTo>
                  <a:arcTo wR="8687" hR="21600" stAng="-1962040" swAng="-3211115"/>
                  <a:lnTo>
                    <a:pt x="10096" y="286"/>
                  </a:lnTo>
                  <a:arcTo wR="8687" hR="21600" stAng="-5626846" swAng="-5173154"/>
                  <a:close/>
                </a:path>
                <a:path fill="darkenLess" w="21600" h="21600">
                  <a:moveTo>
                    <a:pt x="0" y="21600"/>
                  </a:moveTo>
                  <a:arcTo wR="8687" hR="21600" stAng="10800000" swAng="5400000"/>
                  <a:lnTo>
                    <a:pt x="8687" y="0"/>
                  </a:lnTo>
                  <a:arcTo wR="8687" hR="21600" stAng="-5400000" swAng="226846"/>
                  <a:lnTo>
                    <a:pt x="10096" y="286"/>
                  </a:lnTo>
                  <a:arcTo wR="8687" hR="21600" stAng="-5626846" swAng="-5173154"/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Box 74"/>
            <p:cNvSpPr/>
            <p:nvPr/>
          </p:nvSpPr>
          <p:spPr>
            <a:xfrm>
              <a:off x="4956840" y="6091560"/>
              <a:ext cx="512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askerville Old Face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Box 75"/>
            <p:cNvSpPr/>
            <p:nvPr/>
          </p:nvSpPr>
          <p:spPr>
            <a:xfrm>
              <a:off x="6263280" y="609624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askerville Old Face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84"/>
          <p:cNvGrpSpPr/>
          <p:nvPr/>
        </p:nvGrpSpPr>
        <p:grpSpPr>
          <a:xfrm>
            <a:off x="6400080" y="2133720"/>
            <a:ext cx="2746440" cy="532440"/>
            <a:chOff x="6400080" y="2133720"/>
            <a:chExt cx="2746440" cy="532440"/>
          </a:xfrm>
        </p:grpSpPr>
        <p:cxnSp>
          <p:nvCxnSpPr>
            <p:cNvPr id="126" name="Straight Arrow Connector 80"/>
            <p:cNvCxnSpPr/>
            <p:nvPr/>
          </p:nvCxnSpPr>
          <p:spPr>
            <a:xfrm flipH="1">
              <a:off x="6400080" y="2437200"/>
              <a:ext cx="914760" cy="2293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27" name="TextBox 81"/>
            <p:cNvSpPr/>
            <p:nvPr/>
          </p:nvSpPr>
          <p:spPr>
            <a:xfrm>
              <a:off x="7158600" y="2133720"/>
              <a:ext cx="198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askerville Old Face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 Inhibi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26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neuse anabaena 6b"/>
          <p:cNvPicPr/>
          <p:nvPr/>
        </p:nvPicPr>
        <p:blipFill>
          <a:blip r:embed="rId1"/>
          <a:stretch/>
        </p:blipFill>
        <p:spPr>
          <a:xfrm>
            <a:off x="533520" y="228600"/>
            <a:ext cx="830556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495680" y="603396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eterocy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 flipV="1">
            <a:off x="5410080" y="4190760"/>
            <a:ext cx="0" cy="190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FOfficeDoc1"/>
          <p:cNvGraphicFramePr/>
          <p:nvPr/>
        </p:nvGraphicFramePr>
        <p:xfrm>
          <a:off x="0" y="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haracteristic features of Heterocyst: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1. The Heterocyst is the site for cyanobacterial nitrogen fixation which is an enlarged cell, and may be present terminally or intercalary in the filamentous cyanophycean alga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2. In the process of cyanobacterial nitrogen fixation, hydrogen gas (H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) is also evolved as a by product and 40% of it is recycled by the hup gene (hydrogen uptake gene), whereas remaining 60% hydrogen gas can be used by biotechnologists as a source of future clean fue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3. The Heterocyst is made up of three (3) different cell wall layers- the outer fibrous and middle homogenous layers are made up of non-cellulose polysaccharide. Whereas, the inner laminated layer is made up of glycolipid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haracteristic features of Heterocyst: Cont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4. On one hand, these special cell wall layers permit the atmospheric N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(g) to diffuse inside, whereas on the other hand they stop the atmospheric 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(g) to come ins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5. This is a damage-control mechanism for the enzyme nitrogenase, as the nitrogenase is sensitive to 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 cold, and cannot function in the presence of 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(g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2" descr=""/>
          <p:cNvPicPr/>
          <p:nvPr/>
        </p:nvPicPr>
        <p:blipFill>
          <a:blip r:embed="rId2"/>
          <a:stretch/>
        </p:blipFill>
        <p:spPr>
          <a:xfrm>
            <a:off x="-103320" y="2693880"/>
            <a:ext cx="80884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1f99"/>
                </a:solidFill>
                <a:latin typeface="Arial"/>
                <a:ea typeface="ＭＳ Ｐゴシック"/>
              </a:rPr>
              <a:t>Nitrogen Fix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The growth of all organisms depend on the availability of Nitrogen (e.g. amino aci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Nitrogen in the form of Dinitrogen (N</a:t>
            </a:r>
            <a:r>
              <a:rPr b="0" lang="en-US" sz="2800" spc="-1" strike="noStrike" baseline="-25000">
                <a:solidFill>
                  <a:srgbClr val="363636"/>
                </a:solidFill>
                <a:latin typeface="Arial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) makes up 80% of the air we breathe but is essentially inert due to the triple bond (N</a:t>
            </a:r>
            <a:r>
              <a:rPr b="0" lang="en-US" sz="2800" spc="-1" strike="noStrike">
                <a:solidFill>
                  <a:srgbClr val="363636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In order for nitrogen to be used for growth it must be "fixed" (combined) in the form of ammonium (NH</a:t>
            </a:r>
            <a:r>
              <a:rPr b="0" lang="en-US" sz="2800" spc="-1" strike="noStrike" baseline="-25000">
                <a:solidFill>
                  <a:srgbClr val="363636"/>
                </a:solidFill>
                <a:latin typeface="Arial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) or nitrate (NO</a:t>
            </a:r>
            <a:r>
              <a:rPr b="0" lang="en-US" sz="2800" spc="-1" strike="noStrike" baseline="-25000">
                <a:solidFill>
                  <a:srgbClr val="363636"/>
                </a:solidFill>
                <a:latin typeface="Arial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) 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Nitrogen Fix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3520" y="1752480"/>
            <a:ext cx="39621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The nitrogen molecul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N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 is quite inert. To break it apart so that its atoms can combine with other atoms requires th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npu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of substantial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mounts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80060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hree process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are responsible for most of the nitrogen fixation in the biosphere:</a:t>
            </a:r>
            <a:r>
              <a:rPr b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atmospheric fix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biological fix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industrial fix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26"/>
          <p:cNvSpPr/>
          <p:nvPr/>
        </p:nvSpPr>
        <p:spPr>
          <a:xfrm>
            <a:off x="0" y="1066680"/>
            <a:ext cx="9007560" cy="39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Arial"/>
              </a:rPr>
              <a:t>In biological nitrogen fixation two moles of ammonia are produced from one mole of nitrogen gas, using 16 moles of ATP and a supply of electrons and protons (hydrogen ion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d6d"/>
                </a:solidFill>
                <a:latin typeface="Arial"/>
              </a:rPr>
              <a:t>N</a:t>
            </a:r>
            <a:r>
              <a:rPr b="0" lang="en-US" sz="2800" spc="-1" strike="noStrike" baseline="-30000">
                <a:solidFill>
                  <a:srgbClr val="6d6d6d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6d6d6d"/>
                </a:solidFill>
                <a:latin typeface="Arial"/>
              </a:rPr>
              <a:t>+ 8H+ + 8e</a:t>
            </a:r>
            <a:r>
              <a:rPr b="0" lang="en-US" sz="2800" spc="-1" strike="noStrike" baseline="30000">
                <a:solidFill>
                  <a:srgbClr val="6d6d6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6d6d6d"/>
                </a:solidFill>
                <a:latin typeface="Arial"/>
              </a:rPr>
              <a:t> + 16 ATP = 2NH</a:t>
            </a:r>
            <a:r>
              <a:rPr b="0" lang="en-US" sz="2800" spc="-1" strike="noStrike" baseline="-30000">
                <a:solidFill>
                  <a:srgbClr val="6d6d6d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d6d6d"/>
                </a:solidFill>
                <a:latin typeface="Arial"/>
              </a:rPr>
              <a:t> + H</a:t>
            </a:r>
            <a:r>
              <a:rPr b="0" lang="en-US" sz="2800" spc="-1" strike="noStrike" baseline="-30000">
                <a:solidFill>
                  <a:srgbClr val="6d6d6d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6d6d6d"/>
                </a:solidFill>
                <a:latin typeface="Arial"/>
              </a:rPr>
              <a:t>+ 16ADP + 16 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Arial"/>
              </a:rPr>
              <a:t>This reaction is performed exclusively by prokaryotes (the bacteria and related organisms), using an enzyme complex termed Nitrogenase.  This enzyme consists of two proteins - an iron protein and a molybdenum-iron prot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027"/>
          <p:cNvSpPr/>
          <p:nvPr/>
        </p:nvSpPr>
        <p:spPr>
          <a:xfrm>
            <a:off x="517680" y="5257800"/>
            <a:ext cx="862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A point of special interest is that the nitrogenase enzyme complex is highly sensitive to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28"/>
          <p:cNvSpPr/>
          <p:nvPr/>
        </p:nvSpPr>
        <p:spPr>
          <a:xfrm>
            <a:off x="212760" y="4967280"/>
            <a:ext cx="8474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dd7"/>
                </a:solidFill>
                <a:latin typeface="Tahoma"/>
              </a:rPr>
              <a:t>Nitrogen fixing bacteri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Some nitrogen fixing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76320" y="1447920"/>
            <a:ext cx="4800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3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Free living aerobic 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d6d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Azotob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d6d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Beijerinck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d6d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Klebsi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d6d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Cyanobacteria </a:t>
            </a:r>
            <a:r>
              <a:rPr b="1" lang="en-US" sz="20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(liche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c"/>
                </a:solidFill>
                <a:latin typeface="Arial"/>
                <a:ea typeface="ＭＳ Ｐゴシック"/>
              </a:rPr>
              <a:t>Free living anaerobic 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Desulfovib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Purple sulphur 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Purple non-sulphur 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Green sulphur 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419720" y="1447920"/>
            <a:ext cx="4800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3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Free living associative 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d6d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Azospirill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c"/>
                </a:solidFill>
                <a:latin typeface="Arial"/>
                <a:ea typeface="ＭＳ Ｐゴシック"/>
              </a:rPr>
              <a:t>Symbio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Rhizobium </a:t>
            </a:r>
            <a:r>
              <a:rPr b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(legum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Frankia </a:t>
            </a:r>
            <a:r>
              <a:rPr b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(alden tre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Biological Fix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2860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The ability to fix nitrogen is found only in certain bacteria</a:t>
            </a:r>
            <a:r>
              <a:rPr b="1" lang="en-US" sz="28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live in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symbiotic relationshi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plants of the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legum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mily (e.g., soybeans, alfalfa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establish symbiotic relationships with plant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other than legum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e.g., alder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nitrogen-fixing bacteri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live fre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n the soi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itrogen-fixing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yanobacter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re essential to maintaining the fertility of semi-aquatic environments like rice padd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Biological Fixation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8580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ological nitrogen fixation requires a complex set of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enzym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nd a huge expenditure of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T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though the first stable product of the process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mmon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 this is quickly incorporated in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prote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other organic nitrog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compo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ientist estimate that biological fixation globally adds approximately 140 million metric tons of nitrogen to ecosystems every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d3dd7"/>
                </a:solidFill>
                <a:latin typeface="Baskerville Old Face"/>
              </a:rPr>
              <a:t>Cyanobacteri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2285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Gram 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ontain photosytem I and II (fix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, produce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No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hotosystem I provides the cells with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hotosystem II breaks water down to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2:07:12Z</dcterms:created>
  <dc:creator>Renne Library</dc:creator>
  <dc:description/>
  <dc:language>en-US</dc:language>
  <cp:lastModifiedBy>Hoba</cp:lastModifiedBy>
  <dcterms:modified xsi:type="dcterms:W3CDTF">2011-05-15T09:53:06Z</dcterms:modified>
  <cp:revision>121</cp:revision>
  <dc:subject/>
  <dc:title>Nitrogen Fixation in the Ocean: The Role of Cyanobacteria</dc:title>
</cp:coreProperties>
</file>