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AEF8-6210-4E0A-8A83-413938D4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002-CCA3-46C4-B4ED-E7364EFA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1E11-8BB6-4B3C-824C-567804EE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EB79-CAC6-4975-B463-EAD292A2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1A1D-5450-40D3-94FC-319E3697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3D61-3DED-4649-B088-5157D51A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7F69-2F63-4755-88FA-7896391B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C1F5-721C-4DA6-AAF7-3889B558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2019-A95A-437D-B7AA-45B4A5CF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7800-D26E-49C8-9EBD-501B13C4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1E43-D257-4319-A0F4-6A52DD16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C47B-3658-46BB-A7F1-02A77D20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624E-7D58-497A-B14C-78D33DB0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99D3-5EB2-4339-BE2B-41BD9198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AA9A-A971-4F22-9231-A0D79F83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A175-3253-4269-81FD-A354EB31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AEB2-B1C3-473E-828B-EB51F4C4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55A87-1498-4B24-8A3A-11E6B6E6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3767E6-1F93-46D8-840E-D9CACB22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E4F47-D24F-41D6-8125-551D0BA2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A1DB1F-B875-4966-89DD-3EBE3003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A0747-3E3E-4957-B406-4C14F8BC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C27C-1926-4222-BCDC-0D10BBFC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1A6D20-F02C-4D97-BE72-2BA5D28D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3C2BC4-6643-4908-8DF4-EBC93DE4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11F76-154D-4B11-943C-CF276F02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322CB-864E-4664-8163-19EAE0B4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D126D7-08C9-49DA-9D23-488D830F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37F02-8BB0-4E34-BD62-C3CCFE48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5B3BCB-96E6-47ED-828E-32B47D4B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8EE96-0C70-4DD0-BAE5-A344ED7E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96A91-464E-4A98-A43E-FCE34389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12349-F9F4-47A9-9F3E-A43E0A03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4F40-B55C-43AB-A591-A4AB2F3E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D579F-D43C-4665-B1A6-274E6E78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09917-6DE4-4739-9DA2-4C3C008C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EF1A6-6286-4B24-994B-2A9EABBB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947A0-BEA8-4A79-BBB6-F571B8ED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D181F-7176-488B-8BF1-0955DAF0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2E315-8BBD-4C7C-80FB-54569F3A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98A0D-AB08-47FF-A66E-40F270E7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84279-13AB-4153-84A1-2F2955AA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9DC4C-995F-4E58-B269-3D177D41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2A5281-9225-4EC0-8017-537E4E84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E8B9-5867-4B1D-9430-048951F5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BF958C-F1CC-4E60-86E7-8BA426DF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D41B8A-BAAB-403E-81B4-53D16BE5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4336DC-326F-4E4B-83AC-0A329A0F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A092CF-0ABE-47A3-A904-D37C51CD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DAEB9A-463F-4F8D-B40B-88276E40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C8AAEF-A99B-45DD-861D-83C7C89B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10C842-91B8-4AB6-8929-8F9ECD89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870CE6-5890-4182-A6DE-8900439F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9AFE22-22A0-4921-B8CE-0E7ED6CC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D615EA-71DC-4106-9BA6-910852C9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E141-CF9C-4853-AEFA-9A717079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D10F4-E145-4335-9136-F2C90D68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6BC561-B464-480B-AA83-0A16C08F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0C1B71-175D-46B1-867B-67B79BC9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5F5342-DC6F-457F-84D1-3F998DCD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6D49E7-97CF-40BA-9F23-D81F246E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373DDD-A827-4CFD-A0ED-4EB04C09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5A085D-ADB2-4B27-B72F-86B7FF79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01E014-9991-4792-938C-DC50E52D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6F8004-A8FC-4197-B9F0-8BB05804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264002-71A8-4A19-92AD-57FE2409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92CB-7927-47FB-871F-8C57EB92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8B9A7-CB26-46FB-A21A-C046E1C7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CF5935-375E-416B-9BB2-3F28E7A9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1BCA7E-FF36-4E3C-A32F-771F0E07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C6EE36-037E-4F69-A542-CEA047A0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9501D6-1407-49FB-8A49-68F79F9C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05B7CB-EC12-4C65-A131-3437B2DF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6E143D-9F50-4E12-9C31-28AFC6AE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4DA6DC-B573-4EB2-8209-FF7CA0EF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DC0A31-1A63-4FCD-9CD1-07257ECE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EA12F5-D8A1-4B68-973C-BEDAFCED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BA41-52EA-43BD-8766-4E453F62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011849-BF3F-4B07-8C9D-81E1844A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DE4975-85E2-4A92-99D6-109D1145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B8A5B9-F52C-4A4E-AF5B-1B9FCD77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0993F5-ACC7-483B-A536-E4E47668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D20B20-64B8-479D-88DF-51EEE6F9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89D8-521E-43DE-B25C-B9FE554B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0AC5-7DEE-4132-979F-174BD63E868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9160-F2B7-4A6D-914A-2F863D6F649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624B-FE72-44DC-AC7A-9D13110B2CE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4657-33D5-4D9F-BF05-991F3D0DAC4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4BB0-BC25-471C-BC65-1A0C3F0F746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F477-4AF8-4A5B-BB0A-0BAF471D137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A6FE-C24C-4035-BFB7-2A7B0D511BD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SUPERLATIVE FORMS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 AND TO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. Verb to be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Saudi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ura is Saudi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entury Schoolbook"/>
              </a:rPr>
              <a:t>Too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am Saudi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oura is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o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Saudi. Noura is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, to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o comes after verb to be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Saudi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ind is Saud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So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Saudi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s Hin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am Saudi.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s Hin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o comes before verb to be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2. With other verb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lov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ura loves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To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 love fast food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oura </a:t>
            </a:r>
            <a:r>
              <a:rPr b="0" lang="en-US" sz="2800" spc="-1" strike="noStrike">
                <a:solidFill>
                  <a:srgbClr val="92d050"/>
                </a:solidFill>
                <a:latin typeface="Century Schoolbook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oo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 love fast food. Noura </a:t>
            </a:r>
            <a:r>
              <a:rPr b="0" lang="en-US" sz="2800" spc="-1" strike="noStrike">
                <a:solidFill>
                  <a:srgbClr val="92d050"/>
                </a:solidFill>
                <a:latin typeface="Century Schoolbook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oo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o comes after the auxiliary verb (does, did, did, have, has, …..etc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lov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ind loves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So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 love fast food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so </a:t>
            </a:r>
            <a:r>
              <a:rPr b="0" lang="en-US" sz="2800" spc="-1" strike="noStrike">
                <a:solidFill>
                  <a:srgbClr val="92d050"/>
                </a:solidFill>
                <a:latin typeface="Century Schoolbook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Hin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love fast food.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92d050"/>
                </a:solidFill>
                <a:latin typeface="Century Schoolbook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Hin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o comes before the auxiliary verb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ITHER AND NEITH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.Verb to be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not America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ura isn’t America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entury Schoolbook"/>
              </a:rPr>
              <a:t>Either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am not American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oura isn’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ithe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am not American. Noura isn’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ither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ither comes after verb to be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m not America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ind isn’t America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68c4"/>
                </a:solidFill>
                <a:latin typeface="Century Schoolbook"/>
              </a:rPr>
              <a:t>Neither</a:t>
            </a:r>
            <a:r>
              <a:rPr b="0" lang="en-US" sz="2800" spc="-1" strike="noStrike">
                <a:solidFill>
                  <a:srgbClr val="3668c4"/>
                </a:solidFill>
                <a:latin typeface="Century Schoolbook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m not American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 neither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Hi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m not American.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Neither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Hi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ither comes before verb to be. No “not” after neithe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2. With other verb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ura doesn’t lik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entury Schoolbook"/>
              </a:rPr>
              <a:t>Either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oura doesn’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ithe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 I don’t like fast food. Noura doesn’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ither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ither comes after the auxiliary verb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ind doesn’t lik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68c4"/>
                </a:solidFill>
                <a:latin typeface="Century Schoolbook"/>
              </a:rPr>
              <a:t>Neither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 neithe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does Hin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.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Neithe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does Hin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ither comes before the auxiliary verb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Superlatives compare three or more people or things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4000" y="1341000"/>
            <a:ext cx="825012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One syllable adjectives and adverbs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- Add –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t the end of the adjective/adverb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before the superlativ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big) Sydney is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bigge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ity in Australi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hard) I think my friend works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hardest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sweet) My students are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sweete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tudents in the world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wo- syllable adjectives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f the adjective ends in –er or –y usually add –es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riendly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y brother is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 the friendliest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oy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xpress the opposite idea with the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least + adjective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y neighbor 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the least friendly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wo- syllable adjectives ending in –ful 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e add </a:t>
            </a:r>
            <a:r>
              <a:rPr b="0" lang="en-US" sz="3200" spc="-1" strike="noStrike">
                <a:solidFill>
                  <a:srgbClr val="00b050"/>
                </a:solidFill>
                <a:latin typeface="Century Schoolbook"/>
              </a:rPr>
              <a:t>the most + adjectiv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3200" spc="-1" strike="noStrike">
                <a:solidFill>
                  <a:srgbClr val="e75c01"/>
                </a:solidFill>
                <a:latin typeface="Century Schoolbook"/>
              </a:rPr>
              <a:t>the least + adjective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stressful)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nding flights 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the most stressful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art of travel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beautiful)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y friend 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the most beautiful girl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Other adjective and adverbs: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at have more than two syllables: we add the most / the leas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pular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otball is </a:t>
            </a:r>
            <a:r>
              <a:rPr b="0" lang="en-US" sz="3200" spc="-1" strike="noStrike">
                <a:solidFill>
                  <a:srgbClr val="00b050"/>
                </a:solidFill>
                <a:latin typeface="Century Schoolbook"/>
              </a:rPr>
              <a:t>the most popular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port in the U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requently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otball is </a:t>
            </a:r>
            <a:r>
              <a:rPr b="0" lang="en-US" sz="3200" spc="-1" strike="noStrike">
                <a:solidFill>
                  <a:srgbClr val="e75c01"/>
                </a:solidFill>
                <a:latin typeface="Century Schoolbook"/>
              </a:rPr>
              <a:t>the most frequently watched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port on TV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rregulars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od &gt; be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d &gt; wor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r &gt; farthe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ttle &gt; lea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ll &gt; be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dly &gt; wor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ny &gt; mo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ch &gt; mo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Nouns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 </a:t>
            </a: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the most or the fewe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ith count nou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o has been to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most museum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 </a:t>
            </a: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the most or the lea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ith noncount nou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ve spen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least money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ge 17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PRESSING SIMILARITIES WITH SO, TOO, EITHER, NEITH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ometimes two sentences of similarity have different subjects but the same verb. We combine them using </a:t>
            </a:r>
            <a:r>
              <a:rPr b="0" lang="en-US" sz="3200" spc="-1" strike="noStrike">
                <a:solidFill>
                  <a:srgbClr val="0070c0"/>
                </a:solidFill>
                <a:latin typeface="Century Schoolbook"/>
              </a:rPr>
              <a:t>so, too, either and neither</a:t>
            </a:r>
            <a:r>
              <a:rPr b="0" lang="en-US" sz="3200" spc="-1" strike="noStrike">
                <a:solidFill>
                  <a:srgbClr val="0070c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entury Schoolbook"/>
              </a:rPr>
              <a:t>So + too :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r affirmative sentence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entury Schoolbook"/>
              </a:rPr>
              <a:t>Either + neither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for negative sentence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6:28:07Z</dcterms:created>
  <dc:creator>sony</dc:creator>
  <dc:description/>
  <dc:language>en-US</dc:language>
  <cp:lastModifiedBy>Sara aldawood</cp:lastModifiedBy>
  <dcterms:modified xsi:type="dcterms:W3CDTF">2012-05-22T08:29:21Z</dcterms:modified>
  <cp:revision>13</cp:revision>
  <dc:subject/>
  <dc:title>Superlative Forms</dc:title>
</cp:coreProperties>
</file>