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759-A3CA-491D-8BDB-993C6601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530-6BF6-4B2F-8963-0BEFFC73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3E0-50A7-4C1C-BD3B-FFB1818D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BA3-10F6-4B2C-A0BA-5D99BA32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D24E-D22E-44D4-A156-4391B5B9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EB4B-A167-4AE1-898C-3CCA528E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A832-2723-4C15-82F0-D2F54FAF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DFE5-5341-46F3-9E8C-D086AC98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64E0-E0EF-492D-B6BE-BF655388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8DCD-1BD5-454C-A82A-8DEB8E19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A9FD-92A7-41B8-A145-397EA38E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7CC3-EA32-4414-8E13-09B56F4F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D7C4-43FC-4A99-A4B6-5295DC7D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A5E8-54A1-4B25-90E2-DB36BD5D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CED1-1155-47C6-8BBE-92D228F3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9A44-7B33-4681-8ACD-164EBF11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7071-DD6D-4308-B500-8511EBE9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22198-08B5-43DF-B491-DC389336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E9FA2-3063-4F2C-8791-9AC4CDD5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8B9DE-2EB6-495E-8212-27907B7A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D57E5-A285-4B54-9FAE-E79D1C5C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5033D-2CBB-43CD-A6FF-D97E0A3D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1BD-B92E-4E01-B129-E1C09617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66E37-81F6-47DE-BEE8-8D427710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553ED-90A7-4BE4-8535-23A9A015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608F7-CEA1-4095-A2A0-4B175F07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05519-2B40-46F8-845D-7AACADEA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5F9C0-07D8-4862-8940-9C591B15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43021-F970-40FD-B5C6-72B131F1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E5730-4BCB-48E9-A83E-6BB8CC0D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F4EF3-0502-48B8-8ACD-11E06B74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42253-154D-4754-BDA1-A2ED39DD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F5EB5-4668-4B17-8DD7-96FB4ADA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808-811D-40C7-B78B-8A6C15A1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651B5-E966-472E-BFFF-2AF52C6B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29379-B9E0-41BF-9893-F2751FF9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2CBC7-11C9-4AB4-859E-310C7889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57106-1527-4D40-BA77-FB7C04E1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48E10-FDB0-4B8C-8F6C-2B5E536D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55B96-669D-48FA-8B06-88C33BE2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FCC11-4C35-4CD4-B142-F78FAED4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3BBF3-D87A-4D58-88A6-691092C0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F19D1-E8B1-4341-A3E2-7089019A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72A11-95FA-43FC-AE67-C6F9F4DB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F34-17D2-4CC5-9C2E-7FE9D22A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310CE-1167-4ACE-9774-0A3F287D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D0C50B-D0E4-41DE-B55D-7CC87B7B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7C464-6B29-44FB-B7A8-E22857C3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B5A25-4211-4F81-8EA0-7DE48DCE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F53B4-84BC-4C1A-87EE-0BE66EEA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7D01D-4D45-4240-B148-CE9C93C4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6BE3C6-9103-4F9D-9D8F-6E245F29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F06B8-50DA-4878-AEAE-D16F9930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A0F3B8-2A02-4B1D-B66E-6CEF62D7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D9C1C7-E8E8-44E3-BF2E-BBBC5BFF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3A6-945E-4E8E-A0F0-5918438E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3C052-B192-4F7C-A7EA-4285DE1F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5BC9E1-F40E-4C6E-AD1A-1F8418B0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C9DA7D-DA7C-4BC6-9643-3C055330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77E73-7970-4BA5-8924-DE5074DE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A0B0C5-CE1F-496E-8688-D8CE58BF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755A04-B86B-4FFE-8D9E-7046C113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84620E-3359-4BEB-8E91-01129640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0C3957-28B6-4012-9B5D-11ECE3EC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1F7ED-ABE1-4F43-8D4D-0BACFCE3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502479-ACE3-476B-9D22-BD56EDBE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C17-04E1-4AEF-8677-FA01FD28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BF5F4-6132-4BA6-988C-5DF7CB86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50F191-D05A-4D8C-86DB-A1CA3155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4DF0E-4677-461A-B6C8-B823BA4E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B88C72-65DC-4A38-BC4C-D25DB573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698F4-0227-465D-90FC-C4D557A5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E6DF48-FBD1-4ED5-8BF6-E384A74A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77C0C0-49B2-4223-BE8A-1317549E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989E2D-A2C6-4D94-AAB6-A9C31E87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C12BAA-CEF7-4752-9DC6-D7EEB473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85C88C-D3F4-4C29-B951-BB6A619A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D5E-A6A1-4F4E-A298-E7ECECB9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F02D7D-B894-41F9-BC00-1656DC6B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79CBA-FB18-43C0-8931-724C5EC5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75E6B6-4CE4-44A3-B09C-8AC3B077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18C111-1D21-42A4-B43B-092A94A8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57FE3F-AF21-4DE7-8F8C-E5205671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BD7-983C-418E-A724-A1F10D23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7DC7-D88F-4157-804B-4287766FAFA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8236-2A2E-46E2-BE5F-185C23E93D8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8869-874D-44F7-9DFA-1CA9F1C870F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C4C7-218E-470F-9125-1D380F8D633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47DC-3EF7-4C37-A7BA-6A035A7FEA0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5E23-F16B-465E-BA49-90C5D3F7E0A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FB8D-38D0-497B-9E4F-609288B9937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SUPERLATIVE FORMS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 AND TO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. Verb to be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is Saudi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entury Schoolbook"/>
              </a:rPr>
              <a:t>To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Saudi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is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o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. Noura is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, to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o comes after verb to b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is Saud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S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s Hi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Saudi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s Hin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o comes before verb to be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2. With other verb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lov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loves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To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 lov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oo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 love fast food. Noura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oo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o comes after the auxiliary verb (does, did, did, have, has, …..etc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lov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loves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S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 lov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Hi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love fast food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Hi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o comes before the auxiliary verb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ITHER AND NEITH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.Verb to be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not America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isn’t America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entury Schoolbook"/>
              </a:rPr>
              <a:t>Either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not American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i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not American. Noura i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ither comes after verb to b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m not America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isn’t America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68c4"/>
                </a:solidFill>
                <a:latin typeface="Century Schoolbook"/>
              </a:rPr>
              <a:t>Neither</a:t>
            </a:r>
            <a:r>
              <a:rPr b="0" lang="en-US" sz="2800" spc="-1" strike="noStrike">
                <a:solidFill>
                  <a:srgbClr val="3668c4"/>
                </a:solidFill>
                <a:latin typeface="Century Schoolbook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m not American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 neither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Hi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m not American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Neither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Hi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ither comes before verb to be. No “not” after n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2. With other verb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does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Either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doe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 I don’t like fast food. Noura doe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ither comes after the auxiliary verb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does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68c4"/>
                </a:solidFill>
                <a:latin typeface="Century Schoolbook"/>
              </a:rPr>
              <a:t>Neither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 n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does Hin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N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does Hin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ither comes before the auxiliary verb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Superlatives compare three or more people or thing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4000" y="1341000"/>
            <a:ext cx="825012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One syllable adjectives and adverbs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- Add –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t the end of the adjective/adverb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before the superlativ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big) Sydney is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bigg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ity in Australi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hard) I think my friend works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hardest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sweet) My students are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sweet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tudents in the world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wo- syllable adjective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f the adjective ends in –er or –y usually add –es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riendl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y brother is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the friendliest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o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xpress the opposite idea with the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least + adjective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y neighbor 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the least friendly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wo- syllable adjectives ending in –ful 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e add 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the most + adjectiv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3200" spc="-1" strike="noStrike">
                <a:solidFill>
                  <a:srgbClr val="e75c01"/>
                </a:solidFill>
                <a:latin typeface="Century Schoolbook"/>
              </a:rPr>
              <a:t>the least + adjective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stressful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nding flights 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the most stressful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art of travel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beautiful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y friend 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the most beautiful girl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ther adjective and adverbs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at have more than two syllables: we add the most / the leas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pular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otball is 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the most popular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t in the U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requentl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otball is </a:t>
            </a:r>
            <a:r>
              <a:rPr b="0" lang="en-US" sz="3200" spc="-1" strike="noStrike">
                <a:solidFill>
                  <a:srgbClr val="e75c01"/>
                </a:solidFill>
                <a:latin typeface="Century Schoolbook"/>
              </a:rPr>
              <a:t>the most frequently watched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t on TV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rregulars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od &gt; b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d &gt; wor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r &gt; farth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ttle &gt; lea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ll &gt; b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dly &gt; wor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&gt; mo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ch &gt; mo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uns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</a:t>
            </a: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the most or the few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ith count nou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o has been to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most museum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</a:t>
            </a: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the most or the lea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ith noncount nou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ve spen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least money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ge 17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PRESSING SIMILARITIES WITH SO, TOO, EITHER, NEITH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ometimes two sentences of similarity have different subjects but the same verb. We combine them using </a:t>
            </a:r>
            <a:r>
              <a:rPr b="0" lang="en-US" sz="3200" spc="-1" strike="noStrike">
                <a:solidFill>
                  <a:srgbClr val="0070c0"/>
                </a:solidFill>
                <a:latin typeface="Century Schoolbook"/>
              </a:rPr>
              <a:t>so, too, either and neither</a:t>
            </a:r>
            <a:r>
              <a:rPr b="0" lang="en-US" sz="3200" spc="-1" strike="noStrike">
                <a:solidFill>
                  <a:srgbClr val="0070c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So + too 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r affirmative sentenc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Schoolbook"/>
              </a:rPr>
              <a:t>Either + neither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for negative sentenc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6:28:07Z</dcterms:created>
  <dc:creator>sony</dc:creator>
  <dc:description/>
  <dc:language>en-US</dc:language>
  <cp:lastModifiedBy>Sara aldawood</cp:lastModifiedBy>
  <dcterms:modified xsi:type="dcterms:W3CDTF">2012-05-22T08:29:21Z</dcterms:modified>
  <cp:revision>13</cp:revision>
  <dc:subject/>
  <dc:title>Superlative Forms</dc:title>
</cp:coreProperties>
</file>