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27F3-A051-43BA-A124-3CBC763D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40D-41E0-4BEE-AB6C-CAA7D61F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CE9-94A0-46B2-9400-EBE211D6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76B-B34E-4DFD-91BD-590C903C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1F66-C9B0-4C82-A8C6-65256AA9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C593-4B3E-4956-9F2F-BDCBB2AF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6D7B-AF65-4EF2-9E4E-33AA72E8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AE91-610C-4915-81D8-1FB83AF1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F872-C349-43EA-A342-F50C49E7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A09A-12EA-4056-834F-7C4EB857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B762-EAA5-4D31-AA84-DC9EDEB9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0B6-7FB4-4A24-958A-2485A349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FF7B-8D41-4A44-A003-660E7F51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2820-01C9-4E1E-9965-DB9E8F3E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B4DD-47AC-4F81-B628-07448BC8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36C9-AA88-46E6-976B-A7B36BE8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BE9B-975D-429D-BBA6-D83392C0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CF729-3C95-4F2C-A37D-F0817831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D23AA-A080-4930-A0E4-C963ECFB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E8BEC-E150-4D7B-8330-07092D38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D38EB-9282-4256-A1C6-13DA3CD0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A2FD8-7DB5-4E7E-8C9B-CABA95C6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360-FAAE-421F-BA97-436DEEE0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A6DC5-1CED-4B5B-8B3F-A775BDBD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3D67D-0BF3-4BBF-861D-0C58637C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71E0A-9C12-4DCD-A312-4DF22E69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95AAF-E704-49C4-A225-3A908E7E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096BD-7C12-4D14-BEF7-3F32A0B6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19102-0D09-4E9C-AF4D-BD131BA3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26DEB-238E-47E9-9CCD-439A3FC2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42CDB-CAA0-4DA9-BDCC-CEA98FA8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23B86-0CB4-43D1-97E0-91357BD9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903D9-109D-479D-9D8A-49CD66E5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5A5-1546-4D0F-B49C-95235DE5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8DA04-8088-4443-9C68-A4A24634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51E79-EDE0-48CE-BDE5-9002983D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AFBEE-B613-4804-871B-E79A05F3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F879B-BA7A-4E5F-A286-E584A47D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F2090-834F-44AD-A8B8-D35C5B66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F124C-7BFB-4BA1-BC60-65B03204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F2BF5-1967-47D3-BB57-3744DAE7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CD405-0540-4C59-80A7-9247B9A0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C1C54-D73C-40BD-842A-05D840AC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B5F75-8300-4DD5-BA53-EB3AD0F1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9FC3-32F7-44EB-A5E2-2DC823D7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AB8F25-D1C2-44B3-A2AF-61EF43F0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A2D4F-AF3B-4CE6-99BC-B72F2AEA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021162-72EE-413C-80D8-6D3E0027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80E24-EAE9-4B8C-8426-87C5C0C0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F28F1-2D87-4E78-A472-3BBD5365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5538B-E819-4121-B75A-67EBA21C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D09B6-801E-4581-BD59-221514BF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57DEE-2619-485D-8BF3-B95A9CCB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3559B-96A6-4C06-AC73-ADF56D8C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57FBA-10DC-4D90-B209-D4365448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D22-7942-4438-A965-E8933BE9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21C14-E44A-4B97-955A-4FAD22B5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EC6B1D-5E9E-4CE3-8E8E-318DA098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2C251A-54FB-44C7-B0E7-DB28AAF7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65F01C-43B3-4684-9067-26AC569D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E51AF4-1E10-4807-B2C8-C2FE4F6B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511B2A-B3A9-4E53-A777-CA887D7E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00D54-5463-4444-AAE7-C7566658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49543A-4FA8-45E9-B376-28E79A4F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1A4709-C386-49B1-B79D-F8B80793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B8A28-A59C-4D21-94B9-1E3DCA9F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982-3F44-4BF7-8150-35E8FB09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E124F-BEB9-4F17-BCB9-7F68D206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2896B-AD81-4462-A094-CBB2EBFE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C6CE70-6F87-4F4B-9A03-7DA5E9C3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5B2F33-9046-42D6-960F-8D4EF67C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F294C0-5DE8-42FB-9699-A18BAB5F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41E128-98FE-4592-957E-438EB7CB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5FE52E-3EB7-4A60-AB38-21601678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4CB712-368A-4F06-A670-1AA39F02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2AE25A-20A1-4755-B53E-3D558F59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BA4DE1-9B4A-4D0A-A569-7D217F30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790-A579-4009-9753-9303F4BB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D01EFA-3EE7-40EE-9E39-FB3A758E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41841C-B7B9-4A8F-966E-9D880F16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388F1E-5F25-4D55-BFD7-6E8548DC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53BF8D-3E8D-4F66-8664-9DAD1932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2B1C0F-652F-4423-AE3F-D703E301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A62-19FB-4910-8E2B-1E524D2A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7BC3-BF36-4DC5-AECA-4587A762716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9A20-8E04-4132-9FDD-31E54CB7CD7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316D-61B4-4E4B-BB0C-AA4A807785A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A413-FE5E-462E-AC0B-7C65FE75F55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D9AE-9C72-4688-9849-97BC6B3036F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D137-7E77-4935-A932-69469F68D6B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8B31-1BBD-4F2F-8EE0-315837134CF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SUPERLATIVE FORMS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 AND TO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. Verb to be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is Saudi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entury Schoolbook"/>
              </a:rPr>
              <a:t>To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Saudi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is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o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. Noura is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, to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o comes after verb to b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is Saud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S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Saudi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s Hi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Saudi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s Hin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o comes before verb to be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2. With other verb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lov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loves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To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 lov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oo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 love fast food. Noura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oo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o comes after the auxiliary verb (does, did, did, have, has, …..etc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lov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loves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S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 lov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Hi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love fast food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92d050"/>
                </a:solidFill>
                <a:latin typeface="Century Schoolbook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Hi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o comes before the auxiliary verb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ITHER AND NEITH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.Verb to be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am not America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isn’t America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entury Schoolbook"/>
              </a:rPr>
              <a:t>Either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not American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i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am not American. Noura i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ither comes after verb to b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m not America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isn’t American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68c4"/>
                </a:solidFill>
                <a:latin typeface="Century Schoolbook"/>
              </a:rPr>
              <a:t>Neither</a:t>
            </a:r>
            <a:r>
              <a:rPr b="0" lang="en-US" sz="2800" spc="-1" strike="noStrike">
                <a:solidFill>
                  <a:srgbClr val="3668c4"/>
                </a:solidFill>
                <a:latin typeface="Century Schoolbook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m not American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 neither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Hi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I’m not American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Neither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Hi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ither comes before verb to be. No “not” after n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2. With other verb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oura does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Either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Noura doe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:  I don’t like fast food. Noura doesn’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ither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ither comes after the auxiliary verb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ind doesn’t like fast foo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68c4"/>
                </a:solidFill>
                <a:latin typeface="Century Schoolbook"/>
              </a:rPr>
              <a:t>Neither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ddition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,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nd n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does Hin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sponses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 don’t like fast food.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Neithe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does Hin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ither comes before the auxiliary verb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Superlatives compare three or more people or thing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4000" y="1341000"/>
            <a:ext cx="825012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One syllable adjectives and adverbs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- Add –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t the end of the adjective/adverb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before the superlativ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big) Sydney is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bigg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ity in Australi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hard) I think my friend works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hardest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sweet) My students are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sweet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tudents in the world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wo- syllable adjective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f the adjective ends in –er or –y usually add –es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riendl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y brother is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the friendliest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o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xpress the opposite idea with the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least + adjective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y neighbor 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the least friendly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wo- syllable adjectives ending in –ful 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e add 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the most + adjectiv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3200" spc="-1" strike="noStrike">
                <a:solidFill>
                  <a:srgbClr val="e75c01"/>
                </a:solidFill>
                <a:latin typeface="Century Schoolbook"/>
              </a:rPr>
              <a:t>the least + adjective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stressful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nding flights 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the most stressful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art of travel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beautiful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y friend 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the most beautiful girl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ther adjective and adverbs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at have more than two syllables: we add the most / the leas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pular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otball is </a:t>
            </a: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the most popular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t in the U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requentl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otball is </a:t>
            </a:r>
            <a:r>
              <a:rPr b="0" lang="en-US" sz="3200" spc="-1" strike="noStrike">
                <a:solidFill>
                  <a:srgbClr val="e75c01"/>
                </a:solidFill>
                <a:latin typeface="Century Schoolbook"/>
              </a:rPr>
              <a:t>the most frequently watched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t on TV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rregulars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od &gt; b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d &gt; wor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r &gt; farth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ttle &gt; lea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ll &gt; b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dly &gt; wor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&gt; mo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ch &gt; mo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uns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</a:t>
            </a: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the most or the fewe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ith count nou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ho has been to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most museum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</a:t>
            </a:r>
            <a:r>
              <a:rPr b="0" lang="en-US" sz="2800" spc="-1" strike="noStrike">
                <a:solidFill>
                  <a:srgbClr val="e75c01"/>
                </a:solidFill>
                <a:latin typeface="Century Schoolbook"/>
              </a:rPr>
              <a:t>the most or the least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ith noncount noun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’ve spent 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he least money</a:t>
            </a: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ge 17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PRESSING SIMILARITIES WITH SO, TOO, EITHER, NEITH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ometimes two sentences of similarity have different subjects but the same verb. We combine them using </a:t>
            </a:r>
            <a:r>
              <a:rPr b="0" lang="en-US" sz="3200" spc="-1" strike="noStrike">
                <a:solidFill>
                  <a:srgbClr val="0070c0"/>
                </a:solidFill>
                <a:latin typeface="Century Schoolbook"/>
              </a:rPr>
              <a:t>so, too, either and neither</a:t>
            </a:r>
            <a:r>
              <a:rPr b="0" lang="en-US" sz="3200" spc="-1" strike="noStrike">
                <a:solidFill>
                  <a:srgbClr val="0070c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entury Schoolbook"/>
              </a:rPr>
              <a:t>So + too 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r affirmative sentenc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entury Schoolbook"/>
              </a:rPr>
              <a:t>Either + neither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for negative sentenc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6:28:07Z</dcterms:created>
  <dc:creator>sony</dc:creator>
  <dc:description/>
  <dc:language>en-US</dc:language>
  <cp:lastModifiedBy>Sara aldawood</cp:lastModifiedBy>
  <dcterms:modified xsi:type="dcterms:W3CDTF">2012-05-22T08:29:21Z</dcterms:modified>
  <cp:revision>13</cp:revision>
  <dc:subject/>
  <dc:title>Superlative Forms</dc:title>
</cp:coreProperties>
</file>