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17F-8174-4518-BB44-548D04AF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524-BAF8-4561-AD1D-D3883F34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C41-1DE7-4714-B496-0388C239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12B-D115-4A3D-B7A0-2AC9F4F5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93B5-7052-4661-A29D-58B2685F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CEBA-8D20-495A-AA84-CF6F9AAC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E55B-1FB5-4E9D-9098-6AC1B4BD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F01E-F5B5-419A-93B0-538BBB2F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CDDF-4B16-4911-9110-972F0A3B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C8A5-CD76-4FDC-858C-F9B98C59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F122-99D5-4CC5-9199-D8F1F19C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935-3FAA-478C-A249-84D5431F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3824-3601-469A-A0C4-6AF490AB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F0E9-F359-4372-B212-62E33A40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1A2A-3FA6-4B6E-B375-A5DD9ABE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B61A-A5CB-4023-AF51-DE4D9C28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3747-FE07-4D14-8826-5F17381F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E73F4-8BB1-4F0B-83BC-EF892BE7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7BEBB-448F-4171-9E76-3D310F8A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A3FA5-25DA-40CD-8F8E-2812E18A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0CC75-B3F7-4028-B16B-9ACE86A3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597EE-DA61-4A41-90F4-88BC9BAE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F80-61C3-4260-8187-919CB546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B4764-A9DF-4C67-94F3-B28C8F36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8B40F-1316-4B86-A4BF-5AFDC37E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2B856-F0B4-4515-AC0E-35BF648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62BA2-C6AE-4F92-83D7-2567628E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F9BBB-FFE3-4388-8640-B0E7CC38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C66D9-8647-4041-8334-C5A7BA4B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29110-BEF2-480B-A8A3-9223E2C6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0B7DD-EACF-48D8-BE3D-D3BC0957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F804-34F2-4532-B391-A37AA5E7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B5099-AED9-4D1A-AACE-AE7B6447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BF7-B7B8-4EDC-8DD5-72C2462F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C2DFC-04D0-488E-BC17-D3DC3894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7071F-CE94-4A4E-BF66-BDB58F44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4C2F2-A2A1-4051-9413-51187D89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F3956-3655-4BC3-BF84-A1A7BB79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50544-1659-437F-A1F5-44CB168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91468-B1C5-4BE2-8E97-EC73DF65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3879F-7109-4861-9FCD-E7AB7BD1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B7D5D-3B23-494F-A53F-B4F3EC2E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20367-2BFE-4273-A041-B6164A9E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A5CF7-4971-47C7-AB8C-0E61BBD8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D05-9166-428F-9A94-A1DE800F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B358E-6F5D-471C-80A6-8BB9A2D5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DB0AB-569B-4BB9-B5D1-E2BADDA9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DF82C-CF65-45DC-B9E4-2DC5D377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E825A-3D12-4B10-B8E7-4420FB3B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6FD04-9F66-4357-97D3-3DCE181C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4ECD6-99BF-4D0F-8612-0D9FB870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73323-D11F-4029-823E-07AFA56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79BB0-6FD3-44B3-8540-B691F531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43028-F2C8-41B6-BA10-20BDBF67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DB333-DE9B-4DF6-A511-8076AA90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6C6-26DD-4F29-A65B-2D1D8BF8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3F895-4343-4D50-AFB1-37B72E88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7D264-9D17-4169-9518-C64F101A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BE7D9-3BF6-410A-BF91-40540A34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87750-E169-45FA-8F6E-B8A1B750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02DA7-E79F-4EB7-985C-E36C972E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42A69-2267-41FF-9EF0-DFD0E050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FDF18-2E3E-4574-BE32-D9FA4EEB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AD7BA2-07A3-41D0-8E6A-811D2F9A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7F118-E559-48E9-9BDC-E99FC6EF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BE4CA-5DE8-420F-8988-BB392FCF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DB2-83E4-46F4-9C41-9BD4504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36F5B-42D2-4E25-A837-DC2ACE6A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69208-76AC-4407-A15E-61576147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97F58-F197-4AF6-BF47-35784678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67D7A-492B-4D54-96C1-34D4954A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B3631-230C-4EEC-9493-04BE500B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E09326-6067-4C66-82E6-6B962AD7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F7191-1B02-493F-9810-E892BF64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4202D-140A-4108-97AE-68AC7F08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76B01E-7ADF-4F81-9E5E-7A39A69B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8A608-4229-42F5-AA61-38F5E369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EE7-4F7C-413A-8BBC-D6962668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81E95-3964-4C01-94E2-7216ED3D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C00C1-A466-40C1-AA4B-51C3A7F7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75E0D-C1B2-44D4-A942-D15CB585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19A10-73F5-4FC9-A528-5BE1AAD3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19E214-05AD-4038-B50D-CB57369D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82F-9AC5-4AE3-ADAC-B9C39FD3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E46D-7B98-403A-9DA8-53CA559CCBA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9E75-FF62-40F2-9E5F-CF5A313D38D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4BA8-DBB8-4789-AB03-D73CF5ACA5A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A722-BAAD-481C-95B0-5A80F499092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8CD8-7FBD-4252-8C1B-5B4CE30793F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DB36-86BB-4C1E-A2C5-8B762D41CA3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8E2B-5716-4B90-8750-126483CBEDB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UPERLATIVE FORMS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 AND TO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. Verb to b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is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entury Schoolbook"/>
              </a:rPr>
              <a:t>To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Saudi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is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Noura is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, 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comes after verb to b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is Saud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S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Saudi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o comes before verb to be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 With other verb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loves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. Noura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comes after the auxiliary verb (does, did, did, have, has, …..etc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loves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S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o comes before the auxiliary verb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ITHER AND NEITH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.Verb to b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not America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isn’t America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entury Schoolbook"/>
              </a:rPr>
              <a:t>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not American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i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not American. Noura i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ither comes after verb to b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m not Ameri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isn’t Ameri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Neither</a:t>
            </a: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m not American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 neither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Hi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m not American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Neither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Hi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ither comes before verb to be. No “not” after 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 With other verb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does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doe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I don’t like fast food. Noura doe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ither comes after the auxiliary 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does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N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 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oe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oe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ither comes before the auxiliary 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Superlatives compare three or more people or thing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4000" y="1341000"/>
            <a:ext cx="82501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ne syllable adjectives and adverbs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- Add –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t the end of the adjective/ad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before the superlativ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big) Sydney i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bigg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ity in Australi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hard) I think my friend work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hardest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sweet) My students ar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sweet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udents in the world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wo- syllable adjective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f the adjective ends in –er or –y usually add –e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iendl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brother is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the friendliest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press the opposite idea with the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least + adjective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neighbor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least friendly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wo- syllable adjectives ending in –ful 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e add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the most + adjectiv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3200" spc="-1" strike="noStrike">
                <a:solidFill>
                  <a:srgbClr val="e75c01"/>
                </a:solidFill>
                <a:latin typeface="Century Schoolbook"/>
              </a:rPr>
              <a:t>the least + adjectiv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stressful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nding flights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most stressful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art of travel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beautiful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friend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most beautiful girl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ther adjective and adverb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at have more than two syllables: we add the most / the lea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pular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otball is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the most popular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t in the U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equentl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otball is </a:t>
            </a:r>
            <a:r>
              <a:rPr b="0" lang="en-US" sz="3200" spc="-1" strike="noStrike">
                <a:solidFill>
                  <a:srgbClr val="e75c01"/>
                </a:solidFill>
                <a:latin typeface="Century Schoolbook"/>
              </a:rPr>
              <a:t>the most frequently watched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t on TV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rregular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od &gt; b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d &gt; wor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r &gt; farth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ttle &gt; lea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ll &gt; b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dly &gt; wor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&gt; m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ch &gt; m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un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he most or the few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ith count nou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o has been to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most museum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he most or the lea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ith noncount nou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ve spen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least money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ge 17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PRESSING SIMILARITIES WITH SO, TOO, EITHER, NEITH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ometimes two sentences of similarity have different subjects but the same verb. We combine them using 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so, too, either and neither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So + too 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r affirmative sentenc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Schoolbook"/>
              </a:rPr>
              <a:t>Either + neither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for negative sentenc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28:07Z</dcterms:created>
  <dc:creator>sony</dc:creator>
  <dc:description/>
  <dc:language>en-US</dc:language>
  <cp:lastModifiedBy>Sara aldawood</cp:lastModifiedBy>
  <dcterms:modified xsi:type="dcterms:W3CDTF">2012-05-22T08:29:21Z</dcterms:modified>
  <cp:revision>13</cp:revision>
  <dc:subject/>
  <dc:title>Superlative Forms</dc:title>
</cp:coreProperties>
</file>