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A552-9F26-41D9-A0AF-8ABC251BC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6C98-1783-4803-BB86-1B0FCFC1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FC2D-D2AF-4025-818A-238BFA5D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7562-7707-4D70-9A0D-2578F7632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EEC6-1F23-425D-9987-E8658DA07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7292-E378-4CB9-B6D4-F8B503F6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90D7-FD52-4A86-91B7-6CAEF6B4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B5E5-E326-4739-A378-68AE56FA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F521-C46B-49DD-83DF-1738244E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BDA9-AE99-43C1-B5EA-599D72D3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7207-5281-4817-A163-249EF592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AC78-0C78-4668-9159-773A95BE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8E7B-5456-4239-AC0E-8C9108EC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10BB-DE86-4379-A836-AC750D47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078C-1FDC-43D6-8A2E-7B99B4B7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7A98-B781-4D3F-850D-E7AFDB30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DE22-FCEE-42A0-A156-6E85713A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2E63AA-1E6F-4D46-B31F-6F106D76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92D7E2-B626-4A1E-A34F-7C8090E9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B293ED-BDDC-49CB-9772-78510D92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630203-9078-4C95-BA9E-EFC1D536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40A3E5-A72F-4267-9EEE-4EB16805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15E8-C48E-43EA-BF5C-8EA1D235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7DD6C9-8C60-4969-BE52-CBE6EDCF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8A283C-3C82-4ADA-A38D-A56AD681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7BA27D-A2B8-4AF6-AED1-7DF29624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07729E-5DE9-4B91-ACC1-8F854CFA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712030-EAEE-43C7-8A85-02B57A79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7734D5-CA67-4682-A1F4-AF15D454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C72391-579F-40D2-A364-BAA190A0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E21D3-D553-468D-A372-D55CD19E1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C0EA9-87FC-405C-9201-61E43CC4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E9BA7-21A6-4881-A609-003423F5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5B54-38BB-4BE0-88CA-9F555934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88241-0ECC-41DD-A766-D620BAD3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BADD2-988A-4671-805D-7D8F1496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21931-AD7E-4F03-B914-7CE72852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5F85A-D796-4AC1-8469-C24B59F8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2955E-8429-4F7A-BA26-3E1444C5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CE78B-BD55-459D-A310-1AD8729C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4E21F-9408-4DD3-B45D-E15F0EBC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44D97-1BCE-45C7-B8A6-82CF95D2B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8445A-EEC1-4324-8066-15AB08247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2D3BD1-8046-466E-B57B-1A005DB4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7C99-E2C0-4F66-8690-B81E77BF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EC956B-C3FD-4774-BA4E-8D29C0C3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7E8E29-2A7E-48EB-999E-E7BDE545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7488BB-5D3C-4028-9DA1-F2B6A9BD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0BC953-BA35-46BE-8A59-01192F6B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4F3C45-2993-4B75-BDD4-BE2244C7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380766-9B71-4C2C-AF55-FD2A9887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2CFFB7-01B4-4636-AC81-26CA93B8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AF1C1D-55F0-412F-A32E-F60E31C0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B55D78-4583-43CD-9BE0-8106AF55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E8E376-6F0A-4C09-853C-E8E8A0851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3D0D-0303-4C76-A968-6C6AD2AC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AA7BC7-5014-4264-92C0-059CCE5C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7E7359-6A65-4357-99E1-ACAD6DDC7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714CD1-52DF-4912-8A4F-AE4FF79C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925887-55EB-4544-BE61-0F2DCE47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51B91C-B742-4C40-AD46-6080E60F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DC9C64-682A-49E0-977C-84533923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87E8BB-9FFA-49A0-B608-3A6E0156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83BE29-9AA7-4249-BB23-D07F7C17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C8CDEB-557D-48E9-9F31-D8DCDF7F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10B00C-C633-46CF-8A9A-5749E622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7D02-A971-448C-A060-63448B23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45DF0D-D24D-4391-8D13-8B4153AE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BD0A51-AF2A-46A1-8122-AD2980E20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D76BFC-DE4F-40EA-9D58-9C10121D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67FBAE-5C10-40CB-A615-04926633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69ABB3-E3BA-4227-949F-B068430D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0B2BBD-F859-472F-965E-D6BD842D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52AFCB-F729-4125-A97B-19CF339F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2B8BC4-9985-49B5-B0D0-7F74D505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4B1864-F3CA-47F9-8FF8-0545A693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6A98DD-781B-4564-ABC4-5158CB0C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4722-2E5B-476E-B778-DBCC5C06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B4A2CE-75A7-4495-80E6-2B258943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60FE2F-79DE-4E92-BB81-20F39BEF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6620CE-9160-4C29-8FC2-31046110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901B2E-E094-4C4B-9BC7-D424D31F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5BF36E-ACBF-4745-8E4A-31D782DDD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4BF9-0EF9-4CCE-9FEB-C8066DDB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F660-29E5-48C5-A31A-2C5E0CDCC154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1B90-51C8-43E3-A976-9022D4B7D106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9042-11F1-4B2A-852A-4E7391695CF0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233A-D36A-4B85-8739-A776D6203EB7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9899-9B8F-4583-B5A6-A063FAEF46FB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3B29-3FED-450D-B82B-B47C19F711AA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B2CB-B6F5-4AA6-87D0-40EBC800376D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SUPERLATIVE FORMS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O AND TO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1. Verb to be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’am Saudi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ura is Saudi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entury Schoolbook"/>
              </a:rPr>
              <a:t>Too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’am Saudi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Noura is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oo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’am Saudi. Noura is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, too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o comes after verb to be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’am Saudi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ind is Saud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75c01"/>
                </a:solidFill>
                <a:latin typeface="Century Schoolbook"/>
              </a:rPr>
              <a:t>So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’am Saudi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so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is Hind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’am Saudi.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So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is Hin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o comes before verb to be.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2. With other verb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love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ura loves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75c01"/>
                </a:solidFill>
                <a:latin typeface="Century Schoolbook"/>
              </a:rPr>
              <a:t>Too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 love fast food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Noura </a:t>
            </a:r>
            <a:r>
              <a:rPr b="0" lang="en-US" sz="2800" spc="-1" strike="noStrike">
                <a:solidFill>
                  <a:srgbClr val="92d050"/>
                </a:solidFill>
                <a:latin typeface="Century Schoolbook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oo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 love fast food. Noura </a:t>
            </a:r>
            <a:r>
              <a:rPr b="0" lang="en-US" sz="2800" spc="-1" strike="noStrike">
                <a:solidFill>
                  <a:srgbClr val="92d050"/>
                </a:solidFill>
                <a:latin typeface="Century Schoolbook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oo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o comes after the auxiliary verb (does, did, did, have, has, …..etc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love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ind loves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75c01"/>
                </a:solidFill>
                <a:latin typeface="Century Schoolbook"/>
              </a:rPr>
              <a:t>So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 love fast food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so </a:t>
            </a:r>
            <a:r>
              <a:rPr b="0" lang="en-US" sz="2800" spc="-1" strike="noStrike">
                <a:solidFill>
                  <a:srgbClr val="92d050"/>
                </a:solidFill>
                <a:latin typeface="Century Schoolbook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Hind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love fast food.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So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92d050"/>
                </a:solidFill>
                <a:latin typeface="Century Schoolbook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Hind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o comes before the auxiliary verb.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ITHER AND NEITH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1.Verb to be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’am not America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ura isn’t America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entury Schoolbook"/>
              </a:rPr>
              <a:t>Either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’am not American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Noura isn’t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either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’am not American. Noura isn’t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either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ither comes after verb to be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’m not America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ind isn’t America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68c4"/>
                </a:solidFill>
                <a:latin typeface="Century Schoolbook"/>
              </a:rPr>
              <a:t>Neither</a:t>
            </a:r>
            <a:r>
              <a:rPr b="0" lang="en-US" sz="2800" spc="-1" strike="noStrike">
                <a:solidFill>
                  <a:srgbClr val="3668c4"/>
                </a:solidFill>
                <a:latin typeface="Century Schoolbook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’m not American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 neither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s Hi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’m not American.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Neither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s Hi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either comes before verb to be. No “not” after neither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2. With other verb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don’t like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ura doesn’t like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entury Schoolbook"/>
              </a:rPr>
              <a:t>Either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don’t like fast food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Noura doesn’t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either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 I don’t like fast food. Noura doesn’t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either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ither comes after the auxiliary verb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don’t like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ind doesn’t like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68c4"/>
                </a:solidFill>
                <a:latin typeface="Century Schoolbook"/>
              </a:rPr>
              <a:t>Neither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don’t like fast food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 neither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does Hin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don’t like fast food.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Neither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does Hin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either comes before the auxiliary verb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Superlatives compare three or more people or things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84000" y="1341000"/>
            <a:ext cx="825012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One syllable adjectives and adverbs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- Add –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est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t the end of the adjective/adverb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Use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before the superlativ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big) Sydney is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he biggest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ity in Australia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hard) I think my friend works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he hardest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sweet) My students are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he sweetest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tudents in the world.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wo- syllable adjectives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f the adjective ends in –er or –y usually add –es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(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riendly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y brother is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 the friendliest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boy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xpress the opposite idea with the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least + adjective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y neighbor is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the least friendly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wo- syllable adjectives ending in –ful :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We add </a:t>
            </a:r>
            <a:r>
              <a:rPr b="0" lang="en-US" sz="3200" spc="-1" strike="noStrike">
                <a:solidFill>
                  <a:srgbClr val="00b050"/>
                </a:solidFill>
                <a:latin typeface="Century Schoolbook"/>
              </a:rPr>
              <a:t>the most + adjectiv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3200" spc="-1" strike="noStrike">
                <a:solidFill>
                  <a:srgbClr val="e75c01"/>
                </a:solidFill>
                <a:latin typeface="Century Schoolbook"/>
              </a:rPr>
              <a:t>the least + adjective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(stressful)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nding flights is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the most stressful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art of travel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(beautiful)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y friend is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the most beautiful girl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Other adjective and adverbs: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at have more than two syllables: we add the most / the leas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pular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otball is </a:t>
            </a:r>
            <a:r>
              <a:rPr b="0" lang="en-US" sz="3200" spc="-1" strike="noStrike">
                <a:solidFill>
                  <a:srgbClr val="00b050"/>
                </a:solidFill>
                <a:latin typeface="Century Schoolbook"/>
              </a:rPr>
              <a:t>the most popular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port in the U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requently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otball is </a:t>
            </a:r>
            <a:r>
              <a:rPr b="0" lang="en-US" sz="3200" spc="-1" strike="noStrike">
                <a:solidFill>
                  <a:srgbClr val="e75c01"/>
                </a:solidFill>
                <a:latin typeface="Century Schoolbook"/>
              </a:rPr>
              <a:t>the most frequently watched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port on TV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rregulars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ood &gt; be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ad &gt; wor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ar &gt; farthe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ttle &gt; lea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ll &gt; be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adly &gt; wor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ny &gt; mo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uch &gt; mo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Nouns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Use </a:t>
            </a:r>
            <a:r>
              <a:rPr b="0" lang="en-US" sz="2800" spc="-1" strike="noStrike">
                <a:solidFill>
                  <a:srgbClr val="e75c01"/>
                </a:solidFill>
                <a:latin typeface="Century Schoolbook"/>
              </a:rPr>
              <a:t>the most or the fewest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ith count noun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ho has been to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he most museum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Use </a:t>
            </a:r>
            <a:r>
              <a:rPr b="0" lang="en-US" sz="2800" spc="-1" strike="noStrike">
                <a:solidFill>
                  <a:srgbClr val="e75c01"/>
                </a:solidFill>
                <a:latin typeface="Century Schoolbook"/>
              </a:rPr>
              <a:t>the most or the least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ith noncount noun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’ve spent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he least money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age 176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PRESSING SIMILARITIES WITH SO, TOO, EITHER, NEITH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ometimes two sentences of similarity have different subjects but the same verb. We combine them using </a:t>
            </a:r>
            <a:r>
              <a:rPr b="0" lang="en-US" sz="3200" spc="-1" strike="noStrike">
                <a:solidFill>
                  <a:srgbClr val="0070c0"/>
                </a:solidFill>
                <a:latin typeface="Century Schoolbook"/>
              </a:rPr>
              <a:t>so, too, either and neither</a:t>
            </a:r>
            <a:r>
              <a:rPr b="0" lang="en-US" sz="3200" spc="-1" strike="noStrike">
                <a:solidFill>
                  <a:srgbClr val="0070c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entury Schoolbook"/>
              </a:rPr>
              <a:t>So + too :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r affirmative sentence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entury Schoolbook"/>
              </a:rPr>
              <a:t>Either + neither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: for negative sentence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6:28:07Z</dcterms:created>
  <dc:creator>sony</dc:creator>
  <dc:description/>
  <dc:language>en-US</dc:language>
  <cp:lastModifiedBy>Sara aldawood</cp:lastModifiedBy>
  <dcterms:modified xsi:type="dcterms:W3CDTF">2012-05-22T08:29:21Z</dcterms:modified>
  <cp:revision>13</cp:revision>
  <dc:subject/>
  <dc:title>Superlative Forms</dc:title>
</cp:coreProperties>
</file>