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7F6-3BFD-42B6-99F9-F5B2D170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209-162A-4F10-89E6-D93C9966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085-4BAF-4602-8E7F-E7DA96D9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C13-752E-4415-B734-DE43C274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3812-0526-4D88-96AC-2A471465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D0A-0B1A-4587-BC07-932B49DF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22A7-5B1D-43EC-BEDD-21CD2C0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7BC3-CDA7-480F-995B-23540890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0699-4D83-43C4-AAF3-8B6BECA5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ADBF-6CAB-4846-ABE7-8624B391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C764-9737-4A82-B7B9-B58A005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45A-ED0F-494B-81FE-D85C970A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743-3062-4034-A0B4-55AB1BE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AEE1-FBA9-4BF4-892B-70E285E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CA61-6EDE-4DBC-A2CA-7E19A273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C5D4-091E-4618-8DD8-E34D8927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1625-4E2E-4156-9269-73187238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6A62E-966F-4A91-963A-A4DA0BAF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15CFC-BE47-4D46-B92D-2A97A7F6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A450A-7443-4882-A444-5A0681BA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D4865-03B6-4299-B325-AE4FB61B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13EB3-4AFD-4585-9F1A-7F9FF56C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C25-A70F-416F-B891-93EC084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86A66-6CB1-4E09-AD5E-EEDD19F7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D6ADE-C849-4027-AF2E-BDA17F88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67B10-0BDB-4DC5-9B5D-9444270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33D49-386A-426D-9D74-DB3261C5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205CD-8D46-4CD2-8604-125AF827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7DECD-517D-4CC5-B8F1-09E42752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4AC26-55BF-4D15-8FB1-3BAB6EF6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5163-50C1-458C-91CA-77BA5A8D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2EFF-3E9B-4EA3-9164-8245BDB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D08A-3B46-470B-999B-2FE45262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E3C-6163-4BF8-AE9C-E9603BB9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958E-7200-415B-A8AB-306B19D3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19E6-EF67-4638-9CF4-B7F81A4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0C27-8C2F-439E-A20A-B9DDA544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92F3-90E2-4F7E-B09A-2B4D6678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84EC-8561-4AB9-B0E8-9F82E4C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3311E-A917-4DD4-B546-645DC85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33C4-B839-44A6-9FA2-2FE7E06A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1347-C8C1-4A2D-9445-11ACE2E3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F793-0264-437B-91F8-F5B9C2DB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0F18D-6009-496F-9BF8-F87C4873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099-FCF6-4355-9788-867EA5F5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1BAF1-38EC-467B-9761-4B960A87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3869E-8E0F-4FB7-95C0-571E9C1D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93931-45FC-4E12-8D9C-F48111A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7DCD6-2713-408C-8827-C2A476CF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AE757-2D90-48E8-9F6D-DEFAA915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B9B7F-FF8C-40F5-8EB6-73A57F05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E4DF0-B1FB-4117-AAC6-470307F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ACE11-C5F9-49C8-A239-F4E60952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19445-3C75-4FB8-9837-02BC4DEC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DFF89-444B-4A23-916D-C35725C4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FEF-6759-4FCF-B37C-52AB0BAF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57C39-045A-42C9-893C-D8A02251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B7C25-4C1F-4123-9E9A-C71EAF45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EE09CF-4CD8-4CB8-B431-D7B76E1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C6F9C-597A-4349-B24C-25A9B089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1804A-9D34-4C17-AA60-333818E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FDF8B-420B-4FA5-BB8D-2B0FC8C1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25290-1994-49BC-8D8A-7F986018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FFEDA-8439-492C-A934-045CDD6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34AFF-F1DE-4251-90D0-C9D301D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D7CBD-EA4D-4072-B751-22A6E83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F46-50E6-4E4C-9C52-06B88C3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281A9-BAC3-4142-8335-B08AAF1D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3A31E-1C69-4C2B-971F-130A6BFA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6AFB8-709F-4CBB-9175-92DDFF00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9AFF4-D663-441B-9930-B1A72A6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9CCBE-0A6E-47A5-A7C1-D14E2A52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6FE84-A311-433D-851E-8C6616C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D7BFD-81B0-46BB-8873-1625DB2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42689-6042-4909-A4DB-8F0826DD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70186-3709-4879-9C99-64658255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D54C0-19CC-4874-8C59-B44359DF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064-782C-47A8-9114-ED47FEA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2EBEA-6ACC-4459-89AA-3A74562D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B3BAF-524C-49BB-965B-89A81F94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AD3BF-6F0E-406D-9DED-8F13BB3F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31AA5-908A-4FA8-A9EA-B46083F2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EE9F6-63C3-4939-9EEA-E77059BE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B46-8D4D-4766-838A-8F383FD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6038-9262-4501-9001-A5DACF8BC97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09D-F0B1-4177-8B4E-F2C46FEC1BA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25BD-4AF7-458C-AE37-F1F4CB0EA32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015-B338-4928-B5D9-08DC955602F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7077-DDAC-4ED5-B830-1443FE202C5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DA8D-0D6D-4BEC-88B6-9B4D5E592C9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067-1BC7-4767-A473-8CEDF8700B5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UPERLATIVE FORMS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 AND TO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 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To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Noura is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, 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 Sau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verb to be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.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the auxiliary verb (does, did, did, have, has, …..etc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the auxiliary verb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ITHER AND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no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n’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.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m no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n’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verb to be. No “not” after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I don’t like fast food.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Superlatives compare three or more people or thing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4000" y="1341000"/>
            <a:ext cx="82501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e syllable adjectives and adverbs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Add –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 the end of the adjective/ad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fore the superlativ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big) Sydney i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bigg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ity in Austral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hard) I think my friend work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hardes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sweet) My students ar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sweet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udents in the world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f the adjective ends in –er or –y usually add –e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iend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brother i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the friendliest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 the opposite idea with the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least + adjective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neighbor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least friendly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 ending in –ful 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e add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+ adjectiv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least + adjectiv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stress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ing flights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stressful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rt of travel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beauti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friend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beautiful girl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her adjective and adverb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at have more than two syllables: we add the most / the lea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popular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in the U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quent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most frequently watched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on TV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rregular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d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 &gt; wo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r &gt; farth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tle &gt; lea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ll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ly &gt; wor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ch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un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few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o has been to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most museum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lea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non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ve spen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least mone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1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RESSING SIMILARITIES WITH SO, TOO, EITHER,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metimes two sentences of similarity have different subjects but the same verb. We combine them using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so, too, either and neither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So + too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affirm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Either + neithe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for neg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28:07Z</dcterms:created>
  <dc:creator>sony</dc:creator>
  <dc:description/>
  <dc:language>en-US</dc:language>
  <cp:lastModifiedBy>Sara aldawood</cp:lastModifiedBy>
  <dcterms:modified xsi:type="dcterms:W3CDTF">2012-05-22T08:29:21Z</dcterms:modified>
  <cp:revision>13</cp:revision>
  <dc:subject/>
  <dc:title>Superlative Forms</dc:title>
</cp:coreProperties>
</file>