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77C6-A0D2-4F0C-9B61-678F5ADB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A30-9B71-4B5F-A17A-B5C34DF63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2A97-3AF4-4209-9A82-8B91F40339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47E3-5A40-43D3-9CDC-065C7761E9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E5E7-D8E5-43BF-A8F8-6A6C07584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D75-F398-42F1-924E-5CC7AF917F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F7E9-6995-41D1-BDAA-D7A2CAE3B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05E7-CBA6-4332-9856-F06BE15055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ADC1-80B4-431B-AD82-CF9EC3465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6E42-F1B6-4C49-B7B5-550ED5C85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A1E-E5F4-4B35-BF1D-6FC7C9BE90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034B-77CD-40C7-AFAE-F27347DF8B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9EB2-6825-4672-BFD2-8E825B5E22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56A-6954-4777-A37B-42A6EA3CC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F261-C2E0-4208-9EA4-475941C86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63A0-569B-4019-9ACD-089FDCF1EB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025-5735-4296-B130-F33A4FC77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3C10-C8BD-4A09-B80E-8B40884F95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A98B-B8C0-4862-86EF-2A591EB18F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BFA7-BE82-4A49-9D44-33B6D2E8FB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C924-B141-40FB-9ECB-DA2C94C5E5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7902-DDA5-4C3F-A076-D548A844D4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7949-EB37-4307-BD00-FD61255599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973-C3A4-4BE7-A0EA-EDCF5ADB9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4287-0F1F-4F14-AD91-BEC2330E69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05ED-6BA6-4838-858E-10645EDE6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909A-6F9D-45B0-BF86-48F76A2CF9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6D2E-CE10-4B99-B1F9-D5EC372A0F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EF15-5E4A-47D1-8B69-094EB57C1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716-E9F2-4CD0-B188-ED6F7B8B47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DDC-0807-45D7-9618-852F56BCE2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7E0D-8A3D-4377-A175-28773F65B0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66C1-8C75-41B6-B77A-7A8E660E63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DEE-69CB-4561-B3E5-F7B8638E17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BF7-063F-4A45-A793-04A129BB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622-6D01-4F8F-8C97-D023C7C8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86A-3E44-4E2F-A611-400C62E0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50C-FC1C-4B6E-A52E-C58EF3EA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35E8-6454-48D5-8059-8D5B8433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641F-16D0-438F-B5ED-DC6F7DE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E14C-622C-4CAB-8848-940A33C8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4CAF-6A6A-4CC1-8A91-2828AF84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061E-4F2C-4E18-95BB-22C8612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B9A3-35BD-4349-8144-80CE9D00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34EF-A81A-46FB-855D-1599671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E19-9EEC-476F-87AB-472CA7E4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201A-4A76-4145-BDFC-FEBE8F1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0CE-2431-4CF2-9CDE-90F5D1F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EC93-F1BE-49D3-972F-A5D9F528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9C02-6A39-45CB-8B40-5F193045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92A1-76F6-4C80-AF08-D0D61B58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707-C666-4621-BD0B-6E863E2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8F5-8AC2-4800-9735-9AB03C2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C6B-F56D-4467-AD05-11E82C6E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730-6066-445D-B9C6-B3CC6F07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39D-B86C-444D-AC23-9A778807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9A3-DDE3-4924-A268-297A6EC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8FC-2995-4EB1-9B9B-FE493CD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9A6E-00C0-4EC7-A501-7DFEB46CA6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5B2E-6237-4DF4-8E97-8E31A6AE0C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1:24Z</dcterms:modified>
  <cp:revision>163</cp:revision>
  <dc:subject/>
  <dc:title>Chapter 8: Major Elements</dc:title>
</cp:coreProperties>
</file>