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EB15-6BC5-4AA7-AA0A-F120E4CFD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EA29-9EDA-4063-8226-4262FCC1F4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0693-5759-4C31-80AA-5013E2E6CA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9D61-8A5B-4B33-802A-992ABC764E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6059-01B6-4FC3-A587-CB2D05AE1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74C3-C410-4E6D-8E3C-70C38DC928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C4A-6D9A-4B67-9BA4-78AE419FAE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4CA6-7D35-4310-BF4F-36249D9C53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DB9C-9996-4576-A0FD-7965779130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7667-3845-438D-A77E-789F28158E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9D12-75E1-4B15-9911-CEFAC4D6B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9164-3638-4D6F-B5D9-33CE190EB4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505C-850C-4530-AD65-4E6DE3B18A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2A44-E3D8-4D63-B69D-D182B8CEAF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C691-2D12-4958-8427-A4538A9243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E04D-A47C-4506-9C30-0FFA8A956E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EC26-C71D-4CBD-9AA6-081E59021F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4D3-0946-4825-A8D9-B0FA268921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EE71-B615-4E42-BA75-9C2DFDEA18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CBFA-114F-48AE-8491-A66DB3EA52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EB19-FFB8-4B96-B692-D1D01DF520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443-4D0F-410F-B2A5-48C16A1585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0B3C-3FA3-42BD-89A4-57A3B3B440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8102-D244-4854-AC7E-3799E21C28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5D9D-1471-4F7E-BC21-A6F66A2EE1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3C36-BCB3-4135-B8BD-A98A60581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98E6-2EC2-4808-B994-8F8C681160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6C80-67EB-476E-AD50-84CD334AA8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1488-72F0-4DE7-8F84-54DE4F3B76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5651-8E3A-4240-B60D-446B63B0D5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819D-42D1-4788-A77B-95045C05B4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7AA4-8830-4AC6-94A5-1FFD3648C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2025-9AFB-4807-9113-A0FE208BF0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C32B-4B75-49EB-8DFD-F00CF2C83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A1E-7F41-4F34-9AF5-84ED640C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589-F456-4B14-BF75-6ABA24F9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15B-C0D4-4A1A-B78E-25786DC7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840-D909-4144-A07E-5488ED0C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F5D3-079D-4DC0-A830-B5482812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F339-33BE-47BF-8437-CE146140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17CC-A628-40B4-9CDD-6357868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07B9-AD84-4B6C-A492-2BCE273C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1B48-5F46-4B7B-983D-AF790B85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B2CD-FEB3-42C8-AC0C-52B791DE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99B1-F61C-4AAE-995D-69038F29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1FC-B94D-4C44-85A9-825C8D76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86F8-8253-4F26-BA2E-51F1494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8DAC-3517-45B4-A123-2A7976E5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B70B-5985-4B53-AB03-B4755112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EB0A-D233-4368-BC8D-40927F15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A2E8-BE16-432F-BD36-D6304E3E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056-6384-4C19-B415-C5B4FBA2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21B-8C6C-4E31-A006-87FE6A1F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5CB-3E39-4C93-81DB-89C4A8E6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325-BB47-4B04-80F5-13AEFAC7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80B-BA10-4C4E-BF40-05C2047E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318-B2E1-4B6D-9C07-6E7FB28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753-FCCC-459B-86EA-541EBC16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3ACA-67BE-4157-A7F0-C4742D07BC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FC99-B598-495C-B234-BA9FD7DD29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-D Point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l 3-D elements yields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1:24Z</dcterms:modified>
  <cp:revision>163</cp:revision>
  <dc:subject/>
  <dc:title>Chapter 8: Major Elements</dc:title>
</cp:coreProperties>
</file>