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3631-F78C-4144-BCE6-8D12A7408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AE22-827A-4051-AB20-5327B0AF86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86AF-5310-476A-95DF-3896C88197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4EF6-0CFB-43A4-AA32-9D9312D7D2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5F84-8551-4EFD-998A-005B1F239F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25F5-D708-4041-875D-3EC2F9E5DD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B481-DAC7-421B-8C9E-4CA0B629FE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C2B8-B442-4056-B471-16FF60B952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9253-6C03-48C0-87C5-FDAB992B82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6D60-5754-4460-A804-5B0DBBB805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426E-FAE0-4ED3-AA9F-FAA7A7440D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EC3C-85C2-4AEB-855E-671C7794DD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B9A5-1584-4A49-8294-3BA050C3ED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8F39-83EA-447B-A127-B798120F7C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6EC1-6F92-4FDB-98E5-01C262CFE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B4D7-C19B-4F9F-801E-491D91928E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8956-26C0-4184-B3C5-79C1AE8F79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356A-1C17-4325-9157-CC0ACFF0F3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F378-ABCA-44AE-B871-BE24F71B83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E549-BB5C-45E5-BDC9-0C054E440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384D-EBDC-4B8A-B046-B03750FAF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DCBD-B39A-4F7F-94C1-1A1A2B77B2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40C-D377-4FBB-8F02-FEF50F534C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CE5-48B9-428D-8A5A-44DB021606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9011-A918-49E0-A98F-481BC4428F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C6AC-3636-480E-BDC2-C188A7BA65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0CF3-DC23-41CB-B7BB-030315AE1C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8012-8326-455E-9787-5FCB20DFD0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EA13-32FC-4F40-A4E0-F8AF10D6E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ECD-6B4B-49E3-BC4E-D2AF02DFC1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E04D-855C-4CC5-9A91-AC818C2C3F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6190-16B9-42A9-A8A4-FF37BFAAE5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3A84-4618-4E55-AE9B-01A223C57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1AA3-A1C5-4417-8679-1E8FB633EC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309-3D57-4A9B-B69E-DF356D31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841-6E43-4440-B030-4C04DA9E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92B-FBA9-43EF-8D08-F1D5ADA4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067-923A-4E08-9F8B-36D138D8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6894-28AA-40E8-B462-DF01118A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A412-FF4C-4FC1-8AB0-439428A8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03BF-7594-4B1D-BADF-0E107B80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C8C4-F506-49DB-9A7F-E89E5666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41BE-58A5-4239-A05E-CBF617D4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F5F0-F92A-4EB1-9050-CBF27162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B567-21E3-412C-A199-410EB41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804-A10C-4810-B8E3-D077614C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BD78-29AE-4BA1-90C8-BED682BF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0EC6-6E7E-40FA-9ADB-6439F0B9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6F20-F533-454C-9E8B-2D6539A3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C6D8-C634-4579-97F8-9AC136FC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86AC-ADF1-4DCB-887C-6F248AF6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8E8-511D-4235-BBB5-671280C3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05C-51BB-41AE-B5C6-42E832E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E86-7CCB-40FE-9023-7EE32BEC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CB0-3758-495A-8F7B-122472D2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F12-9643-4FAD-8361-79B12F4B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1F5-5F83-491D-A7AB-03694805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52D-5088-46D8-A445-8C26548E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4514-3A87-47A4-B3AC-C88DD0933B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C0FA-B993-4F79-88A6-1AEC546408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-D Point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l 3-D elements yields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1:24Z</dcterms:modified>
  <cp:revision>163</cp:revision>
  <dc:subject/>
  <dc:title>Chapter 8: Major Elements</dc:title>
</cp:coreProperties>
</file>