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F58-8744-41B1-9977-5F3DF375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7C3-3087-4738-BED9-209CB7C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E5074-C4B3-43D9-B8BA-9CAB9E4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5753C-06B1-4520-BC03-A4E3D23F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F60B2-B389-4FB2-8282-8CB15FF1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1B4F3-996C-43E7-91CC-B13FC04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6E75E-50E1-4547-BD8D-E5CA574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12D5D-0936-4072-87D3-74910618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E9C47-8205-4E75-A86A-1DCD797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65228-1625-4E66-BE73-800E73C1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7EDD-2A33-4B2C-A0F3-4FF0ABA0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D0382-00CD-4D9B-801B-ED0A8A94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BB4-CDE0-4EBE-A5D2-FC081B52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82DF7-690A-487C-AF1D-6229835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C9081-B85B-47A4-BD6C-1BFF6B4A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28B34-7E2F-41E4-800E-AC01B2E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F6811-C706-4AF8-8A92-853F5182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CB5B0-E141-44F0-97D3-74824E9A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5A7CC-9344-4A3C-A3DC-660C56A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ED5AE-7DD2-4176-B1DA-7F94A088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494F8-1C97-44AA-B320-4F7B74F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292E8-48A1-4CCA-91B6-99F5C1D6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0B3D0-C42A-40FB-9511-F0C5E780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C58-E878-4913-AEED-4E6C4FBB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BD279-7A96-4065-9FE9-8F52DED2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8E455-67F0-42E2-93D0-E7006C86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D553D-014B-4783-9865-71BBCCAC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13FA0-6843-426B-8BDB-80B4D056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5FE84-607B-43A8-BB66-9DBC44F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37410-65B5-49FF-B073-A1E344BF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3D9CA-4B8E-40EE-9AF5-102EB07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72490-B778-4200-9650-298C2AC4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B9FD1-8CE6-45B9-B5C9-C9261E6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F7CD4-224E-4404-A909-FBBB779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57DC-77B2-4DF5-A734-5F191084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CA664-B9D5-4408-AFA3-137FC255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95DFF-E96C-4924-9B04-D08B0219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41F6C-80C9-4FC5-9A8B-8F265064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6E590-26E2-46EE-B816-B80A2B75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C9875-84E2-4841-BB2F-34456817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45CB2-3344-4E39-B973-03AA0013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181BA-90AD-48A0-9E79-607C9AC1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CE33E-420A-4A0D-BA80-7F8E2C20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6C536-4E3B-47DE-8E85-1F642829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07440-B9D9-4A03-823D-D6BAA61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8282-CCBF-41E4-AF8C-EDB22544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7B10B-1970-41A0-8539-917D448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F0D95-9B37-4D11-AF6C-D95CD5C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FBD12-A0D4-4232-9D9B-1768F7C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D8300-32AD-49CF-8F2C-E2F03971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B6143-6D80-4FF5-9819-0169CE14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A345-DC54-4109-BC56-2CCE385B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77CF-03EE-4FDA-A1D0-9C50F988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86D6-8DE7-48F3-BB36-DCEB0D8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6DB3-5E14-4155-9F55-F114B1B2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8CA1-876B-421F-BF1A-C8B73116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EDF-4F30-4324-BF0E-C059FD86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948F-AA1F-449A-8343-0F7AAA2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66BA-48DB-4387-87EE-5C36D553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7F9F-336A-4B3F-8231-E0E363D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776F-64FD-4969-B513-9F72331E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651-2ECA-4592-BE7A-331237D7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B868-39A4-4791-927B-487366AF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AF38-6869-4C10-8FCE-FC12A0BF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DCD2-0C98-4522-AC1B-36A99667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8942-9C0C-4446-9DD2-B815C8E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4ED4-9283-4E35-BFA7-BD2FD9B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AE0-CC29-43A8-96DE-1D8E320F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A7D6-22C4-4D82-A4F4-F3DAA4E4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519A-3F9E-43CE-8B25-1FC3965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F845-E872-4E83-8DF5-1565392A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FC7C-F643-41AF-903C-B1E3829F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0D1A-604C-4AA5-8F4D-8A8458F3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580F-878B-4FA6-A54D-CEE3E437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3D74-4E7F-4002-BC2A-8247F5F5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132F-C7A7-4BE2-B53C-51FDC9EA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8EE9-C07D-4B68-8DA5-F0BED7FF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B428-B773-4BCC-9D11-3CF2A49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50E-6A0D-4DA6-8CF8-1E6C03A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B611-3FDD-4641-9FA9-846B59A8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CF21-D0FC-45E4-8E8B-79A08EE5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DF61-6593-4163-A04D-599C50D9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86E5-7AF0-4016-9FA4-E054C4E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15E4-F49C-4B4F-85AB-AE42DBF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9654-94E0-48EF-A739-E1AB358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7BD3-467F-4633-B2D5-19EB9AE4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BE70-6BDC-4D5C-82E3-E8A58096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293C-F317-4A2F-ACC1-EC2306A2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3AA5E-29EC-499F-81EA-57E3ED56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3C5-5061-4AFD-9B48-A29D383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BA8C-EAA2-40C1-B985-8EFF155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B327C-4D43-465B-ADB1-93C4476F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8D1A-91D2-4258-A8C5-467E4704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C77DF-4D6F-441A-9996-D40E1586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1C723-D411-4BAD-849B-1CD1360E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B9FFC-089B-416F-99A3-C02CF06D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04FB-DF4F-47AD-B7FE-B1EAAB7F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6EFA-3609-4186-A62B-3F7BB86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87070-5315-4312-AE79-F54DDCF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5E53-A010-4950-9B1A-515D5F35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B6A-FDA7-43F8-902A-A8416D0A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C7A4-9057-406C-BEC1-6CF487A2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0679-F56F-443D-934C-6B176FC3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71C2-FDC6-4C28-8816-C24FBD7E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0F800-5B7E-476B-A507-35726A2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F941-30D7-44A9-BB14-D8B21316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04AED-2D7E-4495-9DAF-E4A8024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4136-8A55-426A-A4D4-8C72A47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D3308-6268-4167-9E01-30DEA2F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761A-A106-487D-AE7B-E395E8F4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97BA1-BE18-4D30-A4B1-717B7206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5E1-8B0E-49D1-A5FC-CCD1D0F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9B498-EC48-419E-937D-CC727EC1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0246-F9E0-4D75-A037-46EB74BF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CFCC-93C7-4008-BC3E-9D121DED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EC668-391D-49DD-965A-9F8FBC91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3C81B-2866-4D55-9323-7647E8BA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33208-7DC6-489C-AA41-EC15D1DF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65C4B-3595-435F-9CE3-663BB709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B535-6BFC-47CD-812E-41D07085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9C25-131D-4F64-8C3B-FC82E03F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58DF-909F-4637-8FA7-ADDE43A3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8E4-F0E7-46B7-8625-FD44385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212C-36A8-4BEB-B896-C78CF32B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79E52-A8F0-4CD6-B44C-5912AAC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2CE5-E5F2-4929-8521-334D19B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101C-3530-4649-8961-E5AD05FB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F93D-6A0F-4BAA-9676-EE8F38FF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A83B-2E0A-4FF6-AA29-76F0EA60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29BF-DCD1-44C8-8AEA-8FB703A0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26EC-2D6D-46D4-87BA-1B7DC53C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BF0D2-97E4-4257-87C0-82360829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4BF72-259A-4EDD-902D-FEFE840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EDC-FA76-41AC-A7B3-6201932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E396C-E853-4530-A7AB-C191D8DA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238A4-C1D2-44AF-8B3B-580C3D3F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38AF-171D-4354-8DEA-40C5107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FD2C5-E504-49D8-9F23-E3E8E78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283F6-7155-402D-8AB9-97F8E260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45023-960D-4DBC-878E-8D707828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B75FB-080E-4D1F-ABF8-608D5E3F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35A45-0790-4D74-8BE2-21174116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338B5-4B71-479E-BC54-6CBD6B3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A2F3-D8F6-45B4-B839-B3399037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63B4-A317-40A9-9BB9-65C9DBDE01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886-C182-437C-8BBF-4B802DD06E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D301-8FFE-45EE-931E-60F046686A9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6861-ACDC-4957-AF30-2742794A5C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94F5-2D65-42BD-9CB9-78A2802DA0C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012A-CBBA-42C1-84BF-B4E142A57A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6CB4-206B-4690-A19E-4BFA8D1B968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1289-9948-4E2E-A490-DB74776DD8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4847-8575-4AB5-8878-5E6682E527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265-C379-4F9C-845F-FAB18A3B97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CB58-5357-412E-9663-510C9C54B3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213-69E3-465B-9E74-C0C29E5B02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Citric Acid Cycl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tep 5: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  <a:ea typeface="Candara"/>
              </a:rPr>
              <a:t>Conversion of succinyl-CoA to succinate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Reversible reaction catayzed by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uccinyl-CoA synthetase (succinate thiokinase)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Perpetua"/>
                <a:ea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Results in the formation of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G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and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CoA-S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Nucleoside diphosphate kinase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interconverts GTP and ATP by a readily reversible phosphoryl transfer reac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GTP + ADP              GDP +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549" name="Straight Arrow Connector 4"/>
          <p:cNvCxnSpPr/>
          <p:nvPr/>
        </p:nvCxnSpPr>
        <p:spPr>
          <a:xfrm>
            <a:off x="1980720" y="4266720"/>
            <a:ext cx="686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550" name="Picture 5" descr="Screen Shot 2012-03-02 at 2.25.41 PM.png"/>
          <p:cNvPicPr/>
          <p:nvPr/>
        </p:nvPicPr>
        <p:blipFill>
          <a:blip r:embed="rId1"/>
          <a:stretch/>
        </p:blipFill>
        <p:spPr>
          <a:xfrm>
            <a:off x="2057400" y="4876920"/>
            <a:ext cx="5207040" cy="1676160"/>
          </a:xfrm>
          <a:prstGeom prst="rect">
            <a:avLst/>
          </a:prstGeom>
          <a:ln w="38160">
            <a:solidFill>
              <a:srgbClr val="ef8c6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idation of Succinate to Fumarat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cinate is oxidized to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fumarat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y the flavoprotein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</a:rPr>
              <a:t>succinate dehydrogenas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CA cycle enzyme contained within the mitochondrial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ults in the formation of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FAD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Title 2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Screen Shot 2012-03-02 at 2.31.26 PM.png"/>
          <p:cNvPicPr/>
          <p:nvPr/>
        </p:nvPicPr>
        <p:blipFill>
          <a:blip r:embed="rId1"/>
          <a:stretch/>
        </p:blipFill>
        <p:spPr>
          <a:xfrm>
            <a:off x="2286000" y="4495680"/>
            <a:ext cx="5122800" cy="1447920"/>
          </a:xfrm>
          <a:prstGeom prst="rect">
            <a:avLst/>
          </a:prstGeom>
          <a:ln w="2844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335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7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dration of fumarate to mal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versible hydration of fumarate to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 L-malat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catalyzed by 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fumarase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8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xidation of malate to oxaloacet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the last reaction of the citric acid cycle, 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NAD-linked L-malate dehydrogen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talyzes the oxidation of L-malate to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oxaloacetate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nzyme Control of the TCA Cycle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57" name="Picture 3" descr="Screen Shot 2012-03-02 at 3.52.05 PM.png"/>
          <p:cNvPicPr/>
          <p:nvPr/>
        </p:nvPicPr>
        <p:blipFill>
          <a:blip r:embed="rId1"/>
          <a:stretch/>
        </p:blipFill>
        <p:spPr>
          <a:xfrm>
            <a:off x="2362320" y="1523880"/>
            <a:ext cx="4611600" cy="5081760"/>
          </a:xfrm>
          <a:prstGeom prst="rect">
            <a:avLst/>
          </a:prstGeom>
          <a:ln w="2844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nhibitors of TCA Cyc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53352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Fluoroacetyl CoA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Cambria"/>
              </a:rPr>
              <a:t>-</a:t>
            </a: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It inhibits aconitase enzym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-It combines with oxaloacetate giving rise to fluorocitrate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Malonic acid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Cambria"/>
              </a:rPr>
              <a:t>-</a:t>
            </a: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Inhibits succinate dehydrogenase (competitive inhibi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rsenate and Mercury 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-Inhibit Pyruvate dehydrogenase and α-ketoglutarate dehydrogenase complex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- By reacting with sulphydral group of lipoic acid leading to accumulation of pyruvic lactic acid and α- ketoglutarat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roducts of Kreb</a:t>
            </a:r>
            <a:r>
              <a:rPr b="0" lang="ja-JP" sz="3600" spc="-1" strike="noStrike">
                <a:solidFill>
                  <a:srgbClr val="0000ff"/>
                </a:solidFill>
                <a:latin typeface="Cambria"/>
              </a:rPr>
              <a:t>’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 Cyc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2 CO</a:t>
            </a:r>
            <a:r>
              <a:rPr b="0" lang="en-US" sz="2400" spc="-1" strike="noStrike" baseline="-25000">
                <a:solidFill>
                  <a:srgbClr val="191919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3 NAD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1 ATP                    Per 1 Acetyl CoA  (double for 1 glucose) 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1 FADH</a:t>
            </a:r>
            <a:r>
              <a:rPr b="0" lang="en-US" sz="2400" spc="-1" strike="noStrike" baseline="-25000">
                <a:solidFill>
                  <a:srgbClr val="191919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TP Yield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Each NADH yields 3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Each FADH</a:t>
            </a:r>
            <a:r>
              <a:rPr b="0" lang="en-US" sz="2400" spc="-1" strike="noStrike" baseline="-25000">
                <a:solidFill>
                  <a:srgbClr val="191919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 yields 2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2" name="Left Brace 4"/>
          <p:cNvSpPr/>
          <p:nvPr/>
        </p:nvSpPr>
        <p:spPr>
          <a:xfrm rot="10800000">
            <a:off x="2437920" y="1523520"/>
            <a:ext cx="709560" cy="1752840"/>
          </a:xfrm>
          <a:custGeom>
            <a:avLst/>
            <a:gdLst>
              <a:gd name="textAreaLeft" fmla="*/ 453240 w 709560"/>
              <a:gd name="textAreaRight" fmla="*/ 709920 w 709560"/>
              <a:gd name="textAreaTop" fmla="*/ 25560 h 1752840"/>
              <a:gd name="textAreaBottom" fmla="*/ 17272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8969"/>
                </a:lnTo>
                <a:cubicBezTo>
                  <a:pt x="10800" y="9473"/>
                  <a:pt x="5400" y="9977"/>
                  <a:pt x="0" y="9977"/>
                </a:cubicBezTo>
                <a:cubicBezTo>
                  <a:pt x="5400" y="9977"/>
                  <a:pt x="10800" y="10481"/>
                  <a:pt x="10800" y="10985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ummary of total energy yield of  complete oxidation of 1 glucose molecule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779400" y="1949400"/>
          <a:ext cx="7678800" cy="3915000"/>
        </p:xfrm>
        <a:graphic>
          <a:graphicData uri="http://schemas.openxmlformats.org/drawingml/2006/table">
            <a:tbl>
              <a:tblPr/>
              <a:tblGrid>
                <a:gridCol w="2146320"/>
                <a:gridCol w="1339920"/>
                <a:gridCol w="847800"/>
                <a:gridCol w="334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enzyme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TP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ource of 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olysis –Stag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rylation of glucose and fructose uses 2 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olysis –Stag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bstrate level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yruvate metabo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CA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bstrate level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40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D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otal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ntro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5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so called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citric acid cycle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Krebs cycl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(after its discoverer, Hans Krebs)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CA cycle is a series of reactions catalyzed by different enzymes in which acetyl CoA is oxidized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            and energy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occurs in the mitochondrial matrix aerobicall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enzymes involved in the TCA cycle are present in the mitochondrial matrix either free or  attached to the inner surface of the mitochondrial membran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6" name="Picture 3" descr="Screen Shot 2012-03-02 at 12.40.42 PM.png"/>
          <p:cNvPicPr/>
          <p:nvPr/>
        </p:nvPicPr>
        <p:blipFill>
          <a:blip r:embed="rId1"/>
          <a:stretch/>
        </p:blipFill>
        <p:spPr>
          <a:xfrm>
            <a:off x="6705720" y="685800"/>
            <a:ext cx="1474560" cy="192420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7" name="Picture 4" descr="Screen Shot 2012-03-02 at 12.50.56 PM.png"/>
          <p:cNvPicPr/>
          <p:nvPr/>
        </p:nvPicPr>
        <p:blipFill>
          <a:blip r:embed="rId2"/>
          <a:stretch/>
        </p:blipFill>
        <p:spPr>
          <a:xfrm>
            <a:off x="6781680" y="3809880"/>
            <a:ext cx="2076480" cy="130032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1295280"/>
            <a:ext cx="85345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itric acid cycle is th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final common pathway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the  oxidation of fuel molec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mino acids, fatty acids and carbohyd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fuel molecules enter the cycle as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cetyl coenzym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function of the citric acid cycle is the harvesting of  high-energy electrons from carbon fu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2962080" cy="240984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1" name="Picture 5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905120" cy="180036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The citric acid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ycle itself neither generates a large amount of ATP nor includes oxygen as a reactant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stead, the citric acid cycle removes electrons from acetyl CoA and uses these electrons to form NADH and 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itric acid cycle includes a series of oxidation-reduction reactions that result in the oxidation of an acetyl group to two molecules of carbon dioxid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609480" y="4800600"/>
            <a:ext cx="2438640" cy="187020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25" name="Rectangle 7"/>
          <p:cNvGrpSpPr/>
          <p:nvPr/>
        </p:nvGrpSpPr>
        <p:grpSpPr>
          <a:xfrm>
            <a:off x="3078000" y="5541840"/>
            <a:ext cx="5883480" cy="1176480"/>
            <a:chOff x="3078000" y="5541840"/>
            <a:chExt cx="5883480" cy="1176480"/>
          </a:xfrm>
        </p:grpSpPr>
        <p:pic>
          <p:nvPicPr>
            <p:cNvPr id="526" name="Rectangle 7" descr=""/>
            <p:cNvPicPr/>
            <p:nvPr/>
          </p:nvPicPr>
          <p:blipFill>
            <a:blip r:embed="rId2"/>
            <a:stretch/>
          </p:blipFill>
          <p:spPr>
            <a:xfrm>
              <a:off x="3078000" y="5541840"/>
              <a:ext cx="58834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124080" y="5562720"/>
              <a:ext cx="57913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22e2e"/>
                  </a:solidFill>
                  <a:latin typeface="Perpetua"/>
                </a:rPr>
                <a:t>The citric acid cycle oxidizes two-carbon units, producing two molecules of CO2, one molecule of GTP, and high-energy electrons in the form of NADH and FADH2</a:t>
              </a:r>
              <a:r>
                <a:rPr b="0" lang="en-US" sz="2000" spc="-1" strike="noStrike">
                  <a:solidFill>
                    <a:srgbClr val="422e2e"/>
                  </a:solidFill>
                  <a:latin typeface="Perpetu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amphibolic nature of TCA cyc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28240" y="10666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itric acid cycle is the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ateway to the aerobic metabolism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any molecule that can be transformed into an acetyl group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ycle is also an important source of precursors, not only for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storage form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fuels, but also for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building block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many other molecules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such as amino acids,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cleotide bases, cholesterol, and porphyrin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0" name="Picture 4" descr="Screen Shot 2012-03-02 at 3.18.51 PM.png"/>
          <p:cNvPicPr/>
          <p:nvPr/>
        </p:nvPicPr>
        <p:blipFill>
          <a:blip r:embed="rId1"/>
          <a:stretch/>
        </p:blipFill>
        <p:spPr>
          <a:xfrm>
            <a:off x="152280" y="3886200"/>
            <a:ext cx="4329360" cy="252108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31" name="Rectangle 8"/>
          <p:cNvGrpSpPr/>
          <p:nvPr/>
        </p:nvGrpSpPr>
        <p:grpSpPr>
          <a:xfrm>
            <a:off x="4389480" y="4638600"/>
            <a:ext cx="4632120" cy="1670040"/>
            <a:chOff x="4389480" y="4638600"/>
            <a:chExt cx="4632120" cy="1670040"/>
          </a:xfrm>
        </p:grpSpPr>
        <p:pic>
          <p:nvPicPr>
            <p:cNvPr id="532" name="Rectangle 8" descr=""/>
            <p:cNvPicPr/>
            <p:nvPr/>
          </p:nvPicPr>
          <p:blipFill>
            <a:blip r:embed="rId2"/>
            <a:stretch/>
          </p:blipFill>
          <p:spPr>
            <a:xfrm>
              <a:off x="4389480" y="4638600"/>
              <a:ext cx="4632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495680" y="4724280"/>
              <a:ext cx="44197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his pathway is utilized for both </a:t>
              </a: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catabolic  reactions 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o generate energy &amp; </a:t>
              </a: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anabolic reactions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 to generate metabolic intermediates for biosynthesi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etabolic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1440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oxidative phosphorylatio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electrons released in the reoxidation of NADH and 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flow through a series of membrane proteins to generate a proton gradient across the membran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itric acid cycle, in conjunction with oxidative phosphorylation, provides the vast majority of energy used by aerobic cells in human beings, greater than 95%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630680" cy="217188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37" name="Rectangle 4"/>
          <p:cNvGrpSpPr/>
          <p:nvPr/>
        </p:nvGrpSpPr>
        <p:grpSpPr>
          <a:xfrm>
            <a:off x="5132520" y="3255840"/>
            <a:ext cx="3828960" cy="1694160"/>
            <a:chOff x="5132520" y="3255840"/>
            <a:chExt cx="3828960" cy="1694160"/>
          </a:xfrm>
        </p:grpSpPr>
        <p:pic>
          <p:nvPicPr>
            <p:cNvPr id="538" name="Rectangle 4" descr=""/>
            <p:cNvPicPr/>
            <p:nvPr/>
          </p:nvPicPr>
          <p:blipFill>
            <a:blip r:embed="rId2"/>
            <a:stretch/>
          </p:blipFill>
          <p:spPr>
            <a:xfrm>
              <a:off x="5132520" y="3255840"/>
              <a:ext cx="3828960" cy="16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5181480" y="3276720"/>
              <a:ext cx="37339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In TCA, the removal of high-energy electrons from carbon fuel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se electrons reduce O2 to generate a proton gradient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Which is used to synthesize ATP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549360" y="1006560"/>
            <a:ext cx="8216640" cy="59846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"/>
          <p:cNvSpPr/>
          <p:nvPr/>
        </p:nvSpPr>
        <p:spPr>
          <a:xfrm>
            <a:off x="76212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TCA Cycle Has Eigh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1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Candara"/>
              </a:rPr>
              <a:t>Formation of Citrat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Candara"/>
              </a:rPr>
              <a:t>- An irreversible reaction catalyzed by 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  <a:ea typeface="Candara"/>
              </a:rPr>
              <a:t>citrate synthas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erpetua"/>
                <a:ea typeface="Candara"/>
              </a:rPr>
              <a:t>-Inhibited by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Candara"/>
              </a:rPr>
              <a:t>ATP , NADH, Citrat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2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mation of Isoci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A reversible reaction catalyzed by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aconitase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3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xidative decarboxylation of isocitrat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The enzyme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isocitrate dehydrogen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talyzes the irreversible oxidative decarboxylation of isocitrate to form α-ketoglutarate and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Stimulated by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ocitrate, NAD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M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+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ADP, C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+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Inhibited by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DH and ATP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3" name="Title 2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  <a:ea typeface="Candar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tep 4: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Oxidative decarboxylation of α-ketoglutar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In this irreversible reaction, α-ketoglutarate is converted to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succinyl-CoA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and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CO</a:t>
            </a:r>
            <a:r>
              <a:rPr b="0" lang="en-US" sz="2400" spc="-1" strike="noStrike" baseline="-25000">
                <a:solidFill>
                  <a:srgbClr val="cc0099"/>
                </a:solidFill>
                <a:latin typeface="Perpetua"/>
                <a:ea typeface="Candar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by the action of the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α-ketoglutarate dehydrogenase complex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α-ketoglutarate dehydrogenase complex closely resembles th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PDH complex in both structure and function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Candar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serves as electron acceptor and CoA as the carrier of the succinyl group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Inhibited by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NADH, ATP, Succinyl-Co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timulated by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Candara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Title 2"/>
          <p:cNvSpPr/>
          <p:nvPr/>
        </p:nvSpPr>
        <p:spPr>
          <a:xfrm>
            <a:off x="3808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Screen Shot 2012-03-02 at 2.06.06 PM.png"/>
          <p:cNvPicPr/>
          <p:nvPr/>
        </p:nvPicPr>
        <p:blipFill>
          <a:blip r:embed="rId1"/>
          <a:stretch/>
        </p:blipFill>
        <p:spPr>
          <a:xfrm>
            <a:off x="3809880" y="5257800"/>
            <a:ext cx="5034240" cy="138600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03T06:08:52Z</dcterms:modified>
  <cp:revision>81</cp:revision>
  <dc:subject/>
  <dc:title>Slide 1</dc:title>
</cp:coreProperties>
</file>