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4AC-406C-4858-80E7-66134765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0DF-2FA8-4917-9E83-6AB2DEA5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0085E-C4B7-4950-891A-FD37CA31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5BFC1-2873-45F4-B596-F16B56DF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4AA72-4599-4051-B316-376928FD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0684E-53B7-4F0D-8631-73B717BC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3338BA-9263-4F9A-9FD9-355A85C9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1580F-8168-4CE3-B710-D370AAD3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9293C-5F24-4BF1-85BA-A7B549DE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657B0-66DD-445F-8C55-07284CB8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A30D8-CDC0-4205-87F9-51722070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14773-5262-4240-9524-E7D48234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3E3-5863-4572-8818-BE8E5002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4E319-293F-45FB-9E36-A2A23308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08220-0039-43E2-B6F1-6B09A8BA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3F49A-C49F-4DB3-99D6-A1CD2D35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FA47C-BE20-4B2B-93DC-1B198FC7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F0434-7DDF-44DD-860A-872AD229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D64E8-85F2-46B0-86E1-B91F08BE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3C6FB-2D5F-4903-9DA4-338FC2BE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DA367-F5FE-455C-9B77-12D80926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77F22-4B54-4BF8-9F87-72C04641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EB41E-929A-4A7B-BE2A-17D8E7B7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565-89BC-4019-91D5-895D75BE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3F72B-B46D-40D7-B555-6E06204F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86447-BFD5-4C72-96DD-EB037EF1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DA4BF-FB5D-4591-A6E4-930EA02E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E45B4-AD30-41A4-9F49-FCD2BCE0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9BCA5-64A3-4C29-90E8-C6626684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E5A8F-9723-460A-975A-08D808D7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C1C4F-C0EB-4DCD-A6A2-10DA95D2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8C1C5-A685-4910-A41B-76AC08CF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7D9B1-708C-4A8E-9C9F-04BEFF51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BB5A1-2B47-4ECC-BE81-A593F9FC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887C-0FF7-4CE1-834E-8113D706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3BB14-FB04-4B85-996B-3CEEB1AC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B7C9B-DC32-46DD-8120-C3790FCC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142D3-2113-41F4-B2CF-8D69F378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B0E76-4E0C-497D-8EAA-3482E93E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A9351-8F65-452E-8DD6-29B7B0E3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A158F-63EB-470E-B74C-A52280D4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F902F-7130-4BB4-8467-469CFFFD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857E2-54B5-420F-874F-C5F1E916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271A2-AA6C-4E50-823B-2A3873F4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52BC4-C3B9-47DE-AB5B-834531C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44A7-C90B-4D05-9CB4-601A036F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9DA05-8447-4E35-8D57-1F591241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36C25-1503-430D-81C9-70D585B2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8387E-61CD-4F6C-A8B6-EDBE3E47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5EDCC-2721-4104-81C3-13EA1AA3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EC1B1-BE96-4328-98B2-40407472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6450-56D1-4928-B2E6-65171917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8D02-D29B-44EA-85F4-946A057F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DC17-CBFE-41E8-BCFD-31A19CF6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20DD-6CBE-4DEC-BF63-150306C3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39C9-A9D3-47AA-B5E0-93CACE53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FEC-F93F-456A-AB9F-3C7C7017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8260-060D-48D4-AC10-8DBA475B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C74F-3782-4FFB-B8BA-F7ECCF58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FA9B-67CA-4A3F-9C61-93B4AEAB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BAFC-6D74-4368-B627-649C6244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03AC-395B-4E38-AAE8-DF00F983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1DF1D-B105-48D0-BFC8-BCBAAC35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25C3-4605-44EE-A0E5-27C188CF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FAE8-1F5B-45D2-ACCD-A851F44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7716-49D1-42E8-9588-5ACDFA47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4AD0-DE2D-4DE7-BADF-D61A39F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E88-8B92-47BE-8D84-9F187F38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5CEE-0BB8-4E47-AB4D-5E051568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904D-4E01-49D7-AA65-BA03D51F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63270-FB1D-446F-8A21-F2B24BBE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FC5E-54ED-4255-8968-A09DE91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46DF-6ED8-46F4-8952-DB61EA17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A850-D746-4BC3-8AD2-009D9A0E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FDB0-5CF0-4FD6-AD60-FC29A1A1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69BCE-4D10-4EEA-9DA2-4F518E7C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5A2E-7A57-4AFC-851F-1B2DE5DF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BE262-20D7-4077-BEB6-812A54F4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266-20EB-46CB-887C-84E3903B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E0EE2-5A6A-4829-ABA6-236CBED9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BFC2A-DF96-4993-90E7-0B047DD1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32E74-3C7F-452A-93F6-89A85DE3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FBB1-C558-4A40-A8F3-CCE31158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BDA04-3747-43BE-988F-276A61E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F741D-F0F9-4DDA-AEFF-B0D2B446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795F-AA66-4DF0-AC0A-9E65B711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BBBC9-82B3-4B85-8F08-E6BFA85F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060F-1BCF-4959-8A1B-EAAD8CE7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A72F0-B2CC-465D-8020-A5148740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220E-360C-484C-AC17-EC734659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442A2-220F-48F2-B69A-075E5CD9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544A1-F76B-4ECD-9A80-1E8968E0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32594-988E-4C59-AFA7-42B377AA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52855-FFDD-47CE-B12C-CC1BBEC1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3592-19E3-4CB7-B6B6-F3D78D31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EAD3D-4020-4692-8870-561E0B1D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0A6D9-C4D0-4497-BB45-FC83013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CEBC2-C823-4039-B100-92E31AE2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A3C1-D8F0-434E-A9F5-8FB8C385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7A78F-3B83-4280-8E1C-A6902E40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C9C-4350-4263-82F7-85453C02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38D6B-2282-4592-A76E-A0D381F1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D3FC4-FC9B-4404-9475-8B1CB41D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77BCA-D232-47AC-92DB-A481FC84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42326-54A8-49CC-8448-A10AB7E3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C908C-E419-440E-92B9-56B75437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8A35E-0ADA-4FD8-8942-A4D4EAC5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CF7F1-7088-46DA-8E75-62FD593F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8EF27-2AA5-4F3F-A7C9-EB83D130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A126B-7905-42CC-B5A6-EC0FF7CE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A91AD-4A3B-4495-ADFB-FEE2246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4D2-627F-489D-9E69-011619D4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FB689-23E2-4315-A812-26DFA8F6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1914C-921E-4BB2-8D1D-520AEC18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9B14D-5274-45CB-AF01-FE859A87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73AB5-1315-4608-BE68-7B037E51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B6081-63F6-44D8-A7F1-FB8B4B33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7DF52-7C02-41B0-9ED4-F34EE3BB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B436F-E4A2-4189-8395-F986FD4F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06597-3E8C-41EC-A3F7-60578C0F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FFD79-31E0-4673-81B2-BD8AFD76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152C2-BD99-420E-BFEE-2A2FA8FD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164-4B8F-49A3-99C6-BF733C92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36E3F-2996-4620-8B86-49E209BB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D7CD8-F978-4252-A938-8B8347E3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E85A0-51FB-46A4-9846-54B5716E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89A1A-28A0-4EA8-9454-FE9E5EA2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AA656-690A-456B-AEAA-2DA197AB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B1779-4B61-4F95-95FB-076BF8A5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92BE9-1657-4F38-8DC3-C6B5C947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9DEDF-570A-46D1-AB78-541E159B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A850A-9B93-4882-AF61-9302A388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C4B4A-E4C1-47A6-94AC-FD333751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E2A-1E7F-4653-A234-44C79711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6E00A-9BA2-45C7-A7A6-71D112008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A4EAC-D790-4C89-B739-BA37EE43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0BC37-EF01-4C79-84B5-07978A8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254A1-7AEB-450E-B4EE-2135EA4D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F2A37-947D-4385-ABF2-0A4347F9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F456E-4410-4334-88B1-8126364A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E5C6A-9ACE-4BCC-A085-C4CCC290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D6BF9-F5F8-43FF-AC92-754E3940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2FA4B-0A76-4BB2-AE26-30262043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F8C3F-963B-45E0-8C7B-A9EFDF59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FBD4-AB82-4539-AD8B-7FC2F544EE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438F-C040-4B56-8F29-0955455E1C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0FF2-3E44-43E0-A723-9E9865B5883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78A9-34F3-4D19-A3DC-FDCBB96939B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0D84-B228-4F02-ADE1-D44E515D02D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6829-9F41-49E8-848A-4B9F22A0445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1148-22D5-4EA7-9A06-29E24629994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E5E8-2EF0-417F-841F-225FFE4700A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B78D-BC15-484E-82DA-0BE53C57ECE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EC1F-59DC-4794-96AC-B9A3CEC1640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B922-F56F-44FB-9911-1E9BD54D6E7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69FE-7C06-4549-A9D3-DA6361F169E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Cambria"/>
              </a:rPr>
              <a:t>The Citric Acid Cycl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-3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10666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Step 5: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  <a:ea typeface="Candara"/>
              </a:rPr>
              <a:t>Conversion of succinyl-CoA to succinate</a:t>
            </a:r>
            <a:r>
              <a:rPr b="0" i="1" lang="en-US" sz="28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Reversible reaction catayzed by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succinyl-CoA synthetase (succinate thiokinase)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Perpetua"/>
                <a:ea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Results in the formation of 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  <a:ea typeface="Candara"/>
              </a:rPr>
              <a:t>GTP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and 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  <a:ea typeface="Candara"/>
              </a:rPr>
              <a:t>CoA-S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Nucleoside diphosphate kinase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  <a:ea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interconverts GTP and ATP by a readily reversible phosphoryl transfer reaction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: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GTP + ADP              GDP +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549" name="Straight Arrow Connector 4"/>
          <p:cNvCxnSpPr/>
          <p:nvPr/>
        </p:nvCxnSpPr>
        <p:spPr>
          <a:xfrm>
            <a:off x="1980720" y="4266720"/>
            <a:ext cx="6865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550" name="Picture 5" descr="Screen Shot 2012-03-02 at 2.25.41 PM.png"/>
          <p:cNvPicPr/>
          <p:nvPr/>
        </p:nvPicPr>
        <p:blipFill>
          <a:blip r:embed="rId1"/>
          <a:stretch/>
        </p:blipFill>
        <p:spPr>
          <a:xfrm>
            <a:off x="2057400" y="4876920"/>
            <a:ext cx="5207040" cy="1676160"/>
          </a:xfrm>
          <a:prstGeom prst="rect">
            <a:avLst/>
          </a:prstGeom>
          <a:ln w="38160">
            <a:solidFill>
              <a:srgbClr val="ef8c6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838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Step 6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xidation of Succinate to Fumarat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uccinate is oxidized to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fumarat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y the flavoprotein 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</a:rPr>
              <a:t>succinate dehydrogenas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TCA cycle enzyme contained within the mitochondrial membran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sults in the formation of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</a:rPr>
              <a:t>FADH</a:t>
            </a:r>
            <a:r>
              <a:rPr b="0" lang="en-US" sz="2400" spc="-1" strike="noStrike" baseline="-25000">
                <a:solidFill>
                  <a:srgbClr val="0000ff"/>
                </a:solidFill>
                <a:latin typeface="Perpet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2" name="Title 2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Screen Shot 2012-03-02 at 2.31.26 PM.png"/>
          <p:cNvPicPr/>
          <p:nvPr/>
        </p:nvPicPr>
        <p:blipFill>
          <a:blip r:embed="rId1"/>
          <a:stretch/>
        </p:blipFill>
        <p:spPr>
          <a:xfrm>
            <a:off x="2286000" y="4495680"/>
            <a:ext cx="5122800" cy="1447920"/>
          </a:xfrm>
          <a:prstGeom prst="rect">
            <a:avLst/>
          </a:prstGeom>
          <a:ln w="2844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3352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</a:rPr>
              <a:t>Step 7: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ydration of fumarate to mal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reversible hydration of fumarate to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 L-malat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 catalyzed by </a:t>
            </a:r>
            <a:r>
              <a:rPr b="0" lang="en-US" sz="2600" spc="-1" strike="noStrike">
                <a:solidFill>
                  <a:srgbClr val="0000ff"/>
                </a:solidFill>
                <a:latin typeface="Perpetua"/>
              </a:rPr>
              <a:t>fumarase</a:t>
            </a:r>
            <a:r>
              <a:rPr b="0" lang="en-US" sz="2600" spc="-1" strike="noStrike">
                <a:solidFill>
                  <a:srgbClr val="0000ff"/>
                </a:solidFill>
                <a:latin typeface="Perpetu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</a:rPr>
              <a:t>Step 8: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xidation of malate to oxaloacet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the last reaction of the citric acid cycle, </a:t>
            </a:r>
            <a:r>
              <a:rPr b="0" lang="en-US" sz="2600" spc="-1" strike="noStrike">
                <a:solidFill>
                  <a:srgbClr val="0000ff"/>
                </a:solidFill>
                <a:latin typeface="Perpetua"/>
              </a:rPr>
              <a:t>NAD-linked L-malate dehydrogena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talyzes the oxidation of L-malate to 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oxaloacetate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Enzyme Control of the TCA Cycle</a:t>
            </a: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57" name="Picture 3" descr="Screen Shot 2012-03-02 at 3.52.05 PM.png"/>
          <p:cNvPicPr/>
          <p:nvPr/>
        </p:nvPicPr>
        <p:blipFill>
          <a:blip r:embed="rId1"/>
          <a:stretch/>
        </p:blipFill>
        <p:spPr>
          <a:xfrm>
            <a:off x="2362320" y="1523880"/>
            <a:ext cx="4611600" cy="5081760"/>
          </a:xfrm>
          <a:prstGeom prst="rect">
            <a:avLst/>
          </a:prstGeom>
          <a:ln w="2844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Inhibitors of TCA Cycl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53352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Fluoroacetyl CoA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1919"/>
                </a:solidFill>
                <a:latin typeface="Cambria"/>
              </a:rPr>
              <a:t>-</a:t>
            </a: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It inhibits aconitase enzym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-It combines with oxaloacetate giving rise to fluorocitrate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Malonic acid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1919"/>
                </a:solidFill>
                <a:latin typeface="Cambria"/>
              </a:rPr>
              <a:t>-</a:t>
            </a: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Inhibits succinate dehydrogenase (competitive inhibition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Arsenate and Mercury 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-Inhibit Pyruvate dehydrogenase and α-ketoglutarate dehydrogenase complex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- By reacting with sulphydral group of lipoic acid leading to accumulation of pyruvic lactic acid and α- ketoglutarat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Products of Kreb</a:t>
            </a:r>
            <a:r>
              <a:rPr b="0" lang="ja-JP" sz="3600" spc="-1" strike="noStrike">
                <a:solidFill>
                  <a:srgbClr val="0000ff"/>
                </a:solidFill>
                <a:latin typeface="Cambria"/>
              </a:rPr>
              <a:t>’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s Cycl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2 CO</a:t>
            </a:r>
            <a:r>
              <a:rPr b="0" lang="en-US" sz="2400" spc="-1" strike="noStrike" baseline="-25000">
                <a:solidFill>
                  <a:srgbClr val="191919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3 NAD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1 ATP                    Per 1 Acetyl CoA  (double for 1 glucose)       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1 FADH</a:t>
            </a:r>
            <a:r>
              <a:rPr b="0" lang="en-US" sz="2400" spc="-1" strike="noStrike" baseline="-25000">
                <a:solidFill>
                  <a:srgbClr val="191919"/>
                </a:solidFill>
                <a:latin typeface="Cambri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TP Yield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Each NADH yields 3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Each FADH</a:t>
            </a:r>
            <a:r>
              <a:rPr b="0" lang="en-US" sz="2400" spc="-1" strike="noStrike" baseline="-25000">
                <a:solidFill>
                  <a:srgbClr val="191919"/>
                </a:solidFill>
                <a:latin typeface="Cambria"/>
              </a:rPr>
              <a:t>2</a:t>
            </a:r>
            <a:r>
              <a:rPr b="0" lang="en-US" sz="2400" spc="-1" strike="noStrike">
                <a:solidFill>
                  <a:srgbClr val="191919"/>
                </a:solidFill>
                <a:latin typeface="Cambria"/>
              </a:rPr>
              <a:t> yields 2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2" name="Left Brace 4"/>
          <p:cNvSpPr/>
          <p:nvPr/>
        </p:nvSpPr>
        <p:spPr>
          <a:xfrm rot="10800000">
            <a:off x="2437920" y="1523520"/>
            <a:ext cx="709560" cy="1752840"/>
          </a:xfrm>
          <a:custGeom>
            <a:avLst/>
            <a:gdLst>
              <a:gd name="textAreaLeft" fmla="*/ 453240 w 709560"/>
              <a:gd name="textAreaRight" fmla="*/ 709920 w 709560"/>
              <a:gd name="textAreaTop" fmla="*/ 25560 h 1752840"/>
              <a:gd name="textAreaBottom" fmla="*/ 172728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4"/>
                  <a:pt x="10800" y="1008"/>
                </a:cubicBezTo>
                <a:lnTo>
                  <a:pt x="10800" y="8969"/>
                </a:lnTo>
                <a:cubicBezTo>
                  <a:pt x="10800" y="9473"/>
                  <a:pt x="5400" y="9977"/>
                  <a:pt x="0" y="9977"/>
                </a:cubicBezTo>
                <a:cubicBezTo>
                  <a:pt x="5400" y="9977"/>
                  <a:pt x="10800" y="10481"/>
                  <a:pt x="10800" y="10985"/>
                </a:cubicBezTo>
                <a:lnTo>
                  <a:pt x="10800" y="20592"/>
                </a:lnTo>
                <a:cubicBezTo>
                  <a:pt x="10800" y="2109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d34817"/>
            </a:solidFill>
            <a:miter/>
          </a:ln>
          <a:effectLst>
            <a:outerShdw dist="12600" dir="54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Summary of total energy yield of  complete oxidation of 1 glucose molecule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779400" y="1949400"/>
          <a:ext cx="7678800" cy="3915000"/>
        </p:xfrm>
        <a:graphic>
          <a:graphicData uri="http://schemas.openxmlformats.org/drawingml/2006/table">
            <a:tbl>
              <a:tblPr/>
              <a:tblGrid>
                <a:gridCol w="2146320"/>
                <a:gridCol w="1339920"/>
                <a:gridCol w="847800"/>
                <a:gridCol w="334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Coenzyme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TP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ource of 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olysis –Stag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hosphorylation of glucose and fructose uses 2 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lycolysis –Stag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ubstrate level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xidative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Pyruvate metabol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xidative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CA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ubstrate level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D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xidative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  <a:tr h="40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FAD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Perpet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xidative phosphory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decd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otal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3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AT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2d1f"/>
                      </a:solidFill>
                    </a:lnL>
                    <a:lnR w="5760">
                      <a:solidFill>
                        <a:srgbClr val="9b2d1f"/>
                      </a:solidFill>
                    </a:lnR>
                    <a:lnT w="5760">
                      <a:solidFill>
                        <a:srgbClr val="9b2d1f"/>
                      </a:solidFill>
                    </a:lnT>
                    <a:lnB w="5760">
                      <a:solidFill>
                        <a:srgbClr val="9b2d1f"/>
                      </a:solidFill>
                    </a:lnB>
                    <a:solidFill>
                      <a:srgbClr val="efe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Introduc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33520" y="1676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Also called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citric acid cycle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r the 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Krebs cycle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(after its discoverer, Hans Krebs)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CA cycle is a series of reactions catalyzed by different enzymes in which acetyl CoA is oxidized into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            and energy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t occurs in the mitochondrial matrix aerobically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enzymes involved in the TCA cycle are present in the mitochondrial matrix either free or  attached to the inner surface of the mitochondrial membran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16" name="Picture 3" descr="Screen Shot 2012-03-02 at 12.40.42 PM.png"/>
          <p:cNvPicPr/>
          <p:nvPr/>
        </p:nvPicPr>
        <p:blipFill>
          <a:blip r:embed="rId1"/>
          <a:stretch/>
        </p:blipFill>
        <p:spPr>
          <a:xfrm>
            <a:off x="6705720" y="685800"/>
            <a:ext cx="1474560" cy="192420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7" name="Picture 4" descr="Screen Shot 2012-03-02 at 12.50.56 PM.png"/>
          <p:cNvPicPr/>
          <p:nvPr/>
        </p:nvPicPr>
        <p:blipFill>
          <a:blip r:embed="rId2"/>
          <a:stretch/>
        </p:blipFill>
        <p:spPr>
          <a:xfrm>
            <a:off x="6781680" y="3809880"/>
            <a:ext cx="2076480" cy="130032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80880" y="1295280"/>
            <a:ext cx="853452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e citric acid cycle is the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final common pathway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for the  oxidation of fuel molec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mino acids, fatty acids and carbohyd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Most fuel molecules enter the cycle as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cetyl coenzyme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function of the citric acid cycle is the harvesting of  high-energy electrons from carbon fu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2962080" cy="240984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21" name="Picture 5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905120" cy="180036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The citric acid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cycle itself neither generates a large amount of ATP nor includes oxygen as a reactant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stead, the citric acid cycle removes electrons from acetyl CoA and uses these electrons to form NADH and FAD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itric acid cycle includes a series of oxidation-reduction reactions that result in the oxidation of an acetyl group to two molecules of carbon dioxid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4" name="Picture 5" descr=""/>
          <p:cNvPicPr/>
          <p:nvPr/>
        </p:nvPicPr>
        <p:blipFill>
          <a:blip r:embed="rId1"/>
          <a:stretch/>
        </p:blipFill>
        <p:spPr>
          <a:xfrm>
            <a:off x="609480" y="4800600"/>
            <a:ext cx="2438640" cy="187020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25" name="Rectangle 7"/>
          <p:cNvGrpSpPr/>
          <p:nvPr/>
        </p:nvGrpSpPr>
        <p:grpSpPr>
          <a:xfrm>
            <a:off x="3078000" y="5541840"/>
            <a:ext cx="5883480" cy="1176480"/>
            <a:chOff x="3078000" y="5541840"/>
            <a:chExt cx="5883480" cy="1176480"/>
          </a:xfrm>
        </p:grpSpPr>
        <p:pic>
          <p:nvPicPr>
            <p:cNvPr id="526" name="Rectangle 7" descr=""/>
            <p:cNvPicPr/>
            <p:nvPr/>
          </p:nvPicPr>
          <p:blipFill>
            <a:blip r:embed="rId2"/>
            <a:stretch/>
          </p:blipFill>
          <p:spPr>
            <a:xfrm>
              <a:off x="3078000" y="5541840"/>
              <a:ext cx="588348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3124080" y="5562720"/>
              <a:ext cx="57913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22e2e"/>
                  </a:solidFill>
                  <a:latin typeface="Perpetua"/>
                </a:rPr>
                <a:t>The citric acid cycle oxidizes two-carbon units, producing two molecules of CO2, one molecule of GTP, and high-energy electrons in the form of NADH and FADH2</a:t>
              </a:r>
              <a:r>
                <a:rPr b="0" lang="en-US" sz="2000" spc="-1" strike="noStrike">
                  <a:solidFill>
                    <a:srgbClr val="422e2e"/>
                  </a:solidFill>
                  <a:latin typeface="Perpetu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amphibolic nature of TCA cycl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28240" y="10666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itric acid cycle is the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gateway to the aerobic metabolism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f any molecule that can be transformed into an acetyl group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ycle is also an important source of precursors, not only for the 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storage forms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f fuels, but also for the </a:t>
            </a:r>
            <a:r>
              <a:rPr b="0" lang="en-US" sz="2200" spc="-1" strike="noStrike">
                <a:solidFill>
                  <a:srgbClr val="cc0099"/>
                </a:solidFill>
                <a:latin typeface="Cambria"/>
              </a:rPr>
              <a:t>building blocks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of many other molecules 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such as amino acids,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nucleotide bases, cholesterol, and porphyrin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0" name="Picture 4" descr="Screen Shot 2012-03-02 at 3.18.51 PM.png"/>
          <p:cNvPicPr/>
          <p:nvPr/>
        </p:nvPicPr>
        <p:blipFill>
          <a:blip r:embed="rId1"/>
          <a:stretch/>
        </p:blipFill>
        <p:spPr>
          <a:xfrm>
            <a:off x="152280" y="3886200"/>
            <a:ext cx="4329360" cy="252108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31" name="Rectangle 8"/>
          <p:cNvGrpSpPr/>
          <p:nvPr/>
        </p:nvGrpSpPr>
        <p:grpSpPr>
          <a:xfrm>
            <a:off x="4389480" y="4638600"/>
            <a:ext cx="4632120" cy="1670040"/>
            <a:chOff x="4389480" y="4638600"/>
            <a:chExt cx="4632120" cy="1670040"/>
          </a:xfrm>
        </p:grpSpPr>
        <p:pic>
          <p:nvPicPr>
            <p:cNvPr id="532" name="Rectangle 8" descr=""/>
            <p:cNvPicPr/>
            <p:nvPr/>
          </p:nvPicPr>
          <p:blipFill>
            <a:blip r:embed="rId2"/>
            <a:stretch/>
          </p:blipFill>
          <p:spPr>
            <a:xfrm>
              <a:off x="4389480" y="4638600"/>
              <a:ext cx="4632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4495680" y="4724280"/>
              <a:ext cx="44197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This pathway is utilized for both </a:t>
              </a: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catabolic  reactions </a:t>
              </a: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to generate energy &amp; </a:t>
              </a:r>
              <a:r>
                <a:rPr b="1" lang="en-US" sz="1800" spc="-1" strike="noStrike">
                  <a:solidFill>
                    <a:srgbClr val="000000"/>
                  </a:solidFill>
                  <a:latin typeface="Corbel"/>
                </a:rPr>
                <a:t>anabolic reactions</a:t>
              </a: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 to generate metabolic intermediates for biosynthesi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Metabolic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14400" y="1218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In </a:t>
            </a:r>
            <a:r>
              <a:rPr b="0" lang="en-US" sz="2200" spc="-1" strike="noStrike">
                <a:solidFill>
                  <a:srgbClr val="0000ff"/>
                </a:solidFill>
                <a:latin typeface="Cambria"/>
              </a:rPr>
              <a:t>oxidative phosphorylation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electrons released in the reoxidation of NADH and FAD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flow through a series of membrane proteins to generate a proton gradient across the membran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20680" indent="-2206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The citric acid cycle, in conjunction with oxidative phosphorylation, provides the vast majority of energy used by aerobic cells in human beings, greater than 95%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4630680" cy="217188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537" name="Rectangle 4"/>
          <p:cNvGrpSpPr/>
          <p:nvPr/>
        </p:nvGrpSpPr>
        <p:grpSpPr>
          <a:xfrm>
            <a:off x="5132520" y="3255840"/>
            <a:ext cx="3828960" cy="1694160"/>
            <a:chOff x="5132520" y="3255840"/>
            <a:chExt cx="3828960" cy="1694160"/>
          </a:xfrm>
        </p:grpSpPr>
        <p:pic>
          <p:nvPicPr>
            <p:cNvPr id="538" name="Rectangle 4" descr=""/>
            <p:cNvPicPr/>
            <p:nvPr/>
          </p:nvPicPr>
          <p:blipFill>
            <a:blip r:embed="rId2"/>
            <a:stretch/>
          </p:blipFill>
          <p:spPr>
            <a:xfrm>
              <a:off x="5132520" y="3255840"/>
              <a:ext cx="3828960" cy="16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5181480" y="3276720"/>
              <a:ext cx="373392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In TCA, the removal of high-energy electrons from carbon fuels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These electrons reduce O2 to generate a proton gradient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buClr>
                  <a:srgbClr val="0000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Perpetua"/>
                </a:rPr>
                <a:t>Which is used to synthesize ATP 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549360" y="1006560"/>
            <a:ext cx="8216640" cy="59846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3"/>
          <p:cNvSpPr/>
          <p:nvPr/>
        </p:nvSpPr>
        <p:spPr>
          <a:xfrm>
            <a:off x="762120" y="304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The TCA Cycle Has Eigh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04920" y="12952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Perpetua"/>
              </a:rPr>
              <a:t>Step 1: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Candara"/>
              </a:rPr>
              <a:t>Formation of Citrat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Candara"/>
              </a:rPr>
              <a:t>- An irreversible reaction catalyzed by  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  <a:ea typeface="Candara"/>
              </a:rPr>
              <a:t>citrate synthas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Perpetua"/>
                <a:ea typeface="Candara"/>
              </a:rPr>
              <a:t>-Inhibited by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  <a:ea typeface="Candara"/>
              </a:rPr>
              <a:t>ATP , NADH, Citrat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</a:rPr>
              <a:t>Step 2: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mation of Isocitr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A reversible reaction catalyzed by 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aconitase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Perpetua"/>
              </a:rPr>
              <a:t>Step 3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xidative decarboxylation of isocitrate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The enzyme </a:t>
            </a:r>
            <a:r>
              <a:rPr b="0" lang="en-US" sz="2600" spc="-1" strike="noStrike">
                <a:solidFill>
                  <a:srgbClr val="cc0099"/>
                </a:solidFill>
                <a:latin typeface="Perpetua"/>
              </a:rPr>
              <a:t>isocitrate dehydrogena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talyzes the irreversible oxidative decarboxylation of isocitrate to form α-ketoglutarate and 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ff"/>
                </a:solidFill>
                <a:latin typeface="Perpetua"/>
              </a:rPr>
              <a:t>Stimulated by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socitrate, NAD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M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+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, ADP, C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Perpetua"/>
              </a:rPr>
              <a:t>2+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</a:t>
            </a:r>
            <a:r>
              <a:rPr b="0" lang="en-US" sz="2600" spc="-1" strike="noStrike">
                <a:solidFill>
                  <a:srgbClr val="0000ff"/>
                </a:solidFill>
                <a:latin typeface="Perpetua"/>
              </a:rPr>
              <a:t>Inhibited by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ADH and ATP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3" name="Title 2"/>
          <p:cNvSpPr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04920" y="9907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ndara"/>
                <a:ea typeface="Candar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Step 4: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Oxidative decarboxylation of α-ketoglutar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In this irreversible reaction, α-ketoglutarate is converted to 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  <a:ea typeface="Candara"/>
              </a:rPr>
              <a:t>succinyl-CoA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and 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  <a:ea typeface="Candara"/>
              </a:rPr>
              <a:t>CO</a:t>
            </a:r>
            <a:r>
              <a:rPr b="0" lang="en-US" sz="2400" spc="-1" strike="noStrike" baseline="-25000">
                <a:solidFill>
                  <a:srgbClr val="cc0099"/>
                </a:solidFill>
                <a:latin typeface="Perpetua"/>
                <a:ea typeface="Candar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by the action of the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α-ketoglutarate dehydrogenase complex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α-ketoglutarate dehydrogenase complex closely resembles the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PDH complex in both structure and function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Candar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serves as electron acceptor and CoA as the carrier of the succinyl group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Inhibited by: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NADH, ATP, Succinyl-CoA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Candara"/>
              </a:rPr>
              <a:t>Stimulated by: 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  <a:ea typeface="Candara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5" name="Title 2"/>
          <p:cNvSpPr/>
          <p:nvPr/>
        </p:nvSpPr>
        <p:spPr>
          <a:xfrm>
            <a:off x="38088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3" descr="Screen Shot 2012-03-02 at 2.06.06 PM.png"/>
          <p:cNvPicPr/>
          <p:nvPr/>
        </p:nvPicPr>
        <p:blipFill>
          <a:blip r:embed="rId1"/>
          <a:stretch/>
        </p:blipFill>
        <p:spPr>
          <a:xfrm>
            <a:off x="3809880" y="5257800"/>
            <a:ext cx="5034240" cy="1386000"/>
          </a:xfrm>
          <a:prstGeom prst="rect">
            <a:avLst/>
          </a:prstGeom>
          <a:ln w="19080">
            <a:solidFill>
              <a:srgbClr val="d34817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3-03T06:08:52Z</dcterms:modified>
  <cp:revision>81</cp:revision>
  <dc:subject/>
  <dc:title>Slide 1</dc:title>
</cp:coreProperties>
</file>