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F04F-8941-4882-A648-C99199E444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FBC2-6667-4792-A15A-0D67C46207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7611-82DF-4B5D-9486-74B4938B29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6A43-F317-41FB-BC52-0D90B05FB4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5AC5-99F5-479A-B498-8166D9148A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A01F-B4B3-4B21-BB1F-B49A84A4FD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2162-E070-48CE-9A03-ABAC46CDD3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BC0-3067-4BB0-B192-4515F048DF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8261-E67A-421C-B8CA-78BF9874D1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B072-27B4-4D7C-B65D-CB680BB06C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E0EB-665E-45EB-B1F5-F3A4A24B7A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64C2-05A4-49D1-B0FC-B6EA98A18E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F10-B276-466A-A603-8368325E4E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5CC-DE80-46D1-8D65-FB34743B1E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C93-5596-48D7-8D82-28EBFD3F99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3304-295A-4BF9-B835-3A840DD267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266-6D45-4881-B27C-CC1A5411F0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404-F6DC-48DC-9046-D13ECE32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B37-0379-4ACB-A3B0-43D6FD75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B49-777C-423E-8A8E-988D7331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E8A-2348-4409-B876-81427BF8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1868-83F6-4796-85E1-96027904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A935-915D-4B6F-8BFA-42663C07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988D-30B9-4A6F-95FF-9AC0B582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578-6F56-48F6-B76D-8A375EE4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772-BDAD-4BC3-9FDA-58A4DB0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695B-24EA-420B-85D6-732F2C98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425B-B0B4-44D2-9234-DACC112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6FD-AA2A-4296-9847-EE49212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CF7C-E7FB-4F36-832D-1A1DAF96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DD07-60F6-4466-A4BC-9C6396A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C2EA-A681-4EAF-851F-54CEFCC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618C-49D9-4BE8-AB70-D7B225F9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F4DF-C6D9-45DC-A7B9-0AF29547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9BC-DC74-4A20-AEAB-04AA5BD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200-92BD-4A03-84FB-0A4E7D5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FE3-9D96-4B98-A0A1-5A19BBB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B51-3E4F-4B30-B867-4011DCE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FE5-EB5D-4DBD-BF89-5A6794A2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F4C-58F9-467E-97C9-30545EC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3F6-0012-4AFA-9690-6793AEE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4686-82A3-41F8-8549-C841A9151F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855-8FB5-4289-AE46-A50C8ECA9F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781360"/>
            <a:ext cx="6400800" cy="976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5000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D NOT + VER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ase for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:  I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did not wo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did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wo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esterday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CORRECT: I didn’t worke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50000">
              <a:srgbClr val="ff6699"/>
            </a:gs>
            <a:gs pos="100000">
              <a:srgbClr val="76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exampl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dn’t g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holiday last y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7" descr="MCj04257600000[1]"/>
          <p:cNvPicPr/>
          <p:nvPr/>
        </p:nvPicPr>
        <p:blipFill>
          <a:blip r:embed="rId1"/>
          <a:stretch/>
        </p:blipFill>
        <p:spPr>
          <a:xfrm>
            <a:off x="1619280" y="1989000"/>
            <a:ext cx="811080" cy="1290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684360" y="3500280"/>
            <a:ext cx="76960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dn’t w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n holiday last y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MCj04238440000[1]"/>
          <p:cNvPicPr/>
          <p:nvPr/>
        </p:nvPicPr>
        <p:blipFill>
          <a:blip r:embed="rId2"/>
          <a:stretch/>
        </p:blipFill>
        <p:spPr>
          <a:xfrm>
            <a:off x="1619280" y="3794040"/>
            <a:ext cx="93672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3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2519"/>
            </a:gs>
            <a:gs pos="50000">
              <a:srgbClr val="ca4f36"/>
            </a:gs>
            <a:gs pos="100000">
              <a:srgbClr val="5d25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Comic Sans MS"/>
              </a:rPr>
              <a:t>Negative Sentences</a:t>
            </a:r>
            <a:br>
              <a:rPr sz="4400"/>
            </a:b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verb</a:t>
            </a: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9966"/>
                </a:solidFill>
                <a:latin typeface="Comic Sans MS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S / WERE +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was 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t school yesterday afterno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asn’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t school yesterday afterno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were no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ere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4853"/>
            </a:gs>
            <a:gs pos="50000">
              <a:srgbClr val="4c9bb4"/>
            </a:gs>
            <a:gs pos="100000">
              <a:srgbClr val="2348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es /No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ver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t of sentence 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terd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,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es /No Ques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erb 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S / W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subject + rest of sentence +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t home last weeken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n’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3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3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50000">
              <a:srgbClr val="66ff66"/>
            </a:gs>
            <a:gs pos="100000">
              <a:srgbClr val="2f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c600"/>
                </a:solidFill>
                <a:latin typeface="Comic Sans MS"/>
              </a:rPr>
              <a:t>REMEMBER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on Satu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n’t p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n’t g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on Satu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/No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in Satu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50000">
              <a:srgbClr val="ff9999"/>
            </a:gs>
            <a:gs pos="100000">
              <a:srgbClr val="76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c600"/>
                </a:solidFill>
                <a:latin typeface="Comic Sans MS"/>
              </a:rPr>
              <a:t>REMEMBER!!</a:t>
            </a:r>
            <a:br>
              <a:rPr sz="4400"/>
            </a:br>
            <a:r>
              <a:rPr b="0" lang="en-US" sz="4000" spc="-1" strike="noStrike">
                <a:solidFill>
                  <a:srgbClr val="d0c600"/>
                </a:solidFill>
                <a:latin typeface="Comic Sans MS"/>
              </a:rPr>
              <a:t>Verb TO B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London last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ere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/No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ill yeste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18"/>
            </a:gs>
            <a:gs pos="50000">
              <a:srgbClr val="99ff33"/>
            </a:gs>
            <a:gs pos="100000">
              <a:srgbClr val="47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66"/>
                </a:solidFill>
                <a:latin typeface="Comic Sans MS"/>
              </a:rPr>
              <a:t>2 types of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REGUL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IRREGUL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4" descr="1061011_read_them_1"/>
          <p:cNvPicPr/>
          <p:nvPr/>
        </p:nvPicPr>
        <p:blipFill>
          <a:blip r:embed="rId1"/>
          <a:stretch/>
        </p:blipFill>
        <p:spPr>
          <a:xfrm>
            <a:off x="5292720" y="2278080"/>
            <a:ext cx="3382920" cy="253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5e"/>
            </a:gs>
            <a:gs pos="50000">
              <a:srgbClr val="3366cc"/>
            </a:gs>
            <a:gs pos="100000">
              <a:srgbClr val="18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ff66"/>
                </a:solidFill>
                <a:latin typeface="Comic Sans MS"/>
              </a:rPr>
              <a:t>Regular verbs fo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6600"/>
                </a:solidFill>
                <a:latin typeface="Comic Sans MS"/>
              </a:rPr>
              <a:t>-ed</a:t>
            </a: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5400" spc="-1" strike="noStrike">
                <a:solidFill>
                  <a:srgbClr val="000000"/>
                </a:solidFill>
                <a:latin typeface="Comic Sans MS"/>
              </a:rPr>
              <a:t>for all persons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lay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play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Stay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stay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Listen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accc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Double the consonant if the verb has only one syllable and ends in one vowel and one conson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 – st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ap - sw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Add only –d, when the verb ends with –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lo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sa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)Verbs ending in 'y' preceded by a consona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'y' to 'i' Then add -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- he h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atch out!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y – play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Irregular verbs fo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The form 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</a:rPr>
              <a:t>CHANGES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 from infinitives, usually with a vowel chan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Can be grouped according to certain change patterns, which helps to memorize them.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0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0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2f"/>
            </a:gs>
            <a:gs pos="50000">
              <a:srgbClr val="cc0066"/>
            </a:gs>
            <a:gs pos="100000">
              <a:srgbClr val="5e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change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24000" y="1773360"/>
            <a:ext cx="43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speak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spo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eat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see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saw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fly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fl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think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tho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5e"/>
            </a:gs>
            <a:gs pos="5000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Verb 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136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2920" y="1989000"/>
            <a:ext cx="125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556000" y="2852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300720" y="1989000"/>
            <a:ext cx="1584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2f"/>
            </a:gs>
            <a:gs pos="5000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Past Simple U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e beach last Sund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new car yesterday.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mb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2f"/>
            </a:gs>
            <a:gs pos="5000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Past Simple U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s that happened one after the other in the past (like in a st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me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k o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is coat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23:11:06Z</dcterms:created>
  <dc:creator>Laura</dc:creator>
  <dc:description/>
  <dc:language>en-US</dc:language>
  <cp:lastModifiedBy>M AlAhmed</cp:lastModifiedBy>
  <dcterms:modified xsi:type="dcterms:W3CDTF">2013-03-31T09:11:44Z</dcterms:modified>
  <cp:revision>22</cp:revision>
  <dc:subject/>
  <dc:title>The past simple</dc:title>
</cp:coreProperties>
</file>