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3834-29E5-4DFE-B366-68C5C805C14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EA0A-F8FF-452A-9E48-EE5A5A7C693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D4E2-1BE6-4F5F-84A9-9FEA0A6C8CB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40D6-2025-4A55-ADF8-56A3E9BD36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4906-D34C-4DE8-99D2-C8BD10B984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78F0-39B5-4A73-A978-A6BD46EE77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5653-02D6-4D5C-9EA2-13F637FE35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6264-0E5B-4A1C-8FA3-B0076F4695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A3E4-06A7-4EDF-A811-0037F366901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F0EE-38C6-47F3-8D17-D2D21C0C03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2AA6-0AD7-4C1D-997E-0494E7E5C52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6262-7FA3-484A-8460-CD80E49800E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CA8C-BC21-40E0-956E-EF67FCBCE12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6D08-CD12-4E7B-A868-BEFDBF179F7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5094-9A56-4C5D-B99D-74EA02A86E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6C91-ABF9-4EC2-B7C3-C0909257EDA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984A-EC71-4EBE-B544-D9D4CD1AE1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CCC-1268-4DB4-9E83-4AF22A92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D929-FCEC-45B2-B7BB-F35615DB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60F7-99A8-4350-A0E5-9B0829BE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634-124C-4F70-80BA-35949AD3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B5D6-C735-4BB4-8DA1-67AB4471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0A0A-3559-4186-BA31-3B9ECCE6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16C4-8608-4B9E-A07B-D2362A32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D354-3BA7-42C8-A787-DEFEF074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E3A5-C4CC-402D-9BCC-2EED50FD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6FB6-BF4B-4EE4-A5F5-09001A49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385D-CE05-469E-BEE2-DCFF59D8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D0FF-51F6-4EF7-B33A-720BC866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CEBA-96EB-4CA4-818F-8951EB0F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179A-5628-4DB5-A2D2-9E3AAF7B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EF45-3517-4F31-B4E9-8A4B6772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380C-50CE-48EE-BC73-2D4095A6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3741-12EF-4333-9286-664A3D3B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CFE-0EB1-472B-B9A0-3703CAFD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6C96-A87C-45D3-915C-69F37A4F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A19-C06F-4F40-84D7-128C4E86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8FC6-54F5-4A86-B81D-EAF6328D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B43-754B-483C-A74B-A0A45E88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ABB4-1837-4F82-8B8D-5551D08C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20C5-6DDF-41CA-8DDF-2CC26124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4AC5-5699-4E99-A2C5-7952CF13C21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F9F4-7A93-4420-AF6C-6B9ADB41A81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2781360"/>
            <a:ext cx="6400800" cy="976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THE PAST SI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4700"/>
            </a:gs>
            <a:gs pos="5000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Comic Sans MS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D NOT + VER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base form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ample:  I </a:t>
            </a:r>
            <a:r>
              <a:rPr b="1" lang="en-GB" sz="2000" spc="-1" strike="noStrike">
                <a:solidFill>
                  <a:srgbClr val="800000"/>
                </a:solidFill>
                <a:latin typeface="Comic Sans MS"/>
              </a:rPr>
              <a:t>did not work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yesterd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GB" sz="2000" spc="-1" strike="noStrike" u="sng">
                <a:solidFill>
                  <a:srgbClr val="800000"/>
                </a:solidFill>
                <a:uFillTx/>
                <a:latin typeface="Comic Sans MS"/>
              </a:rPr>
              <a:t>didn’t</a:t>
            </a:r>
            <a:r>
              <a:rPr b="1" lang="en-GB" sz="2000" spc="-1" strike="noStrike">
                <a:solidFill>
                  <a:srgbClr val="800000"/>
                </a:solidFill>
                <a:latin typeface="Comic Sans MS"/>
              </a:rPr>
              <a:t> work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yesterday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CORRECT: I didn’t worked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47"/>
            </a:gs>
            <a:gs pos="50000">
              <a:srgbClr val="ff6699"/>
            </a:gs>
            <a:gs pos="100000">
              <a:srgbClr val="762f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example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769608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dn’t g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holiday last ye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7" descr="MCj04257600000[1]"/>
          <p:cNvPicPr/>
          <p:nvPr/>
        </p:nvPicPr>
        <p:blipFill>
          <a:blip r:embed="rId1"/>
          <a:stretch/>
        </p:blipFill>
        <p:spPr>
          <a:xfrm>
            <a:off x="1619280" y="1989000"/>
            <a:ext cx="811080" cy="1290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9"/>
          <p:cNvSpPr/>
          <p:nvPr/>
        </p:nvSpPr>
        <p:spPr>
          <a:xfrm>
            <a:off x="684360" y="3500280"/>
            <a:ext cx="769608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idn’t w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n holiday last ye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10" descr="MCj04238440000[1]"/>
          <p:cNvPicPr/>
          <p:nvPr/>
        </p:nvPicPr>
        <p:blipFill>
          <a:blip r:embed="rId2"/>
          <a:stretch/>
        </p:blipFill>
        <p:spPr>
          <a:xfrm>
            <a:off x="1619280" y="3794040"/>
            <a:ext cx="936720" cy="905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3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3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2519"/>
            </a:gs>
            <a:gs pos="50000">
              <a:srgbClr val="ca4f36"/>
            </a:gs>
            <a:gs pos="100000">
              <a:srgbClr val="5d25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Comic Sans MS"/>
              </a:rPr>
              <a:t>Negative Sentences</a:t>
            </a:r>
            <a:br>
              <a:rPr sz="4400"/>
            </a:b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verb</a:t>
            </a:r>
            <a:r>
              <a:rPr b="0" lang="en-US" sz="4400" spc="-1" strike="noStrike">
                <a:solidFill>
                  <a:srgbClr val="339966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339966"/>
                </a:solidFill>
                <a:latin typeface="Comic Sans MS"/>
              </a:rPr>
              <a:t>TO B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S / WERE + NO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GB" sz="2000" spc="-1" strike="noStrike">
                <a:solidFill>
                  <a:srgbClr val="800000"/>
                </a:solidFill>
                <a:latin typeface="Comic Sans MS"/>
              </a:rPr>
              <a:t>was no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t school yesterday afterno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GB" sz="2000" spc="-1" strike="noStrike" u="sng">
                <a:solidFill>
                  <a:srgbClr val="800000"/>
                </a:solidFill>
                <a:uFillTx/>
                <a:latin typeface="Comic Sans MS"/>
              </a:rPr>
              <a:t>wasn’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t school yesterday afterno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lang="en-GB" sz="2000" spc="-1" strike="noStrike">
                <a:solidFill>
                  <a:srgbClr val="800000"/>
                </a:solidFill>
                <a:latin typeface="Comic Sans MS"/>
              </a:rPr>
              <a:t>were not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t home last week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lang="en-GB" sz="2000" spc="-1" strike="noStrike" u="sng">
                <a:solidFill>
                  <a:srgbClr val="800000"/>
                </a:solidFill>
                <a:uFillTx/>
                <a:latin typeface="Comic Sans MS"/>
              </a:rPr>
              <a:t>weren’t</a:t>
            </a:r>
            <a:r>
              <a:rPr b="1" lang="en-GB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t home last week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ipe dir="u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9" dur="20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4853"/>
            </a:gs>
            <a:gs pos="50000">
              <a:srgbClr val="4c9bb4"/>
            </a:gs>
            <a:gs pos="100000">
              <a:srgbClr val="2348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Yes /No 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2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in ver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t of sentence +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d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ork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esterda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es, I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, I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dn’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18"/>
            </a:gs>
            <a:gs pos="50000">
              <a:srgbClr val="66ff33"/>
            </a:gs>
            <a:gs pos="100000">
              <a:srgbClr val="2f76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Yes /No Question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verb TO B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06472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S / WE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subject + rest of sentence +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r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t home last weeken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, 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, 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asn’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blinds dir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3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3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1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0" dur="1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2f"/>
            </a:gs>
            <a:gs pos="50000">
              <a:srgbClr val="66ff66"/>
            </a:gs>
            <a:gs pos="100000">
              <a:srgbClr val="2f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6870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0c600"/>
                </a:solidFill>
                <a:latin typeface="Comic Sans MS"/>
              </a:rPr>
              <a:t>REMEMBER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itive sentenc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otball yesterd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w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ome early on Saturd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gative sentenc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dn’t pla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otball yesterd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dn’t g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ome early on Saturd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/No ques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otball yesterda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ome early in Saturda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4747"/>
            </a:gs>
            <a:gs pos="50000">
              <a:srgbClr val="ff9999"/>
            </a:gs>
            <a:gs pos="100000">
              <a:srgbClr val="76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0c600"/>
                </a:solidFill>
                <a:latin typeface="Comic Sans MS"/>
              </a:rPr>
              <a:t>REMEMBER!!</a:t>
            </a:r>
            <a:br>
              <a:rPr sz="4400"/>
            </a:br>
            <a:r>
              <a:rPr b="0" lang="en-US" sz="4000" spc="-1" strike="noStrike">
                <a:solidFill>
                  <a:srgbClr val="d0c600"/>
                </a:solidFill>
                <a:latin typeface="Comic Sans MS"/>
              </a:rPr>
              <a:t>Verb TO B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itive sentenc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wa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London last ye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gative sentenc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lang="en-GB" sz="2000" spc="-1" strike="noStrike" u="sng">
                <a:solidFill>
                  <a:srgbClr val="800000"/>
                </a:solidFill>
                <a:uFillTx/>
                <a:latin typeface="Comic Sans MS"/>
              </a:rPr>
              <a:t>weren’t</a:t>
            </a:r>
            <a:r>
              <a:rPr b="1" lang="en-GB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t home last week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/No ques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We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ou ill yesterda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0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8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1" dur="2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18"/>
            </a:gs>
            <a:gs pos="50000">
              <a:srgbClr val="99ff33"/>
            </a:gs>
            <a:gs pos="100000">
              <a:srgbClr val="4776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3366"/>
                </a:solidFill>
                <a:latin typeface="Comic Sans MS"/>
              </a:rPr>
              <a:t>2 types of verb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3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omic Sans MS"/>
              </a:rPr>
              <a:t>REGULA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omic Sans MS"/>
              </a:rPr>
              <a:t>IRREGULA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24" descr="1061011_read_them_1"/>
          <p:cNvPicPr/>
          <p:nvPr/>
        </p:nvPicPr>
        <p:blipFill>
          <a:blip r:embed="rId1"/>
          <a:stretch/>
        </p:blipFill>
        <p:spPr>
          <a:xfrm>
            <a:off x="5292720" y="2278080"/>
            <a:ext cx="3382920" cy="253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5e"/>
            </a:gs>
            <a:gs pos="50000">
              <a:srgbClr val="3366cc"/>
            </a:gs>
            <a:gs pos="100000">
              <a:srgbClr val="18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ff66"/>
                </a:solidFill>
                <a:latin typeface="Comic Sans MS"/>
              </a:rPr>
              <a:t>Regular verbs for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6600"/>
                </a:solidFill>
                <a:latin typeface="Comic Sans MS"/>
              </a:rPr>
              <a:t>-ed</a:t>
            </a:r>
            <a:r>
              <a:rPr b="0" lang="es-E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a-ES" sz="5400" spc="-1" strike="noStrike">
                <a:solidFill>
                  <a:srgbClr val="000000"/>
                </a:solidFill>
                <a:latin typeface="Comic Sans MS"/>
              </a:rPr>
              <a:t>for all persons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lay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play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mic Sans MS"/>
              </a:rPr>
              <a:t>Work </a:t>
            </a:r>
            <a:r>
              <a:rPr b="0" lang="ca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omic Sans MS"/>
              </a:rPr>
              <a:t>work</a:t>
            </a:r>
            <a:r>
              <a:rPr b="1" lang="ca-ES" sz="2800" spc="-1" strike="noStrike">
                <a:solidFill>
                  <a:srgbClr val="000000"/>
                </a:solidFill>
                <a:latin typeface="Comic Sans MS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mic Sans MS"/>
              </a:rPr>
              <a:t>Stay </a:t>
            </a:r>
            <a:r>
              <a:rPr b="0" lang="ca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ca-ES" sz="2800" spc="-1" strike="noStrike">
                <a:solidFill>
                  <a:srgbClr val="000000"/>
                </a:solidFill>
                <a:latin typeface="Comic Sans MS"/>
              </a:rPr>
              <a:t>stay</a:t>
            </a:r>
            <a:r>
              <a:rPr b="1" lang="ca-ES" sz="28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ca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mic Sans MS"/>
              </a:rPr>
              <a:t>Listen </a:t>
            </a:r>
            <a:r>
              <a:rPr b="0" lang="ca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omic Sans MS"/>
              </a:rPr>
              <a:t>listen</a:t>
            </a:r>
            <a:r>
              <a:rPr b="1" lang="ca-ES" sz="28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68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68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68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00"/>
            </a:gs>
            <a:gs pos="5000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accc"/>
                </a:solidFill>
                <a:latin typeface="Comic Sans MS"/>
              </a:rPr>
              <a:t>Spel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) Double the consonant if the verb has only one syllable and ends in one vowel and one conson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p – st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p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wap - sw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p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)Add only –d, when the verb ends with –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v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lov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v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sav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)Verbs ending in 'y' preceded by a consonan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ange 'y' to 'i' Then add -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u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- he hu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ie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watch out!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ay – playe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2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2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00"/>
            </a:gs>
            <a:gs pos="50000">
              <a:srgbClr val="ffcc00"/>
            </a:gs>
            <a:gs pos="100000">
              <a:srgbClr val="7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mic Sans MS"/>
              </a:rPr>
              <a:t>Irregular verbs for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1280" y="24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mic Sans MS"/>
              </a:rPr>
              <a:t>The form </a:t>
            </a:r>
            <a:r>
              <a:rPr b="1" lang="ca-ES" sz="3200" spc="-1" strike="noStrike">
                <a:solidFill>
                  <a:srgbClr val="000000"/>
                </a:solidFill>
                <a:latin typeface="Comic Sans MS"/>
              </a:rPr>
              <a:t>CHANGES</a:t>
            </a:r>
            <a:r>
              <a:rPr b="0" lang="ca-ES" sz="3200" spc="-1" strike="noStrike">
                <a:solidFill>
                  <a:srgbClr val="000000"/>
                </a:solidFill>
                <a:latin typeface="Comic Sans MS"/>
              </a:rPr>
              <a:t> from infinitives, usually with a vowel chang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mic Sans MS"/>
              </a:rPr>
              <a:t>Can be grouped according to certain change patterns, which helps to memorize them.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00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04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2f"/>
            </a:gs>
            <a:gs pos="50000">
              <a:srgbClr val="cc0066"/>
            </a:gs>
            <a:gs pos="100000">
              <a:srgbClr val="5e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rtain change patter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124000" y="1773360"/>
            <a:ext cx="4391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Comic Sans MS"/>
              </a:rPr>
              <a:t>speak </a:t>
            </a:r>
            <a:r>
              <a:rPr b="0" lang="ca-E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a-ES" sz="3200" spc="-1" strike="noStrike">
                <a:solidFill>
                  <a:srgbClr val="ffffff"/>
                </a:solidFill>
                <a:latin typeface="Comic Sans MS"/>
              </a:rPr>
              <a:t> spok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Comic Sans MS"/>
              </a:rPr>
              <a:t>eat </a:t>
            </a:r>
            <a:r>
              <a:rPr b="0" lang="ca-E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a-ES" sz="3200" spc="-1" strike="noStrike">
                <a:solidFill>
                  <a:srgbClr val="ffffff"/>
                </a:solidFill>
                <a:latin typeface="Comic Sans MS"/>
              </a:rPr>
              <a:t> 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Comic Sans MS"/>
              </a:rPr>
              <a:t>see </a:t>
            </a:r>
            <a:r>
              <a:rPr b="0" lang="ca-E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a-ES" sz="3200" spc="-1" strike="noStrike">
                <a:solidFill>
                  <a:srgbClr val="ffffff"/>
                </a:solidFill>
                <a:latin typeface="Comic Sans MS"/>
              </a:rPr>
              <a:t> saw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Comic Sans MS"/>
              </a:rPr>
              <a:t>fly </a:t>
            </a:r>
            <a:r>
              <a:rPr b="0" lang="ca-E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a-ES" sz="3200" spc="-1" strike="noStrike">
                <a:solidFill>
                  <a:srgbClr val="ffffff"/>
                </a:solidFill>
                <a:latin typeface="Comic Sans MS"/>
              </a:rPr>
              <a:t> fle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Comic Sans MS"/>
              </a:rPr>
              <a:t>think </a:t>
            </a:r>
            <a:r>
              <a:rPr b="0" lang="ca-E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a-ES" sz="3200" spc="-1" strike="noStrike">
                <a:solidFill>
                  <a:srgbClr val="ffffff"/>
                </a:solidFill>
                <a:latin typeface="Comic Sans MS"/>
              </a:rPr>
              <a:t> thou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5e"/>
            </a:gs>
            <a:gs pos="50000">
              <a:srgbClr val="ccffcc"/>
            </a:gs>
            <a:gs pos="100000">
              <a:srgbClr val="5e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Comic Sans MS"/>
              </a:rPr>
              <a:t>Verb TO B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136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2920" y="1989000"/>
            <a:ext cx="125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2556000" y="285264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wa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6300720" y="1989000"/>
            <a:ext cx="1584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sh dir="u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472f"/>
            </a:gs>
            <a:gs pos="50000">
              <a:srgbClr val="339966"/>
            </a:gs>
            <a:gs pos="100000">
              <a:srgbClr val="184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800"/>
                </a:solidFill>
                <a:latin typeface="Comic Sans MS"/>
              </a:rPr>
              <a:t>Past Simple U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tions that started and finished in the pa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n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the beach last Sunda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ugh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 new car yesterday.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mb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472f"/>
            </a:gs>
            <a:gs pos="50000">
              <a:srgbClr val="339966"/>
            </a:gs>
            <a:gs pos="100000">
              <a:srgbClr val="184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800"/>
                </a:solidFill>
                <a:latin typeface="Comic Sans MS"/>
              </a:rPr>
              <a:t>Past Simple U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ions that happened one after the other in the past (like in a stor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me 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ok of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is coat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t dow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ipe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23:11:06Z</dcterms:created>
  <dc:creator>Laura</dc:creator>
  <dc:description/>
  <dc:language>en-US</dc:language>
  <cp:lastModifiedBy>M AlAhmed</cp:lastModifiedBy>
  <dcterms:modified xsi:type="dcterms:W3CDTF">2013-03-31T09:11:44Z</dcterms:modified>
  <cp:revision>22</cp:revision>
  <dc:subject/>
  <dc:title>The past simple</dc:title>
</cp:coreProperties>
</file>