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3276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1480" y="0"/>
            <a:ext cx="3276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8920" y="801720"/>
            <a:ext cx="502920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0153800"/>
            <a:ext cx="32767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7"/>
          </p:nvPr>
        </p:nvSpPr>
        <p:spPr>
          <a:xfrm>
            <a:off x="4281120" y="10154880"/>
            <a:ext cx="32655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B2FB7-ECA8-405F-B737-A044B46B3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5892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4835-A7FC-4413-A54C-F897CFEF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9258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1400" y="4309920"/>
            <a:ext cx="9258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FC37-FC34-457C-8F7F-F53EB6E9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0460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1400" y="430992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30992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D473-BEFB-4F42-8ABB-6C561A3A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29808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1600" y="1704600"/>
            <a:ext cx="29808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61800" y="1704600"/>
            <a:ext cx="29808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1400" y="4309920"/>
            <a:ext cx="29808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1600" y="4309920"/>
            <a:ext cx="29808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61800" y="4309920"/>
            <a:ext cx="29808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8E43-C889-4CAB-BB7A-8479851B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A0342-29EA-4D59-8EB0-8764EB55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01400" y="1704600"/>
            <a:ext cx="92581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00072-2580-4D8B-B114-E23D3A8A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92581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A5B75-DEA8-4C52-9DD0-10299457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7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5480" y="1704600"/>
            <a:ext cx="4517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4720C-711C-4A35-835E-056DFB5E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714FF-5EBD-46B8-AB19-1EB81034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1400" y="434880"/>
            <a:ext cx="9258120" cy="45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43005-610F-4F29-9D99-225A06B9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5480" y="1704600"/>
            <a:ext cx="4517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1400" y="430992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12389-CCDF-4907-9D95-0FC88AD4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1400" y="1704600"/>
            <a:ext cx="92581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9A85-FAA2-4209-84C9-B8B98B15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7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5480" y="170460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5480" y="430992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09193-4778-4265-A47C-55857436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5480" y="170460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01400" y="4309920"/>
            <a:ext cx="9258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BA66F-EB61-40A4-BDDA-16A3A9C5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9258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1400" y="4309920"/>
            <a:ext cx="9258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CEFD8-A439-4F6F-81FC-B760B28C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5480" y="170460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1400" y="430992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45480" y="430992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CD997-A070-45AA-9B77-F79C0D2C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29808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1600" y="1704600"/>
            <a:ext cx="29808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61800" y="1704600"/>
            <a:ext cx="29808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1400" y="4309920"/>
            <a:ext cx="29808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1600" y="4309920"/>
            <a:ext cx="29808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61800" y="4309920"/>
            <a:ext cx="29808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939CE-9CB7-438E-B9D0-BE01B3BD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92581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7288-F486-4BFB-B221-5C3FD5E7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7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04600"/>
            <a:ext cx="4517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60CB-DFCD-4DFA-9AB4-190283A9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FCC6-8E89-4DC2-9C21-F42054E2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1400" y="434880"/>
            <a:ext cx="9258120" cy="45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1A22-0EEC-4242-AA3F-1B798A9E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04600"/>
            <a:ext cx="4517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1400" y="430992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0AB3-35B6-4C47-BF1A-CC7386B6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7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0460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30992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18B-5423-4EA5-9C72-9BE004DC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0460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1400" y="4309920"/>
            <a:ext cx="9258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E3B-D92D-4894-871E-83266A0C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B8528-2EB1-4F36-A17C-AD13D3E89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051680"/>
            <a:ext cx="10082160" cy="50328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051680"/>
            <a:ext cx="1007424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91600" y="7007400"/>
            <a:ext cx="1685880" cy="544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01400" y="1704600"/>
            <a:ext cx="92581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2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22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22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22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22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22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7140600" y="680364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E9D2D5CA-50B9-4E47-AC78-4949206902BB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19040" y="6803640"/>
            <a:ext cx="612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0" y="252360"/>
          <a:ext cx="10078920" cy="6551640"/>
        </p:xfrm>
        <a:graphic>
          <a:graphicData uri="http://schemas.openxmlformats.org/drawingml/2006/table">
            <a:tbl>
              <a:tblPr/>
              <a:tblGrid>
                <a:gridCol w="2612160"/>
                <a:gridCol w="3555360"/>
                <a:gridCol w="3911400"/>
              </a:tblGrid>
              <a:tr h="150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W TOWS Matrix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engths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ong R &amp; D and Engineerin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ong Sales and Service Networ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fficient Production/Automation Capabiliti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nal Weaknesse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avy Reliance on One Product (Although Several Less Successful Models were Introduced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sing Costs in German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Experience With U.S. Labor Unions if Building Plant in the U.S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255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portuniti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owing Affluent Market Demands More Luxurious Cars with Many Option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tractive Offers to Build an Assembly Plant in U.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rysler and American Motors Need Small Engin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velop and Produce Multiproduct Line with Many Options, in Different Price Classes (Dasher, Scirocco, Rabbit, Audi Line) (O1S1S2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ild Assembly Plant Using R &amp; D, Engineering, and Production/Automation Experience (O2 S1S3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ild Engines for Chrysler and AMC (O3S3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velop Compatible Models for Different Price Levels (Ranging from Rabbit to Audi Line) (O1W1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 Cope with Rising Costs in Germany, Build Plant in U.S., Hiring U.S. Managers with Experience in Dealing with U.S. Labor Unions (O2 W2W3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48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reats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hange Rate: Devaluation of Dollar in Relation to Eur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etition from Japanese and U.S. Automaker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el Shortage and Pric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uce Effect of Exchange Rate by Building a Plant in the U.S. (T1T2S1S3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et Competition with Advanced Design Technology - e.g. Rabbit (T2T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1S2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prove Fuel Consumption Through Fuel Injection and Develop Fuel Efficient Diesel Engines (T3S1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uce Threat of Competition by Developing Flexible Product Line (T2 W1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gage in Joint Operation with Chrysler or AMC (T1,T2,W2,W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3280" y="755640"/>
            <a:ext cx="1260360" cy="100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21:59:27Z</dcterms:created>
  <dc:creator/>
  <dc:description/>
  <dc:language>en-US</dc:language>
  <cp:lastModifiedBy/>
  <dcterms:modified xsi:type="dcterms:W3CDTF">2013-04-22T22:00:13Z</dcterms:modified>
  <cp:revision>2</cp:revision>
  <dc:subject/>
  <dc:title/>
</cp:coreProperties>
</file>