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1480" y="0"/>
            <a:ext cx="32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292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153800"/>
            <a:ext cx="32767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4281120" y="10154880"/>
            <a:ext cx="3265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4A83-92E3-40A1-9DC0-7D83F081D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8EA-5E56-4DF2-B3DC-4C04C81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861-FD0F-4560-8015-F319656D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04A-665A-4405-9E1E-B9B1348C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16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18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16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18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91C-9E5B-4DB1-B862-D135E3A2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D929F-4919-40F9-A13E-BB982F1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48A07-BAC5-43C3-B671-40AFBD97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26F30-807B-47A4-8243-C159FD28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32060-AA96-4A10-813D-70F42B7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64B7A-6C02-4A8C-BEB4-3857E98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1400" y="434880"/>
            <a:ext cx="92581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E1AF-D9E8-4C7E-9CB6-9E5396A9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709A6-BA27-44FC-A69E-65C450C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948-8274-437C-B1DF-568D0A1E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49F11-DE48-4407-8E66-7766A55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DCE7-311D-451C-8D80-91466E0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1AE22-8985-4E93-BEB9-5BB2CEB8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FF1C8-A38D-402B-9ED9-B53D633A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16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61800" y="170460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4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16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61800" y="4309920"/>
            <a:ext cx="29808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25B02-30D3-48C8-B33E-86B11C13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E08-D812-4705-A2F7-02016DB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560-7CBE-4649-89FB-D856A82F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F5F-D6E4-4217-BD46-9665210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434880"/>
            <a:ext cx="92581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351-4BAB-42F6-9426-93FEFE13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6B5-9554-4A11-8E7C-EF8D29F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0992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471-F33D-4B4E-8C5A-E693A7F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04600"/>
            <a:ext cx="45176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309920"/>
            <a:ext cx="9258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FF2-8742-4846-BEFA-C195B1F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93EC4-EB40-470B-9609-C6DD16A1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051680"/>
            <a:ext cx="10082160" cy="50328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51680"/>
            <a:ext cx="100742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91600" y="7007400"/>
            <a:ext cx="1685880" cy="54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1400" y="434880"/>
            <a:ext cx="925812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1400" y="1704600"/>
            <a:ext cx="9258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22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140600" y="68036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77A26438-673F-4BA0-96E1-2CDE92CCAAF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9040" y="6803640"/>
            <a:ext cx="612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252360"/>
          <a:ext cx="10078920" cy="6551640"/>
        </p:xfrm>
        <a:graphic>
          <a:graphicData uri="http://schemas.openxmlformats.org/drawingml/2006/table">
            <a:tbl>
              <a:tblPr/>
              <a:tblGrid>
                <a:gridCol w="2612160"/>
                <a:gridCol w="3555360"/>
                <a:gridCol w="3911400"/>
              </a:tblGrid>
              <a:tr h="15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W TOWS Matrix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ength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ong R &amp; D and Engineer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ong Sales and Service Networ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t Production/Automation Capabiliti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nal Weakness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avy Reliance on One Product (Although Several Less Successful Models were Introduced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ing Costs in German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Experience With U.S. Labor Unions if Building Plant in the U.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25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portuniti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owing Affluent Market Demands More Luxurious Cars with Many Option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tractive Offers to Build an Assembly Plant in U.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rysler and American Motors Need Small Engin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 and Produce Multiproduct Line with Many Options, in Different Price Classes (Dasher, Scirocco, Rabbit, Audi Line) (O1S1S2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 Assembly Plant Using R &amp; D, Engineering, and Production/Automation Experience (O2 S1S3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ild Engines for Chrysler and AMC (O3S3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 Compatible Models for Different Price Levels (Ranging from Rabbit to Audi Line) (O1W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 Cope with Rising Costs in Germany, Build Plant in U.S., Hiring U.S. Managers with Experience in Dealing with U.S. Labor Unions (O2 W2W3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4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reats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hange Rate: Devaluation of Dollar in Relation to Eur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etition from Japanese and U.S. Automaker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el Shortage and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 Effect of Exchange Rate by Building a Plant in the U.S. (T1T2S1S3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et Competition with Advanced Design Technology - e.g. Rabbit (T2T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1S2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prove Fuel Consumption Through Fuel Injection and Develop Fuel Efficient Diesel Engines (T3S1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 Threat of Competition by Developing Flexible Product Line (T2 W1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age in Joint Operation with Chrysler or AMC (T1,T2,W2,W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3280" y="755640"/>
            <a:ext cx="12603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21:59:27Z</dcterms:created>
  <dc:creator/>
  <dc:description/>
  <dc:language>en-US</dc:language>
  <cp:lastModifiedBy/>
  <dcterms:modified xsi:type="dcterms:W3CDTF">2013-04-22T22:00:13Z</dcterms:modified>
  <cp:revision>2</cp:revision>
  <dc:subject/>
  <dc:title/>
</cp:coreProperties>
</file>