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C5F0-30F0-422E-940E-E3C76330B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00AC-FA67-4F17-9F45-60239B6BD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4C9C-A56A-4BD0-9888-8BE386B22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83C5-5D97-46E3-A078-CCC74EA49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AB67-19D3-4ED1-8821-4F752FC10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AF20-CDE3-4922-8C1A-165769355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0C4C-EE8B-4E81-9176-3E1A77295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C7A8-680B-4308-A699-026F37018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A264-584C-4E7F-83E2-E4DDE6D2C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C8AA-85E0-4A3E-A296-2D821CD66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0D0B-5D96-46F6-9CFC-4B19D5F32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863C-EA85-4900-AD33-DA0BB3DBE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hows the inferred orbits of the 3 planets in the Upsilon Andromedae system with the orbits of the terrestrial planets overlaid for comparis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8F38-8EFC-43BE-9A93-F028EC481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1E05-9EDC-4395-ADD6-E9CEEBBBA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9FD0-4F8F-4D57-934C-F778C79DD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05CC-8384-4BFC-82F1-880388343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AE75-38E9-47CB-9CE3-95D9CAD54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0126-E75A-49A2-865D-62D711C43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2D83-3844-490F-A1AC-20B3FCC19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952C-23E2-41E1-8382-3750EF532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3DF3-7D1F-42A3-BC10-4A2F055B0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904A-77BF-4F39-B2D3-B1B479A49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FABC-EDA2-4587-B093-EC72C1DE9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A6ED7-1663-44D1-B72B-7B2CB5D78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8CC4E-90D4-417A-A3B3-B449C92A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34A5B-E77D-4431-8929-E6CC3EE5C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8E9B7-A812-4B1E-ADB0-EF50925D9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14989-9129-4439-BA80-37C0F453E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F2D40-AA61-4499-8C12-10E6176D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5A14-C314-459E-B9A5-EB6A16F1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6E11B-E392-4B1B-A0A0-B8E229D7D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96DD8-2FF6-4EC2-94A4-F7D47911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105D2-1732-4996-9EE8-02FC46F2B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6CBD-DB83-44A2-8516-555349F3B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2E6B-5436-430B-A54B-AE068E240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1230-28E9-4E9A-B450-25255E477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Formation of the</a:t>
            </a:r>
            <a:br>
              <a:rPr sz="4400"/>
            </a:br>
            <a:r>
              <a:rPr b="0" lang="en-US" sz="4400" spc="-1" strike="noStrike">
                <a:solidFill>
                  <a:srgbClr val="602064"/>
                </a:solidFill>
                <a:latin typeface="Arial"/>
              </a:rPr>
              <a:t>Solar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886200" y="228600"/>
            <a:ext cx="4648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7" name="Rectangle 3"/>
          <p:cNvSpPr/>
          <p:nvPr/>
        </p:nvSpPr>
        <p:spPr>
          <a:xfrm>
            <a:off x="3886200" y="1219320"/>
            <a:ext cx="4952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100 million years, we hav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Nine protoplane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Dozens of protomoon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 glowing protosun at the cen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ghly a billion years were required to “sweep” the system clear of interplanetary “trash.”  This is a period of intense meteoritic bombardment whose effects on the moon and elsewhere are still evident today.</a:t>
            </a:r>
            <a:endParaRPr b="0" lang="en-US" sz="2600" spc="-1" strike="noStrike">
              <a:solidFill>
                <a:srgbClr val="000000"/>
              </a:solidFill>
              <a:latin typeface="Arial"/>
            </a:endParaRPr>
          </a:p>
        </p:txBody>
      </p:sp>
      <p:pic>
        <p:nvPicPr>
          <p:cNvPr id="68" name="Picture 4" descr="Figure04-24"/>
          <p:cNvPicPr/>
          <p:nvPr/>
        </p:nvPicPr>
        <p:blipFill>
          <a:blip r:embed="rId1"/>
          <a:stretch/>
        </p:blipFill>
        <p:spPr>
          <a:xfrm>
            <a:off x="58680" y="685800"/>
            <a:ext cx="3675240" cy="570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conflicting views on how the Jovian planets form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 largest protoplanets became massive enough to enter a 3rd stage of evolution - sweeping up large amounts of gas directly from the solar neb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tw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iant planets formed through instabilities in the cool outer regions of the solar nebula - mimicking on small scales the collapse of the initial interstellar clo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2" name="Rectangle 3"/>
          <p:cNvSpPr/>
          <p:nvPr/>
        </p:nvSpPr>
        <p:spPr>
          <a:xfrm>
            <a:off x="4952880" y="914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Jovian moons probably also formed by accretion.  Some of the smaller moons may be captured planetesim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the sun blew away any remaining gas between the planets, which is why we don’t see it today (the outer planets must have formed before the nebular gas dispersed!).</a:t>
            </a:r>
            <a:endParaRPr b="0" lang="en-US" sz="2400" spc="-1" strike="noStrike">
              <a:solidFill>
                <a:srgbClr val="000000"/>
              </a:solidFill>
              <a:latin typeface="Arial"/>
            </a:endParaRPr>
          </a:p>
        </p:txBody>
      </p:sp>
      <p:pic>
        <p:nvPicPr>
          <p:cNvPr id="73" name="Picture 4" descr="Figure04-26"/>
          <p:cNvPicPr/>
          <p:nvPr/>
        </p:nvPicPr>
        <p:blipFill>
          <a:blip r:embed="rId1"/>
          <a:stretch/>
        </p:blipFill>
        <p:spPr>
          <a:xfrm>
            <a:off x="0" y="1143000"/>
            <a:ext cx="5046840" cy="495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Differentiation of the Solar System</a:t>
            </a:r>
            <a:endParaRPr b="0" lang="en-US" sz="4400" spc="-1" strike="noStrike">
              <a:solidFill>
                <a:srgbClr val="000000"/>
              </a:solidFill>
              <a:latin typeface="Arial"/>
            </a:endParaRPr>
          </a:p>
        </p:txBody>
      </p:sp>
      <p:sp>
        <p:nvSpPr>
          <p:cNvPr id="7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oser to the protosun, the hotter the temperature.  The temperature determines what could form where and when.  (Note that as the  solar nebula contracted due to gravity, it heated up as it flattened into a dis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nermost regions (Mercury), only metallic grains could form due to the high tempera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1 AU, rocky, silicate grains could 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yond 3 or 4 AU, water ice could exist, and so 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nd more matter could condense out at greater and greater distances from the su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out, water vapor, ammonia, and methane could condense into solid form, creating the cores of the Jovian pla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Temperature and Formation of our Solar System (p. 103)</a:t>
            </a:r>
            <a:endParaRPr b="0" lang="en-US" sz="3200" spc="-1" strike="noStrike">
              <a:solidFill>
                <a:srgbClr val="000000"/>
              </a:solidFill>
              <a:latin typeface="Arial"/>
            </a:endParaRPr>
          </a:p>
        </p:txBody>
      </p:sp>
      <p:sp>
        <p:nvSpPr>
          <p:cNvPr id="77"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Asteroids and Comets</a:t>
            </a:r>
            <a:endParaRPr b="0" lang="en-US" sz="4400" spc="-1" strike="noStrike">
              <a:solidFill>
                <a:srgbClr val="000000"/>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beyond the orbit of Mars failed to accumulate into a protoplanet due to the large gravitational field of Jupiter constantly disturbing their motion.  These are in the asteroid belt and also include the Trojan asteroi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further out were “kicked” into outer orbits and form the Oort clo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lanetesimals formed beyond Neptune are still there and make up the Kuiper bel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ensation theory could not account for the water and other volatile gases found on Earth and elsewhe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ts, containing both water and other volatile gases, bombarded the inner planets after they were formed.  Thus, the water on Earth originated in com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Random Encounters in the Solar Nebula</a:t>
            </a:r>
            <a:endParaRPr b="0" lang="en-US" sz="4400" spc="-1" strike="noStrike">
              <a:solidFill>
                <a:srgbClr val="000000"/>
              </a:solidFill>
              <a:latin typeface="Arial"/>
            </a:endParaRPr>
          </a:p>
        </p:txBody>
      </p:sp>
      <p:sp>
        <p:nvSpPr>
          <p:cNvPr id="8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collision of planetesimals and other bodies are allowed within the current condensation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andom collisions can be used to explain everything from Venus’ slow retrograde motion (due to two protoplanets of comparable mass colliding nearly head-on) to the formation of Earth’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05320" y="380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pic>
        <p:nvPicPr>
          <p:cNvPr id="87" name="Picture 3" descr="Figure04-30"/>
          <p:cNvPicPr/>
          <p:nvPr/>
        </p:nvPicPr>
        <p:blipFill>
          <a:blip r:embed="rId1"/>
          <a:stretch/>
        </p:blipFill>
        <p:spPr>
          <a:xfrm>
            <a:off x="380880" y="304920"/>
            <a:ext cx="3154320" cy="6481800"/>
          </a:xfrm>
          <a:prstGeom prst="rect">
            <a:avLst/>
          </a:prstGeom>
          <a:ln w="0">
            <a:noFill/>
          </a:ln>
        </p:spPr>
      </p:pic>
      <p:pic>
        <p:nvPicPr>
          <p:cNvPr id="88" name="Picture 4" descr="Figure04-29"/>
          <p:cNvPicPr/>
          <p:nvPr/>
        </p:nvPicPr>
        <p:blipFill>
          <a:blip r:embed="rId2"/>
          <a:stretch/>
        </p:blipFill>
        <p:spPr>
          <a:xfrm>
            <a:off x="4572000" y="1905120"/>
            <a:ext cx="3967200" cy="457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lanet is relatively isolated in 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re nearly cir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ll lie in nearly the same pl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the planets orbit the sun (counterclockwise as viewed from above Earth’s north pole) is the same as the direction which the sun rotates on its ax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most planets rotate on their axis is roughly the same as the direction in which the sun rotates on its axis (not Venus, Uranus, and Plu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Motion of Extrasolar Planets (p. 117)</a:t>
            </a:r>
            <a:endParaRPr b="0" lang="en-US" sz="3200" spc="-1" strike="noStrike">
              <a:solidFill>
                <a:srgbClr val="000000"/>
              </a:solidFill>
              <a:latin typeface="Arial"/>
            </a:endParaRPr>
          </a:p>
        </p:txBody>
      </p:sp>
      <p:sp>
        <p:nvSpPr>
          <p:cNvPr id="90"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ary Properties</a:t>
            </a:r>
            <a:endParaRPr b="0" lang="en-US" sz="44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of nearby stars surveyed so far show signs of extrasolar planets.  About a dozen of these systems contain more than one “observed” pla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are usually Jupiter-sized and nearby their parent stars - called “hot Jupi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often appear to be the sole large body in thei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two facts are due to a selection effect - the effects of smaller planets and those located at larger distances from their parent stars are difficult to det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Is Our Solar System Unusual?</a:t>
            </a:r>
            <a:endParaRPr b="0" lang="en-US" sz="4400" spc="-1" strike="noStrike">
              <a:solidFill>
                <a:srgbClr val="000000"/>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tary systems are quite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ystems discovered so far do not look like our 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explanations for how Jupiter-like planets can wind up close to the parent star (compared to our system), but we don’t yet know if that is the norm (or whether it’s more common for Jupiter-like planets to be farther out as in our sola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rection in which most of the known moons revolve about their parent planet is the same as the direction in which the planet rotates on its axi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planetary system is highly differentiated (terrestrial and jovian planet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teroids are very old and exhibit a range of properties not characteristic of either the terrestrial or the jovian planets or their moon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uiper belt is a collection of asteroid-sized icy bodies orbiting beyond Neptu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ort cloud comets are primitive, icy fragments that do not orbit in the plane of the ecliptic and reside primarily at large distances from the su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886200" y="30492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4" name="Rectangle 3"/>
          <p:cNvSpPr/>
          <p:nvPr/>
        </p:nvSpPr>
        <p:spPr>
          <a:xfrm>
            <a:off x="4114800" y="1828800"/>
            <a:ext cx="4724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of interstellar dust and gas - a nebula, begins to contract (for whatever reason) under its own gra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it becomes denser and hotter, eventually forming a star at its ce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the cloud spins faster and faster forming a flattened pancake-shaped disk (due to angular momentum).</a:t>
            </a:r>
            <a:endParaRPr b="0" lang="en-US" sz="2400" spc="-1" strike="noStrike">
              <a:solidFill>
                <a:srgbClr val="000000"/>
              </a:solidFill>
              <a:latin typeface="Arial"/>
            </a:endParaRPr>
          </a:p>
        </p:txBody>
      </p:sp>
      <p:pic>
        <p:nvPicPr>
          <p:cNvPr id="55" name="Picture 4" descr="Figure04-21"/>
          <p:cNvPicPr/>
          <p:nvPr/>
        </p:nvPicPr>
        <p:blipFill>
          <a:blip r:embed="rId1"/>
          <a:stretch/>
        </p:blipFill>
        <p:spPr>
          <a:xfrm>
            <a:off x="228600" y="228600"/>
            <a:ext cx="3728880" cy="64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7"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lattened-pancake is usually referred to as the solar nebula since it will form our solar syste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that planets form from such a disk is called the “nebular theor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een such disks formed in other system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ld nebular theory is wrong as we now know clumps of matter would not form from the gas as they would have dispersed and not formed plan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wborn Solar System?</a:t>
            </a:r>
            <a:endParaRPr b="0" lang="en-US" sz="4400" spc="-1" strike="noStrike">
              <a:solidFill>
                <a:srgbClr val="000000"/>
              </a:solidFill>
              <a:latin typeface="Arial"/>
            </a:endParaRPr>
          </a:p>
        </p:txBody>
      </p:sp>
      <p:pic>
        <p:nvPicPr>
          <p:cNvPr id="59" name="Picture 3" descr="Figure04-25"/>
          <p:cNvPicPr/>
          <p:nvPr/>
        </p:nvPicPr>
        <p:blipFill>
          <a:blip r:embed="rId1"/>
          <a:stretch/>
        </p:blipFill>
        <p:spPr>
          <a:xfrm>
            <a:off x="268200" y="1473120"/>
            <a:ext cx="8647200" cy="500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Condensation Theory</a:t>
            </a:r>
            <a:endParaRPr b="0" lang="en-US" sz="4400" spc="-1" strike="noStrike">
              <a:solidFill>
                <a:srgbClr val="000000"/>
              </a:solidFill>
              <a:latin typeface="Arial"/>
            </a:endParaRPr>
          </a:p>
        </p:txBody>
      </p:sp>
      <p:sp>
        <p:nvSpPr>
          <p:cNvPr id="6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theory, condensation theory, is built on the nebular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gredient - interstellar dust in the solar neb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st acts as condensation nuclei (microscopic platforms to which other atoms can attach) and helps the cloud cool enough for condensation to occur in the first pl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condensation theory, the planets formed in 3 distinct stages.  First 2 apply to all planets, 3rd applies only to the Jovian worl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ust grains in the solar nebula formed condensation nuclei.  These clumps then stick to other clumps, causing the clumps to grow in size rapid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process of accretion (gradual growth of objects by collision and sticking) created objects a few hundred km acr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the end of the first stage, solar system consisted of hydrogen and helium gas and millions of planetesimals (objects size of small moons having gravitational fields just strong enough to affect their neighb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two</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Gravitational forces between planetesimals caused them to collide and merge, forming larger and larger objec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Because larger objects have stronger gravitational pulls, eventually almost all of the planetesimal material was swept up into a few large “protoplanets” (accumulations of matter that would eventually evolve into the planets we know toda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asteroids and comets originated as collisions between planetesimals and protoplanets sent out small chunks of material that escaped cap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0:01:56Z</dcterms:created>
  <dc:creator>jackie Dunn</dc:creator>
  <dc:description/>
  <dc:language>en-US</dc:language>
  <cp:lastModifiedBy>Dell</cp:lastModifiedBy>
  <dcterms:modified xsi:type="dcterms:W3CDTF">2011-10-06T01:23:36Z</dcterms:modified>
  <cp:revision>3</cp:revision>
  <dc:subject/>
  <dc:title>PowerPoint Presentation</dc:title>
</cp:coreProperties>
</file>