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527-8F85-45B9-81E5-34AA5EDE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51F-1EAD-4C69-B90A-39C44D5C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6EBB-8F3C-4CA9-BA6C-E0F4F16D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D6B-9058-4902-AB67-81EA4BF0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5B5D-E104-4262-90DA-8BF48469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E035-E7C3-429A-AD9A-898A77F1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E324-C5AE-4E3F-9D07-11BD5669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4771-48C2-4C72-9549-BC589A9F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AFAC-78E1-409A-B563-6BA55095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C694-B018-4F21-9E87-BDB637B5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A8CF-403E-4604-B09C-66455A0E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A7C-BA5A-458D-9E23-A1DFEC6B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8020-4DCD-4FCC-AE16-18000FC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0E5C-DA98-4D52-BF17-52B14C26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2C35-98D2-45C7-851C-5C0F8FEF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8E6A-CE58-42EA-AB21-FD2B8D33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CC40-05DB-447A-B9DD-0FE91C0B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6D6-C7F1-4D37-87B5-C68B1A98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82C-F843-47BF-A524-105C0FB2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FC2-523E-456E-B021-4CB0C399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62F-FB0A-43BE-BB20-ED469DE7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472-59ED-48AB-AEA7-6FF67570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572-3F2B-438B-ADC2-A148F936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8A1D-B098-49D6-BF48-53A39F76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B6FE-C16C-4169-A51E-1D81C5C09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D58E-FF1E-4F58-BECE-FB2D2B197A9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14240"/>
            <a:ext cx="76230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0000"/>
                </a:solidFill>
                <a:latin typeface="Calibri"/>
                <a:ea typeface="SimSun"/>
              </a:rPr>
              <a:t>The Cerebellum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SimSun"/>
              </a:rPr>
              <a:t>Lies above and behind the medullar and pons and occupies posterior cranial fos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مجموعة 6"/>
          <p:cNvGrpSpPr/>
          <p:nvPr/>
        </p:nvGrpSpPr>
        <p:grpSpPr>
          <a:xfrm>
            <a:off x="4929120" y="500040"/>
            <a:ext cx="3786120" cy="2621520"/>
            <a:chOff x="4929120" y="500040"/>
            <a:chExt cx="3786120" cy="2621520"/>
          </a:xfrm>
        </p:grpSpPr>
        <p:sp>
          <p:nvSpPr>
            <p:cNvPr id="86" name="Line 5"/>
            <p:cNvSpPr/>
            <p:nvPr/>
          </p:nvSpPr>
          <p:spPr>
            <a:xfrm flipH="1">
              <a:off x="6335640" y="500040"/>
              <a:ext cx="2379600" cy="2621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6"/>
            <p:cNvSpPr/>
            <p:nvPr/>
          </p:nvSpPr>
          <p:spPr>
            <a:xfrm>
              <a:off x="4929120" y="2702160"/>
              <a:ext cx="190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Cerebellu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4" descr="3-2"/>
          <p:cNvPicPr/>
          <p:nvPr/>
        </p:nvPicPr>
        <p:blipFill>
          <a:blip r:embed="rId1"/>
          <a:stretch/>
        </p:blipFill>
        <p:spPr>
          <a:xfrm>
            <a:off x="2147484240" y="793816560"/>
            <a:ext cx="2147482800" cy="21474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Three functional divi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Vestibulocerebel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Flocculonodular lo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Spinocerebel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Vermis and intermediate z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Cerebrocerebell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imSun"/>
              </a:rPr>
              <a:t>Lateral z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小脑1"/>
          <p:cNvPicPr/>
          <p:nvPr/>
        </p:nvPicPr>
        <p:blipFill>
          <a:blip r:embed="rId1"/>
          <a:stretch/>
        </p:blipFill>
        <p:spPr>
          <a:xfrm>
            <a:off x="4284720" y="2138400"/>
            <a:ext cx="4402080" cy="3190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383440" y="48690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Flocculonodular l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030720" y="2755080"/>
            <a:ext cx="7290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Ver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592320" y="2756880"/>
            <a:ext cx="4546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Intermediat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110000" y="2899080"/>
            <a:ext cx="7290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SimSun"/>
              </a:rPr>
              <a:t>Lateral 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  <a:ea typeface="SimSun"/>
              </a:rPr>
              <a:t>function of cerebellu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Vestibulocerebel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involved in eye movements and maintain bal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Spinocerebell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SimSun"/>
              </a:rPr>
              <a:t>play an important role in control of muscle tone and coordination of muscle movement on the same side of the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Cerebrocerebel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participates in planning mo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77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s of the Cerebell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7440" y="2503080"/>
            <a:ext cx="690912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Mo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arning/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d18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181e"/>
                </a:solidFill>
                <a:latin typeface="Arial"/>
              </a:rPr>
              <a:t>Non-mo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actile explo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brain functions (cerebellar cognitive-affective syndr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0280" y="915480"/>
            <a:ext cx="6416640" cy="17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ebellar lesions prod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ordination &amp; errors not weak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ability to anticipate err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e ability to corr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30280" y="2508120"/>
            <a:ext cx="64166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quires sensory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mplemented via the descending cortical and brain stem path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430280" y="3981600"/>
            <a:ext cx="64166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gnitive and emotional disturb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atomical connections to prefrontal and cingulate cortex (via thalam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430280" y="5251320"/>
            <a:ext cx="64166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ingl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learly mostly motor; learning, optim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nctions may apply to cognitive and emotional behavi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00016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ebellar Sig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PNS-cbm-ataxia.jpg                                             0000300CHD3                            B6D53450:"/>
          <p:cNvPicPr/>
          <p:nvPr/>
        </p:nvPicPr>
        <p:blipFill>
          <a:blip r:embed="rId1"/>
          <a:stretch/>
        </p:blipFill>
        <p:spPr>
          <a:xfrm>
            <a:off x="2286000" y="0"/>
            <a:ext cx="4795920" cy="6705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7007400" y="29415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a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51040" y="7002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ypometria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se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7078320" y="4764240"/>
            <a:ext cx="173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ordination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alternat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isdiadocho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ines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47:04Z</dcterms:created>
  <dc:creator>Customer</dc:creator>
  <dc:description/>
  <dc:language>en-US</dc:language>
  <cp:lastModifiedBy>User</cp:lastModifiedBy>
  <dcterms:modified xsi:type="dcterms:W3CDTF">2012-02-20T07:03:34Z</dcterms:modified>
  <cp:revision>10</cp:revision>
  <dc:subject/>
  <dc:title>The Cerebellum</dc:title>
</cp:coreProperties>
</file>