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DC44-DADE-4E9F-9079-AC7518B0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37FD-B7C0-4830-A2DA-859D1C32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1435-FED6-4308-87BB-4EAB8661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564A-EFBB-46E6-9B5E-803909C0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3379-25C8-4548-AE61-8A87C8E9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6670-8BFB-474D-A608-5EC2417F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2A80-DF21-46AC-AF87-588B2BEF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A3B0-0754-4C56-8B74-290D06FA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2F79-ADB5-4F49-8FF4-0A1C6312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F915-C15E-44D5-83E2-DC53C919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013D-9D24-4601-8D55-86E65021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469-29B8-477D-BDD9-2F6299F2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A307-3853-485A-9BD7-D3094F37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C828-DDC0-485D-BB81-1C4DF8C3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24F4-1CCA-4335-8008-AF3C534E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4BC6-6CEF-48D7-823F-21F30DDA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3FDF-50BA-4287-A5B1-9AA651AE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B5A3-9923-4844-856C-57668B3D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B375-7317-428D-87D7-B8E1164B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0EDD-A177-4CA3-A3C1-91CBB8B7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54A3-CB78-401E-9ABD-E69E31D6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A2FD-556F-4DC3-B000-DA84334F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C15C-D6E3-4CCC-A666-93A96B7F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FFBA-D618-4E98-9E52-C10FC0A1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AA2E-4148-416E-B2D3-79BB86878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EE24-5CE8-421D-B47B-C4F5450A523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14240"/>
            <a:ext cx="7623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0000"/>
                </a:solidFill>
                <a:latin typeface="Calibri"/>
                <a:ea typeface="SimSun"/>
              </a:rPr>
              <a:t>The Cerebellum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97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SimSun"/>
              </a:rPr>
              <a:t>Lies above and behind the medullar and pons and occupies posterior cranial fos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مجموعة 6"/>
          <p:cNvGrpSpPr/>
          <p:nvPr/>
        </p:nvGrpSpPr>
        <p:grpSpPr>
          <a:xfrm>
            <a:off x="4929120" y="500040"/>
            <a:ext cx="3786120" cy="2621520"/>
            <a:chOff x="4929120" y="500040"/>
            <a:chExt cx="3786120" cy="2621520"/>
          </a:xfrm>
        </p:grpSpPr>
        <p:sp>
          <p:nvSpPr>
            <p:cNvPr id="86" name="Line 5"/>
            <p:cNvSpPr/>
            <p:nvPr/>
          </p:nvSpPr>
          <p:spPr>
            <a:xfrm flipH="1">
              <a:off x="6335640" y="500040"/>
              <a:ext cx="2379600" cy="2621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6"/>
            <p:cNvSpPr/>
            <p:nvPr/>
          </p:nvSpPr>
          <p:spPr>
            <a:xfrm>
              <a:off x="4929120" y="2702160"/>
              <a:ext cx="190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Cerebellu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Picture 4" descr="3-2"/>
          <p:cNvPicPr/>
          <p:nvPr/>
        </p:nvPicPr>
        <p:blipFill>
          <a:blip r:embed="rId1"/>
          <a:stretch/>
        </p:blipFill>
        <p:spPr>
          <a:xfrm>
            <a:off x="2147484240" y="793816560"/>
            <a:ext cx="2147482800" cy="21474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Three functional divi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SimSun"/>
              </a:rPr>
              <a:t>Vestibulocerebellu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SimSun"/>
              </a:rPr>
              <a:t>Flocculonodular lo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SimSun"/>
              </a:rPr>
              <a:t>Spinocerebellu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SimSun"/>
              </a:rPr>
              <a:t>Vermis and intermediate z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SimSun"/>
              </a:rPr>
              <a:t>Cerebrocerebellu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SimSun"/>
              </a:rPr>
              <a:t>Lateral z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小脑1"/>
          <p:cNvPicPr/>
          <p:nvPr/>
        </p:nvPicPr>
        <p:blipFill>
          <a:blip r:embed="rId1"/>
          <a:stretch/>
        </p:blipFill>
        <p:spPr>
          <a:xfrm>
            <a:off x="4284720" y="2138400"/>
            <a:ext cx="4402080" cy="3190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5383440" y="486900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SimSun"/>
              </a:rPr>
              <a:t>Flocculonodular l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6030720" y="2755080"/>
            <a:ext cx="7290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SimSun"/>
              </a:rPr>
              <a:t>Verm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592320" y="2756880"/>
            <a:ext cx="45468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SimSun"/>
              </a:rPr>
              <a:t>Intermediate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7110000" y="2899080"/>
            <a:ext cx="7290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SimSun"/>
              </a:rPr>
              <a:t>Lateral z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  <a:ea typeface="SimSun"/>
              </a:rPr>
              <a:t>function of cerebellum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Vestibulocerebel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involved in eye movements and maintain bal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Spinocerebellu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play an important role in control of muscle tone and coordination of muscle movement on the same side of the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Cerebrocerebel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participates in planning mo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77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s of the Cerebell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7440" y="2503080"/>
            <a:ext cx="690912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181e"/>
                </a:solidFill>
                <a:latin typeface="Arial"/>
              </a:rPr>
              <a:t>Mo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arning/adap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181e"/>
                </a:solidFill>
                <a:latin typeface="Arial"/>
              </a:rPr>
              <a:t>Non-mo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tactile explo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brain functions (cerebellar cognitive-affective syndro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0280" y="915480"/>
            <a:ext cx="6416640" cy="17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ebellar lesions produ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ordination &amp; errors not weak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 ability to anticipate err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 ability to corr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430280" y="2508120"/>
            <a:ext cx="641664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to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quires sensory awar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mplemented via the descending cortical and brain stem path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430280" y="3981600"/>
            <a:ext cx="64166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gnitive and emotional disturb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natomical connections to prefrontal and cingulate cortex (via thalam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430280" y="5251320"/>
            <a:ext cx="641664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singl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learly mostly motor; learning, optim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unctions may apply to cognitive and emotional behavi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000160"/>
            <a:ext cx="3352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ebellar Sig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PNS-cbm-ataxia.jpg                                             0000300CHD3                            B6D53450:"/>
          <p:cNvPicPr/>
          <p:nvPr/>
        </p:nvPicPr>
        <p:blipFill>
          <a:blip r:embed="rId1"/>
          <a:stretch/>
        </p:blipFill>
        <p:spPr>
          <a:xfrm>
            <a:off x="2286000" y="0"/>
            <a:ext cx="4795920" cy="67057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7007400" y="294156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ax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151040" y="700200"/>
            <a:ext cx="17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ypometria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ponse del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7078320" y="4764240"/>
            <a:ext cx="173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oordination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pid alternat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v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disdiadocho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ines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6:47:04Z</dcterms:created>
  <dc:creator>Customer</dc:creator>
  <dc:description/>
  <dc:language>en-US</dc:language>
  <cp:lastModifiedBy>User</cp:lastModifiedBy>
  <dcterms:modified xsi:type="dcterms:W3CDTF">2012-02-20T07:03:34Z</dcterms:modified>
  <cp:revision>10</cp:revision>
  <dc:subject/>
  <dc:title>The Cerebellum</dc:title>
</cp:coreProperties>
</file>