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DDCD-DA51-495D-B9A5-3B52AACD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F81-C06E-457F-9D74-AAE42063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E1D-454F-4B6B-BB69-46639FAD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8EA4-14F7-4D9A-9EF1-506F0814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F97D-B70C-4B1B-97CC-88D381A5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D20A-BE6C-432E-A906-F4A5A96A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92EA-9C1A-428C-9307-4D6B07B1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5EE4-8981-4092-8D2D-AA4F16E4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F513-D1F1-430F-8D00-86F603C4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2BA4-0573-4194-A73C-D2D45040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8D5B-EBEB-4F0B-B2A8-9788B644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DA49-ED6A-4009-8839-3D2F2A09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497E-4551-4C5D-9A1B-2C9C0CF5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8AEF-5A2B-49E8-A20F-5C93220B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896B-9BB3-4563-9B00-A0854812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298B-7D22-4C04-9D4A-82F96626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8BF0-D325-4705-93F9-F5BC6FFE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42193-3D7B-496B-AB36-CBD1DC1A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C8A27-A214-419F-A547-75DCEC10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3C3E2-51D0-4547-BC39-F27D572D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84AF9-C6A5-4580-9863-92D59048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0177B-1C7B-466B-8C08-24409175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EC0-E932-4CCF-84D1-50C3EF02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39B5B-265D-4CCC-BC92-961E943E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9DEBA-B880-4802-AB8C-3B2ABCCC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5AC8F-E0E7-4AF8-BCF8-BA0DED22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9BB4D-FD16-4B8E-814A-ED72350C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AF142-B316-41EE-9432-F604AB61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A416D-2CCA-40BD-9E63-E7D9EC52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17299-1375-495E-8912-728AEDF0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F8422-6F24-4FBE-AD3F-DBCE2C67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1F6A9-8845-4F2E-A316-729CAD2D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5B9C5-ECCB-4154-B7C3-18B8DDCA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24C-0156-43FF-AC99-40F02100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D58F0-9421-493D-9672-4A663727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D7BDA-0118-4CE0-8E50-EA65C194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01741-9FAC-4DC5-B514-A50D5D4C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1BEB5-9706-4F3A-90B2-E76FDD7C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03938-1C72-43CC-8442-817B45BE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AC470-A5D3-41CB-9068-04552DD5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A2547-7D4E-44EF-82F1-39A8D77C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2E17B-FF61-4628-9782-F4E3C630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5FD6A-E100-4EE0-9A51-A148FA61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63377-4B89-4AE3-BC9B-8A69570D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6BDF-08DD-4D10-A17D-0ABDA018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98AB2-1305-42F8-84C6-EAF8A986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1B97C-0FDD-44EF-8C82-73F4C2AE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72826-32C8-43AA-A9F4-063D3775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8A062-9B7E-47E0-976B-0F26AC6A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DF480-1DC1-4DFD-9512-1734E4D7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69E72-8FDF-4088-A99C-73DF881F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AF0C7-50BC-4458-994B-CAD7E998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4A646-8A5E-42A6-8F4B-C41957D8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1C5E6-99CE-48A3-881D-C160E37D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63556-B7D6-455B-94AA-E501A565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C38-E938-4396-9E0D-2C153977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3263B-5A76-4850-A0F6-EAA2CA5C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7E171-BEF3-4846-990D-F5FD59EC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227F3-FEF2-48FC-98DF-97094750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3876C-4D14-4A05-B3DA-A49784F2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EA52E-D2FA-4B11-9E3D-38DB9A57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DFD91-78C7-4F6A-80E7-2996B191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B347B-9165-4551-B02C-6D148BBA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61489-A87D-4BA6-874A-AAA0BFCA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340C2-0416-44CF-933B-3C975AFF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061BA-DD6B-4A39-A237-8A120351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2D51-ED64-4744-BE83-D2267D4E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CA583-417B-4413-9E8F-6070559F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B83C4-17F4-4889-A136-2B29B222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4D34B-53BF-403A-BFA9-5253A25D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836A3-EEF0-4874-97D3-B882C1F3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8D57C-29D1-479A-A905-67F96E8B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C352D-B303-4AC4-A06B-71529AA6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6FCE1-C537-4468-93DA-84A764AF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ECDC4-13F2-4E6F-9493-DB7D9853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CED8F-A45D-468A-A185-DBE70D89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04F72-F3F2-47B9-A214-A51A95ED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9BE5-FF69-47C2-8C91-22F7AB48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7F144-7A4F-42CE-8360-4C70C758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30F49-B8C9-40F7-B72A-0B4C42E8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4B0AB-F787-4F7B-A23E-1C6978CB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73DB1-940C-4A66-B02F-658FCE51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4A201-803E-40ED-B82C-38209324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8B9-6D81-4083-A3CA-F7150216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F70E-941D-438B-B44A-5ACA2F8049F0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FDF8-B431-4AB4-B33C-47CDD603125B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DC05-BD77-4D5B-A9CF-9C3E06C7BD8A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17D8-550D-4ED1-B988-539C26E9216B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EF61-B5A2-497F-B747-91019BC929C4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B914-4F58-4652-9F6D-40477BEB8AAD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0AB7-FC88-44E7-93F5-E5737E8D438C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Present Continuous/Progressive  Tens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4321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e form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Verb be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+ </a:t>
            </a:r>
            <a:r>
              <a:rPr b="0" lang="en-US" sz="4400" spc="-1" strike="noStrike">
                <a:solidFill>
                  <a:srgbClr val="7ec3d4"/>
                </a:solidFill>
                <a:latin typeface="Gill Sans MT"/>
              </a:rPr>
              <a:t>verb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4400" spc="-1" strike="noStrike">
                <a:solidFill>
                  <a:srgbClr val="b9d77a"/>
                </a:solidFill>
                <a:latin typeface="Gill Sans MT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.g :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eat</a:t>
            </a:r>
            <a:r>
              <a:rPr b="0" lang="en-US" sz="3200" spc="-1" strike="noStrike">
                <a:solidFill>
                  <a:srgbClr val="b9d77a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/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drink</a:t>
            </a:r>
            <a:r>
              <a:rPr b="0" lang="en-US" sz="3200" spc="-1" strike="noStrike">
                <a:solidFill>
                  <a:srgbClr val="b9d77a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/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listen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Use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ction is happening right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writing the lesson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 is eating his dinner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are relaxing by the lak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- The action is currently in progres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learning Italian this month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am studying grammar 1 this semester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he Negative form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erb to b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+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rosh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wear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boo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read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boo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play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football with the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es/No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he is reading the text right now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Is he reading the text right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, I’am not getting tire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- Aren’t you getting tire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, they aren’t learning Italian this semest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Aren’t they learning Italian this semeste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leav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at noo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When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are  we leaving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aren’t wearing sho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because their feet are hurting them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Why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aren’t they wearing shoes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3:16:21Z</dcterms:created>
  <dc:creator>sony</dc:creator>
  <dc:description/>
  <dc:language>en-US</dc:language>
  <cp:lastModifiedBy>sony</cp:lastModifiedBy>
  <dcterms:modified xsi:type="dcterms:W3CDTF">2012-04-11T17:26:14Z</dcterms:modified>
  <cp:revision>4</cp:revision>
  <dc:subject/>
  <dc:title>The Present Continuous/Progressive  Tense</dc:title>
</cp:coreProperties>
</file>