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4AE-5944-4737-AAC8-B12A2438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23A-7917-4E88-974C-C946F4C6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5D1-50CA-4A80-A42E-5F16831A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336-2F97-47F8-8752-BFFA1CE9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8784-C68C-4BDC-AD3B-A246E91A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E15E-2C4B-465E-BD54-DE31AD0C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52E7-698E-4ED7-B8D2-1493CE82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6AB1-8FAF-4E9A-8A60-9E18F8B4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5B6E-BBFD-4AC9-86B4-918A1AE7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EB18-37D7-46E2-9932-3A40C501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86AF-C914-4E38-AE62-3671A4B8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F30-3D5E-4F12-B93D-A72757C6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6739-635A-42A1-8268-7EA4C436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0203-E168-47FD-B7A7-41262404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57C5-7214-4F0B-A852-D75B0617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42FE-F33A-420A-A989-B16F2A7A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1B67-6FF8-4857-B320-558F541A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6E9E-9C30-4454-B156-C78B2F6A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A7DC-DAF8-4B79-8DDD-E811185A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9101-7159-4DCC-8D54-ECBDFA5E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2A3B-099A-46DA-864A-19997042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BAB7B-7FC3-4314-9486-9B1372BA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3B6-4FBC-421B-9BA1-578DC873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3FF2-CA13-492B-AA96-BF2B92EF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6A70-3C9A-4E4F-B0D8-7E3CBEB0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C8A9-7864-4FE4-BB23-8DA6406C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DE86-8338-42D0-AA7A-E7850432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BDDB-D4C7-4E26-B953-FD0A5411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0CCC-B09E-46C5-96E2-AE2D6BCF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B567-7C47-4B2F-9781-5C0DE07F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C03C-8B35-4F1D-A143-EFDF5C08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14C2B-2411-45B8-A8C9-8C3394EA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4067F-E09C-4E1E-9626-20A682F9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738-8566-44B4-8DF5-7BF5C307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05BAD-B81E-40D3-A74D-3B3BBE1C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1B4E-B1EE-43F0-BA1A-53B318B2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EAA33-E1C8-4308-8B36-D051E933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52005-F45E-44A9-A0DA-59E1AF99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29E74-0DF1-4CB1-A628-D731FC82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5990F-79E9-49FA-9A21-029F13B0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D0894-FA05-4D62-B9C4-A397221A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2CDF3-8BA3-4170-9339-8062CA34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59A49-AE35-4358-82EF-1468113D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B6F1-9529-4AFE-A9C3-E43F6DFB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819-4AF2-4B46-AE8E-6AC891E5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BB4BE-27E8-40E0-B729-4D5B92E7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6CBA8-4F26-4B74-A73C-1294999A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8692B-C779-433D-B828-74445C8B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F93BB-7E9B-4BBD-A59E-F4B6D9C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7183E-41DA-446F-8564-70DBD54C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56F21-8D70-4FF0-9DAB-4EC0D68E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5BEC3-0543-4F08-B6D5-528011AA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5C260-74ED-4A7E-8D63-0E371B90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E6A9-60D9-4DB6-BA0F-F04046E0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3A5D3-28CF-4E60-93AA-3EE30E6E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E48-9325-4F3F-82E7-E139D9FD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34689-47B7-4981-A596-D2AAD3E3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750AA-BAB1-41FF-AEF6-A3C23D03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6384-9BA2-4145-B786-8C60A8D8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809E5-3CB4-425B-A07C-BE40D48A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46417-DFD3-48C0-BDAF-E5384386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C0595-D80C-423C-B37A-83619344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E7478-731A-4613-B248-4D8E40FA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4EB83-7AA7-4665-AF6E-FF4714C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48BA1-0193-4A01-8B12-09BDB308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2D6C9-7042-467A-9C4A-9919AA90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3C5-3DF4-4C83-85F2-26378F77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F1AD1-0C17-4C4D-BBA5-371A89DB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AD52C-ECED-47D7-8B09-6C6B6418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44AC6-C0B5-40E2-AA7F-EC8AD917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FD4E3-BDE3-4488-858B-7D390372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1D5C1-2AF9-48E2-8B43-14C03190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E1985-5991-4AD1-A613-E4D2EFAE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11923-7E22-4D51-A916-CA62116F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0FB3E-7AEB-42FA-8E2D-97A9AEDF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C5BB3-4304-4C6B-BA39-658B920D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BA9EC-0614-49B2-B98B-B116E28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729-EEE7-4ABD-8522-BAED4915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6C14D-BFB3-4F86-B28B-D7C7BDCB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6E6DB-3216-42BD-9D1E-65A6F08D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BDECC-18EC-4F26-BE88-7FCCE343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890CF-9718-4C9E-8E04-420B54C0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F13E9-9476-45D8-80FF-04767031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A89-5337-406E-A9F4-6DE5F0B1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265C-A0DC-4EA7-9F72-C659B617C27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6D7B-06F4-4103-A72F-8CD9DC64F36F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1DFA-F1D5-470B-966B-BDF7658C30CE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9E4A-7C9C-43A8-89F6-8F62F19F1575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A478-F847-42FE-99C6-1DEDE8ACC74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D199-F16D-46E9-B95C-966A8342BD5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386B-ED45-4B46-A4FC-6673065C1CD6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resent Continuous/Progressive  Tens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e form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Verb b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4400" spc="-1" strike="noStrike">
                <a:solidFill>
                  <a:srgbClr val="7ec3d4"/>
                </a:solidFill>
                <a:latin typeface="Gill Sans MT"/>
              </a:rPr>
              <a:t>verb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4400" spc="-1" strike="noStrike">
                <a:solidFill>
                  <a:srgbClr val="b9d77a"/>
                </a:solidFill>
                <a:latin typeface="Gill Sans MT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g :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eat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drink</a:t>
            </a:r>
            <a:r>
              <a:rPr b="0" lang="en-US" sz="3200" spc="-1" strike="noStrike">
                <a:solidFill>
                  <a:srgbClr val="b9d77a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/ 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ec3d4"/>
                </a:solidFill>
                <a:latin typeface="Gill Sans MT"/>
              </a:rPr>
              <a:t>listen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Us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action is happening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writing the lesson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 is eating his dinner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 relaxing by the lak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- The action is currently in progres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rning Italian this month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am studying grammar 1 this semester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The Negative form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Verb to b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+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rosh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wear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boot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read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book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Gill Sans MT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Gill Sans MT"/>
              </a:rPr>
              <a:t>play</a:t>
            </a:r>
            <a:r>
              <a:rPr b="0" lang="en-US" sz="3200" spc="-1" strike="noStrike">
                <a:solidFill>
                  <a:srgbClr val="92d050"/>
                </a:solidFill>
                <a:latin typeface="Gill Sans MT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football with them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es/No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es, he is reading the text right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Is he reading the text right n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I’am not getting tir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- Aren’t you getting tire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, they aren’t learning Italian this semest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learning Italian this semeste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formation Question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 are leav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t no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en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are  we leaving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aren’t wearing sh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because their feet are hurting the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y 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aren’t they wearing shoes</a:t>
            </a:r>
            <a:r>
              <a:rPr b="0" lang="en-US" sz="3200" spc="-1" strike="noStrike">
                <a:solidFill>
                  <a:srgbClr val="967d42"/>
                </a:solidFill>
                <a:latin typeface="Gill Sans MT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3:16:21Z</dcterms:created>
  <dc:creator>sony</dc:creator>
  <dc:description/>
  <dc:language>en-US</dc:language>
  <cp:lastModifiedBy>sony</cp:lastModifiedBy>
  <dcterms:modified xsi:type="dcterms:W3CDTF">2012-04-11T17:26:14Z</dcterms:modified>
  <cp:revision>4</cp:revision>
  <dc:subject/>
  <dc:title>The Present Continuous/Progressive  Tense</dc:title>
</cp:coreProperties>
</file>