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204-0A96-49C5-B110-33E3A572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4EF-2E69-430E-B3DD-333D06F0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311-34DE-413A-A722-34529C87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591-C601-46D9-966C-4D8351BB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3B8E-037A-42BC-AEC7-2740F4D7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19E4-0481-4615-BA3E-8EA40354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6C9F-2171-468E-B1D9-D7FE463F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0A22-255A-42C1-A7D6-75422016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9233-1C0A-4E74-835B-35D11E42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EDE0-335C-4413-905A-AA62782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67BE-E7E5-48E0-BE03-F4F1182B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AD3-BF9B-4A00-A582-E87E827D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6E65-E4D9-4B1B-B2B3-6283469F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110-C59A-4E90-82A1-64EB4068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B07A-2FE8-4D0C-A8E4-B8BA7990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276F-584B-495B-BF15-12E6A281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8FE7-CCF9-49AB-B5BC-23E2170E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8D0D-1C51-49B8-98D8-A550E073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678D-DA5D-499C-B68C-E98CB7DE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FC86-6901-43FD-9CB9-49C5649A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AD49-73B8-49C6-A831-62F06207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FB0E-CAE3-4746-965A-E2B0F893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69A-4891-422F-9F7F-0775257B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F10E0-5F34-4C31-91C5-52E58E8B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A96E-D6AD-4B1E-B410-02F5258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3FCE-00AF-4FDD-8B0D-862F5FC9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2E83-8543-4FB2-8E5D-D1E66482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9DE8-CA4F-4338-A514-176DA2F7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6892-25B3-49F9-868F-F854E281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AE99-6A5D-487F-B3E9-4758ECD3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8541-6F11-43DA-AD3A-FC687986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8D89-E6EA-4F17-A670-71519CE5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B4E00-FBD7-4D35-86D4-3BA08C35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2B8-D200-43DF-A33D-67CC0929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7CE2-FF6E-4245-A3EF-D0F3CADD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ED2F-AB10-4026-B9CA-F953B01A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95D9-7DA1-49FD-BE0D-040D992D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4441-77B2-46E1-96BA-25722600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4E7B-F0D5-4242-8067-DAA2A66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6DBE-DB48-4B6D-9990-4B87DC5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6B6E-12AE-4FB7-8F3C-80AE40D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8FD3-27C2-43EE-A2C5-118B593C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B652-8AE8-4182-A6B1-F9AAC42C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ECA5-C16F-43CD-BCB1-0CC69A71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1CB-D2FE-445E-931A-258B237A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EB443-1055-4D99-8870-4080C6F4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964F-C6D1-4289-A96F-F7E76180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0A73-FA64-4BA4-A0D5-A928A658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41E65-AECB-41E3-8E5F-918195DB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19D7B-FF0E-499D-91B7-F40C7CF0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4A769-1088-443E-A63B-C1C22FED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F871C-B094-4A01-B8EC-CE8E262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3A3F6-DB26-4EFC-A5CE-3E9FE11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29EF-B6FD-4FB7-A113-972411D4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6F0F5-2C80-45FC-ADAA-34098981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3E8-D6FE-47A4-BA6E-1C67156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CAF82-555A-4999-8776-70D5F06C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2E990-BDEB-443E-ACC3-31505C24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21A81-EAC2-477A-9774-64764A23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813F5-6393-444B-A5BA-7EFDDF13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AF712-2147-428D-A8A0-94AB15C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E00BB-174D-4E6D-89DC-5CA0284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3632D-6689-4DB4-8B38-BBCA1CC3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43BF9-0A6F-4B3D-B066-7B2E690A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337E9-E5C6-442F-82F7-E09E06BB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7ADFF-4463-4658-8916-9D23D78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C09-0990-4055-9570-BC6536A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DA5FC-5AC3-4795-9C1C-DDAE5FB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A09E9-C4A5-4DF5-8F63-124816D7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FB6CE-71CB-4D52-A07B-4CB0CF97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BD87F-E871-4278-AC59-F793AA11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8A3A0-524B-4D2A-B69A-E6B479D4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23755-5C08-4A43-9D22-F376481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D937F-B96F-43B2-B9A2-35DCF61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174CB-1E64-48C4-B126-DD4DA80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5E833-6C9F-481A-9CA4-5A1B2C35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D447-5C20-491F-BD79-E88F450F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70D-0A6C-44AC-92E8-EC4C9DED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F56C1-59EC-41EC-9A66-1D8E2A8D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77C7C-4A4A-4977-9684-24302137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F80A1-0372-4B18-AB2C-04442E49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441B3-9B34-4387-AD33-4E122020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1E441-AEDF-41B7-9500-44240F07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21C-DADA-48BC-92C2-FE15255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7237-0EFE-42BE-BAC0-98E7AF3DC8B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7DDD-B96E-4112-AAB1-FF9632D5D73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11D7-557E-4406-8944-CE5DEA0547E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71F-43B8-4131-B7E1-94432BB1E17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03F6-C66A-46B2-A90D-9E5D0AA9F04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0A2-A845-4F22-B6E8-616A9B7AB5A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45B0-D176-4AD5-91BD-A84BC17BE18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resent Continuous/Progressive 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Verb b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4400" spc="-1" strike="noStrike">
                <a:solidFill>
                  <a:srgbClr val="7ec3d4"/>
                </a:solidFill>
                <a:latin typeface="Gill Sans MT"/>
              </a:rPr>
              <a:t>verb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4400" spc="-1" strike="noStrike">
                <a:solidFill>
                  <a:srgbClr val="b9d77a"/>
                </a:solidFill>
                <a:latin typeface="Gill Sans MT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 :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eat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drink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listen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s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ction is happening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writing the lesson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is eating his dinner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 relaxing by the la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- The action is currently in progres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rning Italian this mont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 studying grammar 1 this semest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 Negative form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osh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wear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o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read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 with the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he is reading the text right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Is he reading the text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I’am not getting tir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- Aren’t you getting ti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they aren’t learning Italian this semest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learning Italian this semes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v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t no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are  we leaving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n’t wearing sh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ecause their feet are hurting the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wearing shoes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16:21Z</dcterms:created>
  <dc:creator>sony</dc:creator>
  <dc:description/>
  <dc:language>en-US</dc:language>
  <cp:lastModifiedBy>sony</cp:lastModifiedBy>
  <dcterms:modified xsi:type="dcterms:W3CDTF">2012-04-11T17:26:14Z</dcterms:modified>
  <cp:revision>4</cp:revision>
  <dc:subject/>
  <dc:title>The Present Continuous/Progressive  Tense</dc:title>
</cp:coreProperties>
</file>