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23B-18F8-4ABF-A493-1412D17A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526-CC9C-4E2E-B4CE-F3399BE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066-01F7-4DEB-8685-6E928907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9CA-F2C7-48E0-A73C-DF36C472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CDE3-D767-4538-9431-275FD08A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11BF-986B-4E9B-A0B2-655AB029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9AE3-AB50-4192-9169-E8610887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C7BC-BC91-4D01-9DAA-CCC74782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D618-2C56-463D-BFF2-C30682F2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5230-D12C-42B2-88B0-A25AE442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9BD6-DA4A-414E-9BA7-23D5B7CD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46C-132D-4987-BFEF-E70EE50A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22F7-8BA4-488A-BB9E-F8706EE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5845-2868-43C5-87A5-2104FF8E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E16D-3A85-49EF-9853-798A0C7D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14F7-1FCA-4162-9ADE-281FB13C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ABD9-F344-4FF9-A9AE-B7D27D61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491B-28FF-48B3-B4BA-F432588F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5C70-6D47-4A57-BF12-C591E6E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C87B-FC53-4CDB-AEB4-B9FECF6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70FF-E590-42AB-BAE0-62CA8EDD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BDC0-1BD3-458F-B685-63F34F43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338-8434-453E-B25A-44936B64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09BF-34BE-4378-BFDF-83E73EDF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1110F-782E-41DC-9895-9CD34082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F61A-E5BD-4A07-B9F5-A92778B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477C-6C2A-4860-B8A1-3D74697F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D8EA-1036-43D7-B2E4-B85F5356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7CA4-A4C6-4715-A593-2F408575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9505-D16F-41C6-8731-6692BC63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5B27F-2BA4-47DE-B68B-18093AEA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9F3F-DC79-4F92-A211-70392029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54E53-3FEA-4FB3-83EB-02285CE7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81E-BDBC-4ABA-AC2E-0F91AD70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41707-5CB7-4E68-99D4-1676543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A08E-93E4-4114-8AA4-71C86CFE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92D25-1EA8-4C5B-9DE0-45D45E4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0C16-DC81-4A3F-B710-37D90FEA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CCDC4-BC30-4366-9F12-2A8AFF8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8899-3995-472F-AB1B-719F3E8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B967C-4688-42C2-904F-256C76A6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3FD0-1FEC-4FD7-8897-71BD978C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E0D79-5F9F-4917-B879-A7D13F2A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DE2C3-4145-4A91-B3DD-BC74ED9E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71A-A384-4F1E-A404-399663D2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D18C7-B51F-4A94-A82C-47BF3293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08CE-31B5-4A9E-A5CD-E50AEDD5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8167-A3D2-452C-B2FD-EE1E208C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653FD-07E7-45DC-9BAA-8B93009D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54A4-E647-4860-88E1-49AE3ED8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C92F4-2587-4546-A448-68940145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2563B-2857-46BB-B575-6CD9A0C2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88B2-FFE5-41D4-8942-94277FCA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04DE-94AB-4911-9DC1-24CC6889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2A680-1EDF-4247-9042-82C184A7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02E-86CE-4653-AF55-82653FAB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6C8B4-8012-4A98-9BC6-6EA244D8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00F14-7C2C-4328-8E7D-5F1BCBCE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90047-562B-4CF4-B79D-63A19BE3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B0A84-3922-479A-8A31-35C05134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C1105-CE93-4E1E-9612-2836C907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36AA1-7A18-483B-A058-AE390ADE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3106D-1AF6-42DE-BCC4-C2F28D42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18C62-FBC8-4FD7-9E05-A1091089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C7B20-9D86-4F6A-8652-7E9002DB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4025F-9604-4F1E-A2D0-D8A54835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B10-0361-4CD1-A3AA-46CD1554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C208C-2CA5-48EA-A634-B5323A92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D2F7C-59D8-4CF8-8451-D328037F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E5C48-35C1-47A4-A6F2-01FFF569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C26E-C68D-4E3F-A715-5B9C92A3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14299-3F08-474F-9DA5-BDBB2E8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4BDC2-4EED-4EA1-A118-E3CD74BF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D73C4-F5AD-4A62-A06C-13870EAF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311AC-60A8-4ACD-8978-710257AA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A462C-148E-4FFA-9064-2AC64C6B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DC35-63D3-4280-B598-C9A14B35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8FC-6869-4F8A-93E7-2B47F3E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DF85A-A1D4-4F20-98FA-F4295939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091B7-14F2-4342-86E2-483DBDA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B03EB-5F46-4FBC-9E0B-35A62A48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2A6F-02B4-4507-8478-545F054E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E98E9-BF97-48E8-B0DF-290248E1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C89-7B63-4459-84B5-E2A83C6C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D19-19ED-4BA0-8DD4-C38F55EA418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E8B4-150B-4CD5-9CBA-824F6400AC4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457D-154E-4754-87CC-0F88A9D5829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0528-6559-46B2-B0E4-390F35CAEE5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7AE6-82FF-47DA-A233-129776BB3D2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C0CF-2955-4021-B491-66FE9E47EA1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E968-3686-4315-ABBB-10869B28F29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resent Continuous/Progressive 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e form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Verb b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4400" spc="-1" strike="noStrike">
                <a:solidFill>
                  <a:srgbClr val="7ec3d4"/>
                </a:solidFill>
                <a:latin typeface="Gill Sans MT"/>
              </a:rPr>
              <a:t>verb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4400" spc="-1" strike="noStrike">
                <a:solidFill>
                  <a:srgbClr val="b9d77a"/>
                </a:solidFill>
                <a:latin typeface="Gill Sans MT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g :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eat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drink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listen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Us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ction is happening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writing the lesson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is eating his dinner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 relaxing by the la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- The action is currently in progres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rning Italian this mont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 studying grammar 1 this semest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 Negative form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osh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wear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o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read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boo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play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otball with the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he is reading the text right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Is he reading the text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I’am not getting tir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- Aren’t you getting tir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they aren’t learning Italian this semest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learning Italian this semeste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v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t no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are  we leaving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n’t wearing sh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because their feet are hurting the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wearing shoes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16:21Z</dcterms:created>
  <dc:creator>sony</dc:creator>
  <dc:description/>
  <dc:language>en-US</dc:language>
  <cp:lastModifiedBy>sony</cp:lastModifiedBy>
  <dcterms:modified xsi:type="dcterms:W3CDTF">2012-04-11T17:26:14Z</dcterms:modified>
  <cp:revision>4</cp:revision>
  <dc:subject/>
  <dc:title>The Present Continuous/Progressive  Tense</dc:title>
</cp:coreProperties>
</file>