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B4FF-01B0-4E1B-99E2-4C8435E9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A479-BE98-44A8-8DF5-EAFDE905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3016-976A-4C3A-837F-C640DA79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8D08-1379-49EF-8103-4A5C20CB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ADA4-D4DF-4482-AAF5-865983EA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CB7B-6215-4196-8D32-46CE4425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72E5-55B5-473C-B3BA-B0665474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CF5D-0F71-4FFD-A058-2B457653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C527-5FBF-43A2-8DF3-02F90AFF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BBF3-EF76-4077-B0F8-F8AAA418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B41E-DDF0-46C9-B641-01DD2756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0062-2214-4C6E-B866-44021D53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22F9-F05F-44FA-BFF8-73481B15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85FE-E475-47A8-AD59-9A986DA7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F2F7-143F-4002-AB7A-214E2F09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5624-C6E1-4DC8-8CDD-D6058607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80CE-32CC-4B58-980C-8EB54BB4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A9380-E587-4FF8-ACC5-62221E2D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034C5-D04C-4D3D-B224-30FF8E2A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681A2-4E50-4417-B010-E74A67F7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05D9E-791A-4C7D-AA75-51F4F034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CF22C-EF7D-4460-99B2-60E60149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8960-5A47-4C1E-A87C-3EC4CD97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2725C-9509-406C-9A0B-EE1656D4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7449C-0D6E-4838-A5F6-3C51D632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5B54B-7875-4607-9E62-14A95970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E6E9E-054B-423B-B7AC-C826D99B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A191A-9D6A-406D-8580-24828D9D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6342A-52F0-4191-944D-D36B09AB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457C1-E6B4-481E-A048-AB10BD85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0DF1C-938E-4B91-95A3-D22E6C54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2099E-A157-4C84-8C9E-8AC47F4A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E0E74-9852-458F-96DB-15A44EFB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203D-CCAD-4FCA-9A09-D5B051CE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1A760-C2B7-4A7E-8213-52905ACC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43C5F-67A7-4F4C-B575-06A2E9D8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D904E-6A6A-409C-9E03-E597DA6D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151CB-9C42-4BCA-B813-7B9F300F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6680B-DD2E-469E-9B02-327FD483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BFCE4-A99E-4D78-A579-49AB4036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D02B7-CE3D-44AA-9180-9B98E593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D3F37-CB75-4C75-AAAD-B8CD80EB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89487-9381-4CDA-AA24-13205749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79AFF-C5FC-4E93-B7A7-D038860F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BAAF-1F6C-4A66-B7E9-5FE323D0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B4A55-9AF3-4361-B98E-326EE5DB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15ACC-F48A-4CE7-A534-4FB44CDD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A00A9-BEC2-4FF8-8A63-006B7CC7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5D41C-902A-409E-A5A1-1EFF7C72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96CE1-88EE-4096-A74A-6B7CDFCE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90761-E483-4BCA-B2D5-75D53E5A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60C86-D048-4636-95CF-5F4CDF4A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D921A-6761-48FB-BAAE-21FAEB2A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82F03-5C99-47C2-81FA-0562934A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B932F-7933-456B-A1BF-8514F617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13CE-E37A-4666-A64F-8D1BFFB0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FB6F1-09A8-44D9-86D5-878173DF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B6E8D-97DE-4EBC-8538-1A052641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F7BE0-1101-4ECF-9187-D53FDA73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1E5A2-8B3B-4CB0-A034-A1C2AC6B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D97A3-EB65-4633-9A1E-3F9228DE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02F41-D2B7-467A-8F07-89BDF777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B2728-DFB4-45AD-878B-DA4E4577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1C8FC-E066-48B2-B1F8-18773D66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3E258-0634-45E0-BB46-C177166B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2E44C-E1FA-4622-988F-92F4F44C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969C-BEBA-4BAD-BC2E-9EFF4D1F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8E12B-F811-476D-A4C0-A183C86A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2C172-C49A-416B-9A54-19D865AB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0100E-C4E0-4068-B7E3-E5F91D0E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17E20-2D5B-498B-9DAC-002F89E8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F6D2C-BEC0-47FF-BC72-9A308341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6EC49-5397-4A87-BA8E-F7845E06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AD686-CF4D-4F6C-92A0-21D82C59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78BDF-633E-4507-A35D-D9A42B69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867FA-8A41-4D45-9D53-E4605BAB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E4A05-169A-480E-9C2D-4455FC43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9FBD-44BF-437A-B71E-10FE3E63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B1088-F131-44BC-B258-BF266BE1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9A0F5-40A0-4242-8F38-EA1F7D2B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DD77D-44EA-4201-A0FA-1E4DB8CE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20B68-5A0D-4F60-8742-C22C88BD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DFE52-0E77-4660-A620-312DD37C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DBD1-4FF4-41F3-9F39-47910F70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2FF5-929C-424D-9F48-C80F61415973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2B5A-342B-4936-B60C-A2E0895C854D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C4F4-EAAA-45C0-B0DF-398616337512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3C9C-9410-421F-99C1-788D8B737BC8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D7EA-9EF9-4539-8108-9BB532B5E6D9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D4FB-5C10-4F85-9E2A-957382507531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C750-4077-4EB6-A4EE-0497D1F8315A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Present Continuous/Progressive  Tens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2627280" y="2205000"/>
            <a:ext cx="4321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he form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Verb be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+ </a:t>
            </a:r>
            <a:r>
              <a:rPr b="0" lang="en-US" sz="4400" spc="-1" strike="noStrike">
                <a:solidFill>
                  <a:srgbClr val="7ec3d4"/>
                </a:solidFill>
                <a:latin typeface="Gill Sans MT"/>
              </a:rPr>
              <a:t>verb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lang="en-US" sz="4400" spc="-1" strike="noStrike">
                <a:solidFill>
                  <a:srgbClr val="b9d77a"/>
                </a:solidFill>
                <a:latin typeface="Gill Sans MT"/>
              </a:rPr>
              <a:t>ing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.g :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eat</a:t>
            </a:r>
            <a:r>
              <a:rPr b="0" lang="en-US" sz="3200" spc="-1" strike="noStrike">
                <a:solidFill>
                  <a:srgbClr val="b9d77a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/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drink</a:t>
            </a:r>
            <a:r>
              <a:rPr b="0" lang="en-US" sz="3200" spc="-1" strike="noStrike">
                <a:solidFill>
                  <a:srgbClr val="b9d77a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/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listen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Use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action is happening right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are writing the lesson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 is eating his dinner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are relaxing by the lak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- The action is currently in progres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are learning Italian this month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am studying grammar 1 this semester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he Negative form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Verb to b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+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lang="en-US" sz="3200" spc="-1" strike="noStrike">
                <a:solidFill>
                  <a:srgbClr val="00b0f0"/>
                </a:solidFill>
                <a:latin typeface="Gill Sans MT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irosh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Gill Sans MT"/>
              </a:rPr>
              <a:t>wear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boot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Gill Sans MT"/>
              </a:rPr>
              <a:t>read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book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Gill Sans MT"/>
              </a:rPr>
              <a:t>play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football with the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Yes/No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he is reading the text right now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Is he reading the text right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, I’am not getting tire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- Aren’t you getting tire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, they aren’t learning Italian this semeste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Aren’t they learning Italian this semester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formation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are leav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at noo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When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 are  we leaving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 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aren’t wearing sho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because their feet are hurting them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Why 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aren’t they wearing shoes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13:16:21Z</dcterms:created>
  <dc:creator>sony</dc:creator>
  <dc:description/>
  <dc:language>en-US</dc:language>
  <cp:lastModifiedBy>sony</cp:lastModifiedBy>
  <dcterms:modified xsi:type="dcterms:W3CDTF">2012-04-11T17:26:14Z</dcterms:modified>
  <cp:revision>4</cp:revision>
  <dc:subject/>
  <dc:title>The Present Continuous/Progressive  Tense</dc:title>
</cp:coreProperties>
</file>