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035F-B206-4A02-A3D2-E78EA645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A1C0-3659-4A55-9A31-779D75AE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56EA-DC08-4722-B464-67A4FAF1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DDA1-2A49-4968-94D0-63D9908D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2AF9-A4A3-4967-BA62-AB331DDD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9521-919B-4110-A9D9-4A411214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FCFD-B342-410B-BC88-7EB9BA13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EADB-5573-477B-8122-21626845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97AA-739A-4268-B80C-5AF15B68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82A0-9514-450B-8E0F-1DD2F67C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76CA-A74A-4C16-AE37-F5414725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19FE-53EA-4096-B5F7-B6A451D8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2903-A21A-42A7-B035-1CA90569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E76B-6B1F-4F9A-A031-7FBB150C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D4F5-8D03-4D2A-8035-D205BA62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EC16-5756-471F-AD0F-9716B7B8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E0B1-C19D-402F-B72F-677BCA63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5742E-8FCF-4E62-8588-17FDC7B9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E6ED4-4FCC-4099-9602-D0714D1B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5DE2C-C3A4-465E-B3DA-F5B0C83B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86E52-BE3C-4E9B-A118-BC3E6D24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3BD7B-11F2-4AAD-A506-4A8F29BB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B5E8-AC82-49A8-AF44-B0E8D40A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797CD-5079-4125-80EF-46AAFD93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87047-98CE-4C31-B3F2-4FD2387F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15A73-E49C-433E-B741-E2EB64F1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84B74-56AA-479E-9552-F56C6CE9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A7FE1-6FF1-4A3C-8910-BA9EC095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9D8E5-5606-48C9-BD73-BA85F60F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1B8C5-90B6-4F65-98A2-A3E4FB93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7C2ED-B458-4939-A518-C4994A7B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A723C-6971-4929-9AC1-9919EAD8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A925E-20CE-4326-942D-256CC478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0597-0004-4968-A10F-3BDED742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D7BAC-1F54-44BB-A25E-02809CF6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4D393-7ECB-49E8-8F6B-20F8138D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7B130-44B6-4F85-BE34-D36FC456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40959-87F0-4680-8C45-D01E250C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493F7-16B7-4D03-9803-7FEF8F92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02F10-CE7D-4E11-90CC-02DFB68D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3C3F4-EF93-4F9A-9BDD-EE2F1F45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E6B29-4FE7-49DD-B916-105AA6F4D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84F09-9559-4BB3-941E-B79A9FFB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41D4A-DD23-4C08-BA62-CA153178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9968-647D-4BF9-929A-261FF8F3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2D9C2-2272-48E1-8FF3-3692BD70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4EA41-74A0-427C-B016-001AEC2A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1E153-3B0A-448A-BDFA-4F094572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C5BB1-A03A-4E98-AB13-5FB6B320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F992D-6B06-47ED-A199-FB9E3499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47DF7-1BDF-4493-81B6-08F46B83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167AB-7F4D-45BB-8D9E-3D42390A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6298A-79EE-4539-8B59-E33F0F0B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904EE-E1AC-41E9-9F59-1BF31807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4A6E6-6645-4C4D-8709-D0747A80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23D4-3495-4DB9-BA44-0575C419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D18D9-7F58-42EC-82C7-CE99D87A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C3AB3-685A-4ED8-A671-F49735FA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DDBD7-8A01-4F76-88EB-635AA29E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3374C-A55C-4646-939E-4C40BD13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A7325-5898-4B1C-B612-29A64A0E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03ED2-5776-40D0-BA61-CEA60AAA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71C0C-8DF2-4712-8785-92C16171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67067-A312-4B6F-9B33-EDB2C492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20026-E23E-46D8-B3FF-DDD81888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82C7F-21AB-426F-B8B5-4B542B15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CA7A-EBDA-46A5-A4B1-8830BD5E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2E330-D181-4AD8-B158-C1988899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DE08D-90B0-495A-8E99-E17EF2A0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D113C-BE4B-43C1-B1C8-834959B1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125D2-2051-4D39-86C9-7B18A34F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F9904-CDF6-473D-9A59-6563069D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40F55-DA04-4EA2-BBC4-5071B3BF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C5CB1-B614-40C1-B532-C14DE841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330F8-4813-433F-9B78-EAACFE1D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F051E-719E-47EB-A006-BB8E754B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9E238-78D6-463C-921F-2F5E5655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99E3-0105-413F-9AEA-6AAB08DF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6C0EC-38F7-4524-A912-F06B9FB6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2A2C7-C8B8-415B-931A-60D5C1C6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036ED-0045-4B19-9402-76E2079D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E35C7-BC50-4E91-A3CF-0F385292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91231-7AE9-4581-BF06-C72CE7E04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B8D0-3E20-4B45-BD54-AFFF87E2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DF2E-37B6-468B-A25B-8CE736A862CA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E36E-0F48-4052-8E71-C03F6DFC04FC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B270-DD2D-47A0-B3F4-3A84DC965BAE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B56A-ECD1-44F9-9CCA-3136AC026121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3005-F24C-4423-800F-58A284D0C31F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56E0-D6B7-4955-BD03-BE7817709624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3CB4-243D-471C-B619-722DDCEB0CDD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Present Continuous/Progressive  Tens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2627280" y="2205000"/>
            <a:ext cx="4321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he form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Verb be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+ </a:t>
            </a:r>
            <a:r>
              <a:rPr b="0" lang="en-US" sz="4400" spc="-1" strike="noStrike">
                <a:solidFill>
                  <a:srgbClr val="7ec3d4"/>
                </a:solidFill>
                <a:latin typeface="Gill Sans MT"/>
              </a:rPr>
              <a:t>verb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lang="en-US" sz="4400" spc="-1" strike="noStrike">
                <a:solidFill>
                  <a:srgbClr val="b9d77a"/>
                </a:solidFill>
                <a:latin typeface="Gill Sans MT"/>
              </a:rPr>
              <a:t>ing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.g :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eat</a:t>
            </a:r>
            <a:r>
              <a:rPr b="0" lang="en-US" sz="3200" spc="-1" strike="noStrike">
                <a:solidFill>
                  <a:srgbClr val="b9d77a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/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drink</a:t>
            </a:r>
            <a:r>
              <a:rPr b="0" lang="en-US" sz="3200" spc="-1" strike="noStrike">
                <a:solidFill>
                  <a:srgbClr val="b9d77a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/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listen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Use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action is happening right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are writing the lesson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 is eating his dinner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are relaxing by the lak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- The action is currently in progres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are learning Italian this month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am studying grammar 1 this semester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he Negative form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Verb to b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+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lang="en-US" sz="3200" spc="-1" strike="noStrike">
                <a:solidFill>
                  <a:srgbClr val="00b0f0"/>
                </a:solidFill>
                <a:latin typeface="Gill Sans MT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irosh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Gill Sans MT"/>
              </a:rPr>
              <a:t>wear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boot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Gill Sans MT"/>
              </a:rPr>
              <a:t>read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book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Gill Sans MT"/>
              </a:rPr>
              <a:t>play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football with the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Yes/No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he is reading the text right now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Is he reading the text right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, I’am not getting tire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- Aren’t you getting tire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, they aren’t learning Italian this semeste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Aren’t they learning Italian this semester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formation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are leav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at noo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When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 are  we leaving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 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aren’t wearing sho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because their feet are hurting them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Why 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aren’t they wearing shoes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13:16:21Z</dcterms:created>
  <dc:creator>sony</dc:creator>
  <dc:description/>
  <dc:language>en-US</dc:language>
  <cp:lastModifiedBy>sony</cp:lastModifiedBy>
  <dcterms:modified xsi:type="dcterms:W3CDTF">2012-04-11T17:26:14Z</dcterms:modified>
  <cp:revision>4</cp:revision>
  <dc:subject/>
  <dc:title>The Present Continuous/Progressive  Tense</dc:title>
</cp:coreProperties>
</file>