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015-6F14-4305-A8DC-EB88CF7A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BEE-5843-45AC-8307-B4932BF3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BAE-1BDC-4AFB-98D8-4F677CC1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6BE-FD15-4A50-ADB6-805C10A6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F178-2F02-49E8-8854-02CD6004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2025-6A71-421B-9A82-572A13F3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9699-9DDE-438D-982F-726F6E41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AA94-DCEE-4C3D-B9E4-72A95690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3F87-BBF6-43AA-B3C8-19ED7C92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FFE8-D7B7-4DCA-97F4-4405D0AD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94CB-3FA2-4243-8BCF-A0C2A228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D5E-0CAD-430D-A9E1-7B036D3C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F14A-997D-48A4-924B-72E1C859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008A-6C4F-4586-BC85-9C65D21F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3CD6-55F1-4C6D-BA95-5EE648E3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CF11-6CC8-482B-8955-C7A2F928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8D13-8125-4719-AF0A-539D0E21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F6C7-56D4-4C7B-A2E9-A196197E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B3F0-974F-4353-AA4E-0EC5A03F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BFAC-8E8A-4BDE-88D0-D9F5B3CB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0632-FADE-4D57-AE83-498F02AF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F672-4E73-4BBD-A97A-66410703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39D-4F24-4258-8CA0-54B63A53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F1B9-CAAC-444A-A07E-3A7947F3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AA57-0233-4420-B7B3-6A058C00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01D7-BEF5-49C2-940C-05E8A2B6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A2ED-8724-48F4-BC6C-7375BC0B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595C-7EA0-4215-84B4-B867BE81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DFE8-A9B7-43A0-89DE-A9CEF8F1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3A676-BEBB-4024-A240-B1CF129C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F40C-8A59-4160-9CCB-007015BB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7CAB-F1C8-4107-A498-343A323F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8D23E-FBA2-4BF1-AA6A-0D267660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FD1-CC29-4EC3-8BFB-A7F822A6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78E6-9260-460B-BE1C-C29671EE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9C5B-DFB5-43A5-A2B8-5A62E048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FD20-8F9D-40FA-B257-5C96D71D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094AA-C280-4095-AA8B-14AC6084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4AB06-D9C0-4448-BB37-F69BEDFC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F908-B1E1-4195-9683-50306D72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968D1-FBEB-45B1-BD7A-566F7C3F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AF3D-9CB5-42CD-ADF7-93403249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37586-CB16-4E58-B7DD-71F0824C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3AEDF-B8E2-44AE-84ED-B559D0DA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0EC-BC48-4346-A41D-C35ACE8A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DD6B-A62F-49BB-9167-0A23B556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0F222-8DEC-40AB-ADA2-38F135EA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D8A48-5089-43A0-8A6C-9AB1CC09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E3B97-DC46-41F3-B4A9-CE775B3E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7878-8BEB-494F-A3F9-B2D96941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123FF-3DD6-4C44-9713-0AEB7FE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B3FCC-8AF5-4D28-B6F1-F8BA54A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88D4A-0DC8-4B8C-BB14-ABC9B59C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F4E02-3EC6-4150-B537-6C385293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2153-D793-4BF3-839E-F1608D27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4EC-5017-4D68-A446-F6B195FE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FBD71-139B-4081-8A61-33DA97D5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85F72-5C3C-4A82-861D-F016E6CE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E4BBB-93ED-4947-83B9-4E69AF67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C561D-D701-4BAE-9ED5-232774A4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94469-6234-44B8-9B46-2B5792EA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8A72F-D269-4811-A694-1E87A010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06A92-0CB2-41A1-A536-A0DB40DB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5A55B-09BD-4A0A-817A-0D1B888E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CEB7A-5F57-4322-83D1-644ECD37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4960B-5380-49F6-B97B-37C8AD26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084-1543-4B99-BE2F-87D68A3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F61BC-63C8-4F1A-AE68-88664DA9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62CDF-7FE5-4F8F-8D4F-2CC546A6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42ED0-9D43-465A-A8F1-350436FB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34263-D696-46A3-A0A6-939E7098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FDF4B-FEE1-401F-AF1F-55EA02F4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2BD3-9E2F-471E-B386-461785F2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5486E-992B-4354-AD5C-6DB27928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F20B2-A633-43F2-9157-CABA91BC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BFDB2-7C2F-453B-AFB1-2679B4FB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4F52A-6071-4221-BCBD-60C79A4C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58F-2BBB-40A9-8866-A14C2BEA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ADC4B-7BD6-4EA3-ADFE-831B7D27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4107-23AD-41E0-BB19-1EFCAC2B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F463A-7C72-4911-8E4A-D5663474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387FE-44F6-4FA6-9A3E-3ACD1B83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9700A-BC53-4ED3-A2FC-206AEE0F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3C6-4ED5-4D32-A9B1-FDDF8ECC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1900-AF48-4976-82BF-2ACC0B7EE14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C219-667E-4E1A-8612-ACF477126C6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D946-C4BA-4A00-BEF7-B95B6F0CCFE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BA13-8EDC-4E7C-AF16-3FD34317A65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E3AE-36BE-4BE8-92E3-737319F0F90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EDE1-E36B-4FBD-B704-415457CFB1A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C0C5-946D-4219-B77F-3F66AF36FC6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resent Continuous/Progressive 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e form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Verb b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4400" spc="-1" strike="noStrike">
                <a:solidFill>
                  <a:srgbClr val="7ec3d4"/>
                </a:solidFill>
                <a:latin typeface="Gill Sans MT"/>
              </a:rPr>
              <a:t>verb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4400" spc="-1" strike="noStrike">
                <a:solidFill>
                  <a:srgbClr val="b9d77a"/>
                </a:solidFill>
                <a:latin typeface="Gill Sans MT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g :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eat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drink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listen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Us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ction is happening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writing the lesson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is eating his dinner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 relaxing by the la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- The action is currently in progres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rning Italian this mont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 studying grammar 1 this semest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 Negative form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osh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wear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o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read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boo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play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otball with the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he is reading the text right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Is he reading the text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I’am not getting tir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- Aren’t you getting tir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they aren’t learning Italian this semest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learning Italian this semeste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v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t no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are  we leaving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n’t wearing sh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because their feet are hurting the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wearing shoes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16:21Z</dcterms:created>
  <dc:creator>sony</dc:creator>
  <dc:description/>
  <dc:language>en-US</dc:language>
  <cp:lastModifiedBy>sony</cp:lastModifiedBy>
  <dcterms:modified xsi:type="dcterms:W3CDTF">2012-04-11T17:26:14Z</dcterms:modified>
  <cp:revision>4</cp:revision>
  <dc:subject/>
  <dc:title>The Present Continuous/Progressive  Tense</dc:title>
</cp:coreProperties>
</file>