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7FB-ED8D-4EA2-95C5-C4F6EC96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A96-0255-4A03-8CD1-E5C2AED8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16C-549F-43D4-8869-8F5BCF91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528-AA00-4C31-9832-01BA34F6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3029-D42F-473C-9513-C72897EF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E11C-6D59-4991-A604-74A0F278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77E3-F2AB-46B3-93BF-C6F6CAE9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500F-2389-4F50-9E09-197F516C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B818-2D55-4AFD-9141-1756C64D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206C-9214-4605-B5DD-70DD6FF5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09E5-3549-4127-B820-348EED6E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EA6-9DF3-4823-B3E1-D1E81467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3ADA-FB02-46EE-9DD2-526DA50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9422-5616-4C81-86B5-0AD22D68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F3F9-EAE3-4FD2-BCD6-5EFF6F92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FFF6-2FF1-4B41-9579-F9075140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F6E3-0644-4506-89EB-27F2E160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CC99-687E-4D85-A6CB-1D8B1CA7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07BB-E233-4526-851C-75F4924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2134-5C0B-49D1-9A08-FCC17755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1D35-7D99-4E94-9606-0B98069B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34A1-16E3-493B-9DEE-943F57D0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008-3E96-45C2-90DE-B7140A8F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731D5-745E-4B61-BDDB-F00289E9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CF8B-9211-4073-BD0F-DB9B26E2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492D-B980-487A-9B17-9B3A402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71EB-61F9-4877-95D3-AE40712D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580D-120E-4573-808D-FE3E8C30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54EA1-DD24-4BB5-885F-894E879B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280A-A50A-4723-9CFA-F1594A31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DF447-F4D2-491C-95EC-A86AC702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C17E5-59A4-49FF-88CC-59775323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CF20-9BBE-4E5C-A6FE-FF3F6956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FA7-D152-4773-8CAB-8F0EC1DE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C0180-228F-4978-8C01-549619F1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9FD22-D5C0-44F8-8882-5F5E5493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AC23E-D242-4D8E-8055-58B43868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BBAA-2B07-48B1-9831-C9DA6ABA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20D43-08CE-47C7-AC5D-76EB5CC9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A9F0-EE40-4A90-B5A5-DCBC3D29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46614-BCFD-46BA-B1DF-34FD1B80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B3165-0259-47A3-89F6-04074E10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3E49A-0AD9-44F2-81E9-C0D6843B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752B-C04D-4FA7-BDB4-4A7DCD09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A11-61EA-4EB1-AD59-5D6FDADC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277FF-35AB-4933-BFD7-B67F656C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C6571-822C-45BA-99CA-990A7F09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4EED9-78D1-49C3-8DCB-EFAC4340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87992-6474-4AFE-BAA6-539DB37D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83AC-F002-4928-9B9B-81C608B4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A244E-E326-4FF1-BF76-B144755B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04A0A-4273-4823-AE7A-3FE5A008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9EE69-4DF7-4DED-A11B-7D420C9B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B7657-BDEE-4097-B53B-09566E97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EE280-ECC9-445C-9667-67F2A9F6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869-7F5D-4763-9528-82AEE89A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4999-8259-426E-8BC8-B7597776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C040D-73AA-4CA2-8545-87A6F900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BA3F-32C8-4EC9-A3C6-93243EA5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412FB-ECC6-488D-ABFE-F8BB0156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FD3A-1B70-4F32-B50F-A4C74EA0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57D4F-ACF1-4B38-AA5A-B4F2254F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F750E-ACF3-4ABB-9EE9-AEB3F61D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DEFD-08A8-45B6-9385-91DE135A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8109-F46E-428B-A1A7-3EBD5058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327E9-79F7-4E52-9C4A-4F5A7333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17B-342D-4728-9EA2-06827BF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9417D-9132-4C95-803F-C86125BF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04ADA-8FD7-41FA-A94A-E5B25F6E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F8FA0-BC21-4C34-923B-36FFB2E9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AD161-FB97-4338-8E66-9A204FF7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F3952-D7D2-4ADC-8950-D605AA13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81EF5-D377-4886-BAEF-A989C912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B33CF-EF33-4C4F-BD84-D6AE73DC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86C0D-CEFD-4909-A54C-4FD617F4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DFF23-78C7-4B26-86F5-036FB4E8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B3475-2803-4C8E-82F6-8893DEB5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E80-5A43-4870-8527-6B8B15A7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DED6-CF00-48D6-A1CD-B537DE3F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8D53B-BE47-4521-B09B-41A18454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D888E-89D9-40CF-8478-5B3E8992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36E93-A5E7-4963-A080-99EBAA95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6876C-1410-4B5A-B003-8558B0BB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B6D-5909-47FE-89AA-9ED5D544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6C9B-9030-4F5E-A035-7F335DFF07A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44F4-5E34-4A1F-BB2D-EBA98CBBA34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AA63-A80A-4FD0-A416-51556A7FDA8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C86C-B7F9-4FBB-B088-6603AD99BDF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5D8D-35AB-418B-84B8-5D84459BA90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EFDD-6F0D-47F4-8829-ED7492EBE7C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5E94-EFB6-4227-BA7C-7F9B5FB6D4F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resent Continuous/Progressive 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e form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Verb b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4400" spc="-1" strike="noStrike">
                <a:solidFill>
                  <a:srgbClr val="7ec3d4"/>
                </a:solidFill>
                <a:latin typeface="Gill Sans MT"/>
              </a:rPr>
              <a:t>verb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4400" spc="-1" strike="noStrike">
                <a:solidFill>
                  <a:srgbClr val="b9d77a"/>
                </a:solidFill>
                <a:latin typeface="Gill Sans MT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g :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eat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drink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listen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Us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ction is happening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writing the lesson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is eating his dinner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 relaxing by the la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- The action is currently in progres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rning Italian this mont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 studying grammar 1 this semest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 Negative form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osh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wear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o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read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boo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play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otball with the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he is reading the text right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Is he reading the text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I’am not getting tir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- Aren’t you getting tir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they aren’t learning Italian this semest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learning Italian this semeste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v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t no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are  we leaving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n’t wearing sh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because their feet are hurting the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wearing shoes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3:16:21Z</dcterms:created>
  <dc:creator>sony</dc:creator>
  <dc:description/>
  <dc:language>en-US</dc:language>
  <cp:lastModifiedBy>sony</cp:lastModifiedBy>
  <dcterms:modified xsi:type="dcterms:W3CDTF">2012-04-11T17:26:14Z</dcterms:modified>
  <cp:revision>4</cp:revision>
  <dc:subject/>
  <dc:title>The Present Continuous/Progressive  Tense</dc:title>
</cp:coreProperties>
</file>