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AA51-B5E5-4C76-A495-6CAFCA40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DE2-39C8-4FC0-B0F7-6806CD2D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6B27-9009-4A67-8F35-2C40E84F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72BA-2919-4633-8BDD-4AFD89E1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08A7-CC25-4EC2-AB24-8592F792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7E2E-00B4-4074-BC9C-3F22B6A6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5DED-E563-4548-82C0-EA0A1704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4BCD-6728-4EF7-8020-6CEEC9D6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7D04-468D-4FC5-865C-7C1A5032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8436-8397-4719-8146-F731FF51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E319-7A72-4A2D-B2E9-99813A9C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77FF-2304-44BF-8E2A-0B978628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9B26-C53D-4030-BCC0-0BB190F1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69F0-ACB3-400D-9050-8D29C49C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9135-BB34-46E9-9683-84345A6F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07B1-DE74-4F91-87BB-95353296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74E7-E2DC-45D4-99FB-3DCA795B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1C3C4-87B0-412F-AAD4-93CA1A4E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109E3-4D27-4157-82F3-2992817C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0B7A2-9A86-4C3A-9D8E-D0E97383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80BCF-85B4-4AED-A718-44FC50BE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10764-1BFF-4F97-808E-6446FD3F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A1E-C444-4043-ABEE-EFF7B2D5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C5D3D-B8CD-4981-9D3D-09E57855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146EB-0A15-49EB-8F6D-34464CEB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20B8C-2FE6-4F6D-AA42-A46BA2A6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58DC8-9D8C-4308-A70F-109A96A6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0EAD4-03CF-4A64-9B42-42A6F11E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CB487-DFFF-436F-9843-4B429C38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085CD-28D8-44A6-8CFE-F1501019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0191D-909C-491C-B8D5-50485932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13245-81DA-49CF-94C2-2C37721E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68D1C-0C0E-4DAF-BBB5-0779ED65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F1FD-1209-428B-9D1D-512DAE9C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1ADEF-26D1-4A2F-A14D-D640A9D4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2EB89-9DCB-42CA-94AE-5541FB02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214C8-B701-4E73-93B4-CDB6AB9A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6B830-3001-43AE-964D-4ABBE28A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79B7F-EE3A-4B82-8FCD-11FB714F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ED907-CD24-4318-8C53-ADDCFF01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D4FA6-D3DD-410C-A606-D17A153F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E7D13-ADC1-46DD-8A67-03B75803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422BA-6D64-4194-9913-35017AC8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45361-0F03-413B-AF72-1D9B2603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71B5-278D-4143-9493-F51D1A84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B6761-0CE9-4FB0-BC82-23E4EE2B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D82F6-673C-448A-BEC8-8714A3A3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BDD6C-E1B2-46A6-B505-21EF5563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E5205-2A00-48D2-9641-86A20BDC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8D09A-3E8B-4440-94DB-F1F4DC32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08DB1-73B7-4F1B-8144-43D48C31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DFD75-73D4-449C-A767-47F8F274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B7B94-2CCB-433C-9F66-A64662AD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E3EC3-83D7-49E7-8F37-BFB0C5E0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21584-6AFF-4B83-9813-B973881B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25B-71BD-4847-A32E-00CC3088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8483F-A14A-4E14-86E0-6B72C605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C2A3A-C121-41A3-ADD8-D7130D4F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320E4-32F2-4FAB-A31F-49D74E17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B1AA9-3C75-461F-A05E-003189CB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88754-879B-40C5-BCE0-C04AC29D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D5E22-66DF-428B-902B-0A89A5D0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49D3C-B58C-4FB8-9F1C-50DF4320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7C5AA-2A07-42DD-ABCF-65E07D0A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777ED-69C5-43B9-B41C-EFAA6B4D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298FE-405D-46C4-AD5A-4F2F44E0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B388-E1A2-43CE-9BD0-07E49F16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16FA4-B062-4802-91C9-6D72437E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FB7E4-8043-45A4-B254-1F6533AD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53186-9043-487C-8370-0EEE6628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9E882-A524-46A2-ACC8-4D038842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B0B72-9F03-4D56-AB5E-F12E1EEF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86FE8-C78D-45C0-A555-08683BB4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D6E8E-1606-4814-9116-AC1D38BB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71EDD-6A27-47E6-937A-2CDC3141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4AFAB-F13C-4499-8891-91771E6B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A408C-88B6-49ED-B5D8-C6F56FB2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8D0-313D-4B13-B9C7-88FCF095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C80EA-A6DF-4958-BCD2-EB37854B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A5DDE-F153-42CB-8FE8-21776B14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3C848-FE3F-4F51-B027-C5B38033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C7C53-B6F4-407D-A812-32E37FD9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0A693-5DF1-4977-B48B-CCFEE8FD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EEF0-480F-42EF-8384-3F67B9E3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BE6E-F8DB-40F8-B0FC-A354D94D5243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40D7-62BD-4229-80AA-FE93BAC70E54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B3C2-F27F-4DB0-83F4-0896DA1FFC6B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9398-21BC-4E52-822D-BFFF24E7ECBB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FDBA-D3F6-44F1-80FB-60C9349CF006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A4DA-4774-401A-AE83-B17BF443BDB7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1973-BD8A-4CDE-8EA2-EED1CABBD9F9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The Present Perfect Tens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3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. Yet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up to now”. It is usually placed at the end of the ques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British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ffirm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43000" y="1714320"/>
            <a:ext cx="75153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Just: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fers to the very recent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comes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Already/ 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 before the past participle or at the end of the senten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’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Neg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1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Never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not at any time”. It must come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s at the end of a negative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means “up to now”. Still comes before has or hav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 present perfect tense consists of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/has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+ the past participle form of the verb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heir photo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lived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abroad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 I, you, they, we, plural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she, he, it, singular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654c"/>
                </a:solidFill>
                <a:latin typeface="Gill Sans MT"/>
              </a:rPr>
              <a:t>Contraction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I’ve, we’ve, they’ve, she’s, he’s, it’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Us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ctions or situations that happened  at an unspecified time in the past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return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from ther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Houses of Parliamen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Sh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Brazi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for this use are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lready, just, ever, recently, still, yet, so far and up to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seen their phot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ha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returned from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family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asn’t had time for a trip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They have shot 10 rolls of film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o far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Up until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we haven’t had the mon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- Repeated actions ay unspecified times in the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London tw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Paul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ravel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outside his country too many tim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lik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once, twice, several times.. Etc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Yes/ No questions in the present perfect tense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dverb :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(not) ever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common in the present perfect tens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New York?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 No, I haven’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he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Empire State Build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she has         No, she has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Faisalia Towe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No, I have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ave or has separates the question word from the sentenc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com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any time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uch mone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pe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e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rough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 map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n present perfect questions </a:t>
            </a:r>
            <a:r>
              <a:rPr b="0" lang="en-US" sz="3200" spc="-1" strike="noStrike">
                <a:solidFill>
                  <a:srgbClr val="8898c3"/>
                </a:solidFill>
                <a:latin typeface="Gill Sans MT"/>
                <a:ea typeface="Arial"/>
              </a:rPr>
              <a:t>with who or what as the subjec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the word order is the same as in a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liv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broa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Jaun has lived abroa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ak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ny picture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No one ha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ver, never, already, just, recently, still and yet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ion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1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means “at any time”. It comes before the past participle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Already: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means “before now”. It may come before the past participle or at the end of the question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06:05:47Z</dcterms:created>
  <dc:creator>Sara aldawood</dc:creator>
  <dc:description/>
  <dc:language>en-US</dc:language>
  <cp:lastModifiedBy>Sara aldawood</cp:lastModifiedBy>
  <dcterms:modified xsi:type="dcterms:W3CDTF">2012-04-08T06:14:27Z</dcterms:modified>
  <cp:revision>23</cp:revision>
  <dc:subject/>
  <dc:title>The Present Perfect Tense</dc:title>
</cp:coreProperties>
</file>