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7D48-1C57-4280-A54C-7E1A43EBE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8998-1DAF-4D03-8A34-55A90BA8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5351-48B3-4FFE-BDC8-D1A4441C9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BF2E-FD8F-4417-8B1C-2E39B18AD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07BD-2E2C-4C43-BCA4-2807BAD4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A562-BBFB-4B20-A0BD-47D4C93A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378C-3334-461A-9315-E6C71C39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B196-4FC9-4BC4-8F2B-22CDCFB3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70E4-7398-4559-84BD-F420EABC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CF66-D14E-4ED0-8188-B4788A35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338B-BE6E-4CDB-B8B4-A9B9742D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77B0-5AE1-48D6-B9C4-6E304146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CD3F-8CAE-4DB0-8AF9-37766005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8CE6-B86D-4C93-9C52-7A8B30FC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0F4F-9735-4693-8ABC-69ACBA9A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85B0-E195-4EE1-9A7A-88784D926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2732-E9B1-470A-9873-E8A6CFC58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B9241-F4F2-435E-997F-CAF570B50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98034-46D2-48A3-90D8-1F248706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68C58-A0B7-4682-83D1-EDDB75C2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31741-2C67-424C-B1B8-79554843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2010E-8CA5-4804-9D8D-CE1346C9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B64B-52FB-45E9-A948-83CAF39E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3AD55-08F2-496C-A3D6-7635DC76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F9799-C4EA-47E0-89C4-FE5C9489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86719-F40B-42F3-B696-6D94481B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87E50-F7D8-4A06-A3B5-C015A7F3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F0A82-3105-4F6E-95E0-11CEA1CA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98475-D2BE-493A-98FD-B138EE0A2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59887-3E08-4F09-B1B8-BF4D5D28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7B529-9AF4-47E5-A10A-DCB35045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F25D9-3C70-435C-8DA7-9BC4E287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0EE6D-019E-497C-83E3-32A4196D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D9C4-508C-4872-A421-2B7FFC45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9440C-80C6-4A5A-9232-45AE7AFF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CB2E5-922C-4372-B5BA-E7308196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490D5-4C4B-4FDF-AF0D-2DD29A8B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69081-DDC9-4993-A62A-E6779311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0D321-13A9-46B9-87BB-C22A7AEB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2C736-4C64-49B6-9A3E-1CA7E5FC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744F0-7F8D-45D5-94F0-52674CDF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A1437-D752-48E8-A16B-99E0B3C2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84C86-2865-4861-8EE1-54D954D06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DD1F7-0A6B-4483-8B90-A98F91FD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6A95-FC85-46F1-8382-027408E7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31840-70C9-4457-AB73-5DD19276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75D54-616D-4BE5-9887-16E656E6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A3123-A559-4303-9EF6-CFD9838B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5E751-9096-450C-8D6D-323C250B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8699E-5E72-4949-AD24-DE50F01E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0893A-44C5-4FF5-97AD-1138CAF4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70F19-9361-4134-ABF7-FD5564B8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53EA1-10C3-443E-A828-A3712DB7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6BBA5-5F0E-4533-A4D5-E611E58B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0D103-09BF-48FA-8113-DC26F1AE6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015C-5F61-484F-A154-0FD10876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5CAB9-F525-40E1-9CE1-0B4D4BB50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AB038-CDC1-4C0A-88F2-53CD3911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B4142-8B78-4696-9A22-D9E07DB6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051F7-3A3F-4402-95FA-A7C3A35F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74EEA-A170-483B-8B77-4F00D3D7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C55CB-821E-46D3-88EC-4C00EA84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AC790-B20E-413D-8138-61813BDE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177D8-304D-468A-8A6E-59CFE76B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9C055-71DE-4A5D-8419-5ACAA946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96C90-48A9-465A-9EF0-16A16A64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21F2-A7D2-4D9E-90F5-9D8DE79C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0F0C5-503E-4324-8AFA-520C20AF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AD42D-4DED-49A2-B35C-F4F0525F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468EE-1DB5-45F8-AAD8-519B39ED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481F6-66B2-4FC7-93C3-0691BACD2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B8C51-56FD-4C10-8C67-4707558F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C8A29-FD81-469A-A72C-D09BD98E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37DBD-295B-4CAA-A4EC-700F3BAE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AC5CC-E9C5-4A15-869D-E317F935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A6AF1-A416-495B-AA5A-2A08633A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9C6AC-F8B6-4619-99E7-1240F54C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FED3-9D44-4BE1-AD22-FE883BAF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648B5-4C84-478F-BD7E-39283F87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0443F-10D7-47F9-8011-C1BB9159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88AD7-792A-48F0-9A64-19FCA7A8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7B5D3-488E-4EED-B530-F5AA2E2D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304F4-3E27-44B1-9251-8EEEBD87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A7A4-0EC5-4FCB-ADBF-C407D124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2198-CEB3-4211-A878-239B59D77CB2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شكل بيضاوي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044E-A9AD-42F9-A23A-4764112DD8DA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شكل بيضاوي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BC1A-594A-4E40-9E7F-6BAAE7C1348F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6D15-D455-4CA7-AD60-31252628A760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DEBA-7B93-4709-BE5C-8382B556BA11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F1AA-CE8E-4E53-9E94-CDD0F18DBB31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مستطيل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780C-E4D9-4C41-936E-53FFA3B1EA1C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The Present Perfect Tense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3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. Yet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eans “up to now”. It is usually placed at the end of the ques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e British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ffirmative statements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: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143000" y="1714320"/>
            <a:ext cx="751536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</a:rPr>
              <a:t>Just: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fers to the very recent pas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comes before the past participl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</a:rPr>
              <a:t>jus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2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Already/ recent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: usually come before the past participle or at the end of the senten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’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recent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recent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  <a:ea typeface="Arial"/>
              </a:rPr>
              <a:t>Negative Statements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  <a:ea typeface="Arial"/>
              </a:rPr>
              <a:t>: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1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Never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eans “not at any time”. It must come before the past participl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2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: usually comes at the end of a negative stateme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</a:rPr>
              <a:t>Sti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means “up to now”. Still comes before has or hav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</a:rPr>
              <a:t>sti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he present perfect tense consists of 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/has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+ the past participle form of the verb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s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heir photos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he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lived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abroad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8d01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( I, you, they, we, plural nouns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8d01"/>
                </a:solidFill>
                <a:latin typeface="Gill Sans MT"/>
              </a:rPr>
              <a:t>Ha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(she, he, it, singular nouns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654c"/>
                </a:solidFill>
                <a:latin typeface="Gill Sans MT"/>
              </a:rPr>
              <a:t>Contraction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: I’ve, we’ve, they’ve, she’s, he’s, it’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Use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Actions or situations that happened  at an unspecified time in the past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o Canad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y parents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return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from ther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e Houses of Parliament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Sh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o Brazi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67d42"/>
                </a:solidFill>
                <a:uFillTx/>
                <a:latin typeface="Gill Sans MT"/>
                <a:ea typeface="Arial"/>
              </a:rPr>
              <a:t>Time expressions for this use are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already, just, ever, recently, still, yet, so far and up to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ve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seen their photo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y parents have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jus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returned from Canad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y family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sti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hasn’t had time for a trip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They have shot 10 rolls of film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so far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Up until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, we haven’t had the mone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2- Repeated actions ay unspecified times in the pas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o London tw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Paul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travel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outside his country too many tim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67d42"/>
                </a:solidFill>
                <a:uFillTx/>
                <a:latin typeface="Gill Sans MT"/>
                <a:ea typeface="Arial"/>
              </a:rPr>
              <a:t>Time expressions lik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: once, twice, several times.. Etc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Yes/ No questions in the present perfect tense: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adverb :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(not) ever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s common in the present perfect tens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o New York?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I have     No, I haven’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she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Empire State Building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she has         No, she has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Faisalia Tower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I have    No, I have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Information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Have or has separates the question word from the sentence subjec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com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her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How many times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here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How much mone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spen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er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rough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a map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n present perfect questions </a:t>
            </a:r>
            <a:r>
              <a:rPr b="0" lang="en-US" sz="3200" spc="-1" strike="noStrike">
                <a:solidFill>
                  <a:srgbClr val="8898c3"/>
                </a:solidFill>
                <a:latin typeface="Gill Sans MT"/>
                <a:ea typeface="Arial"/>
              </a:rPr>
              <a:t>with who or what as the subject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, the word order is the same as in a stateme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o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liv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abroad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Jaun has lived abroa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o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tak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any picture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No one ha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Ever, never, already, just, recently, still and yet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Questions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1. </a:t>
            </a:r>
            <a:r>
              <a:rPr b="1" lang="en-US" sz="3000" spc="-1" strike="noStrike" u="sng">
                <a:solidFill>
                  <a:srgbClr val="f88631"/>
                </a:solidFill>
                <a:uFillTx/>
                <a:latin typeface="Gill Sans MT"/>
              </a:rPr>
              <a:t>Ever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: means “at any time”. It comes before the past participle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000" spc="-1" strike="noStrike">
                <a:solidFill>
                  <a:srgbClr val="f88631"/>
                </a:solidFill>
                <a:latin typeface="Gill Sans MT"/>
              </a:rPr>
              <a:t>ever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o the British Museum?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2. </a:t>
            </a:r>
            <a:r>
              <a:rPr b="1" lang="en-US" sz="3000" spc="-1" strike="noStrike" u="sng">
                <a:solidFill>
                  <a:srgbClr val="f88631"/>
                </a:solidFill>
                <a:uFillTx/>
                <a:latin typeface="Gill Sans MT"/>
              </a:rPr>
              <a:t>Already: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means “before now”. It may come before the past participle or at the end of the question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000" spc="-1" strike="noStrike">
                <a:solidFill>
                  <a:srgbClr val="f88631"/>
                </a:solidFill>
                <a:latin typeface="Gill Sans MT"/>
              </a:rPr>
              <a:t>already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o the British Museum?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o the British Museum </a:t>
            </a:r>
            <a:r>
              <a:rPr b="0" lang="en-US" sz="3000" spc="-1" strike="noStrike">
                <a:solidFill>
                  <a:srgbClr val="f88631"/>
                </a:solidFill>
                <a:latin typeface="Gill Sans MT"/>
              </a:rPr>
              <a:t>already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06:05:47Z</dcterms:created>
  <dc:creator>Sara aldawood</dc:creator>
  <dc:description/>
  <dc:language>en-US</dc:language>
  <cp:lastModifiedBy>Sara aldawood</cp:lastModifiedBy>
  <dcterms:modified xsi:type="dcterms:W3CDTF">2012-04-08T06:14:27Z</dcterms:modified>
  <cp:revision>23</cp:revision>
  <dc:subject/>
  <dc:title>The Present Perfect Tense</dc:title>
</cp:coreProperties>
</file>