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61CA-8E51-4D19-BD4D-2AD4E3D4C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01E8-723F-4FD6-B1B4-E2480178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FBB7-293E-4BC1-BA5F-8F69CB1FD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DF8F-769B-465A-8D78-C092AA8FC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5392-D08E-4737-80DF-50B642BE9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181C-E4EF-4901-A308-47C9B195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6E87-6777-4E18-92C9-E634DE51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3FA3-405A-4E43-B337-F9C907E3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2DAA-6ABD-403A-AC27-70B7D43B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FDB1-237C-4F32-9B82-50C1F112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93C0-40D2-44B8-8D8F-77A3CDEF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8789-B760-4C80-AE7D-7F4C332E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5A8C-0740-4C25-A11E-C824000C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9540-B5FA-45DD-B86F-470E63E1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274A-5E39-491B-A836-BD57D864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2025-ACE2-4883-B7B4-D3C18F964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3DC0-90BC-49CC-B871-5F8EFFFC6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4926D-655A-4430-B63E-FDE0E05E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ABB61-11FF-4503-8DB8-07FEE938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8E98A-8E35-4BC1-860A-76DFCC1B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E5929-CE60-4F10-9924-1DA3880A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ADDF8-7E97-4563-AEDF-D040C64A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40D5-8957-4CF3-B5DC-7B5B52DF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23CB6-2DD3-45EC-9259-EE8A3857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B8934-3CCD-4699-B244-67E2B0B4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838DB-E23F-44A2-8A68-02FACFFE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AA754-E5F7-42C7-8E79-C615F1F9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FFEDF-5CEF-48AD-8AB8-958FE681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909B1-5F4C-455A-8571-AD180267B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6626F-1D12-4EED-8AF7-BD0F89F85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E9C51-792B-459C-A455-72F36E230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ACE68-F617-458D-AF47-8AF4DDC2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56D34-96FA-4902-9E75-62CF0B8B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3905-F954-42E9-B404-7D15EDB3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1ED31-50DB-45A9-B1D2-25543BA3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40E96-200A-40E4-A492-35E703C9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0F672-6517-4638-9673-3189B3FE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C4E60-4445-4C7D-8774-B6C100CF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369A4-B49B-46C1-9808-9FD31A7E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0027B-9A4C-48C2-94CB-3FBA351F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497B0-7F18-4D04-9D7A-2D09DBFF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DDDEF-22A9-4B63-9E76-C80DC4BB0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8BE3C-22B0-48DB-AB5F-6DDFB1BA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EC579-FAD0-45D6-B81D-FD2043BD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2501-C6AF-4BC3-B090-95D5D666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3C501-BCA8-4418-A789-4333A6A6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3D67C-E958-414C-93D3-4133C3C3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383CD-06AE-44EC-BD86-659B9C0B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94A4A-6D5B-446E-B01F-7FD09BD9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4F4F3-2C7A-4026-B754-E1469000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EB95A-32E6-413B-B87E-59840E1B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FA293-0CFD-4D36-93A5-0AE3D349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C47F5-53CE-4006-AC93-2FEA6190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9EEF3-40CA-4AC4-8C03-30EB7627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D84D9-0BCA-4D73-AA13-B40157FD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8AC5-3B81-486F-901B-9D6D5389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7CA0E-1903-4AEB-A4E7-79F47DF2B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1AFF8-86D0-41E4-9B6C-0814F70E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0A4CD-3252-4529-B3B8-F8ECE143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745FD-E01E-4FA4-A377-71724D24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FBE0C-8BDA-4CED-A205-9E84060A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DCBE2-C0A0-48D0-A19F-886C6B42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046EE-1ED6-499E-A369-B3B6A223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8E1F2-FE1C-48BE-90E1-A65B596B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63ABC-1FDF-43CE-AA06-68380693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936DF-2FC7-4C32-A4C7-E159A02F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6B20-5DB1-44D4-82BD-2271953F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17D8E-50E4-4EF6-AD09-20C2E721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68549-E7D4-43CA-B1A8-A0ADA1C9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E61A7-AFC1-4563-AF45-B27B9B136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F921C-CC6E-45B1-85DB-3899FE30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60365-4A5C-450C-B379-F5861708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88A07-47E3-4123-BE62-70682E8D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387AE-EA08-47CF-836B-63CCA03D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BD10F-B11C-46D3-ADF6-A9D8DB69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F83A0-CF4C-49DC-9114-5AB7D47F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B69B7-43CD-4691-8D51-29A019C2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6315-AFB9-4B05-9833-DE93E577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3BC05-FC3C-4ABA-9B07-F2187EA2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9CE49-4E05-424C-B06C-E6025C55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454E3-D788-4ECA-8556-44B030C4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069AD-3713-4C74-B2BE-0669200C0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99A1E-544A-43A1-8471-EBCE7E716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1A1A-60FF-4693-8B67-45371143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78FB-8243-400F-B25F-F388B6DA3298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شكل بيضاوي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18FD-45D6-465E-8648-F9144050F9D3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شكل بيضاوي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899D-19BA-4F44-B9E6-B194F16AAC6E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CD2F-9E66-4533-B451-83DD29B7493D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8944-0AD8-40BE-AB39-3F560008FED1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61F4-B0C0-4F4C-B488-2C2EE9AC52E1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1F82-6BA8-42F8-9EAF-04C4011F7C70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The Present Perfect Tense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3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. Yet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eans “up to now”. It is usually placed at the end of the ques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e British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ffirmative statements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: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143000" y="1714320"/>
            <a:ext cx="751536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</a:rPr>
              <a:t>Just: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fers to the very recent pas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comes before the past participl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</a:rPr>
              <a:t>jus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2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Already/ recent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: usually come before the past participle or at the end of the senten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’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recent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recent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  <a:ea typeface="Arial"/>
              </a:rPr>
              <a:t>Negative Statements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  <a:ea typeface="Arial"/>
              </a:rPr>
              <a:t>: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1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Never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eans “not at any time”. It must come before the past participl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2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: usually comes at the end of a negative stateme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</a:rPr>
              <a:t>Sti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means “up to now”. Still comes before has or hav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</a:rPr>
              <a:t>sti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e present perfect tense consists of 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/has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+ the past participle form of the verb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s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heir photos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he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lived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abroad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8d01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( I, you, they, we, plural nouns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8d01"/>
                </a:solidFill>
                <a:latin typeface="Gill Sans MT"/>
              </a:rPr>
              <a:t>Ha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(she, he, it, singular nouns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654c"/>
                </a:solidFill>
                <a:latin typeface="Gill Sans MT"/>
              </a:rPr>
              <a:t>Contraction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: I’ve, we’ve, they’ve, she’s, he’s, it’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Use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Actions or situations that happened  at an unspecified time in the past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o Canad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y parents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return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from ther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e Houses of Parliament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Sh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o Brazi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67d42"/>
                </a:solidFill>
                <a:uFillTx/>
                <a:latin typeface="Gill Sans MT"/>
                <a:ea typeface="Arial"/>
              </a:rPr>
              <a:t>Time expressions for this use are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already, just, ever, recently, still, yet, so far and up to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ve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seen their photo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y parents have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jus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returned from Canad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y family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sti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hasn’t had time for a trip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They have shot 10 rolls of film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so far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Up until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, we haven’t had the mone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2- Repeated actions ay unspecified times in the pas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o London tw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Paul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travel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outside his country too many tim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67d42"/>
                </a:solidFill>
                <a:uFillTx/>
                <a:latin typeface="Gill Sans MT"/>
                <a:ea typeface="Arial"/>
              </a:rPr>
              <a:t>Time expressions lik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: once, twice, several times.. Etc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Yes/ No questions in the present perfect tense: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adverb :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(not) ever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s common in the present perfect tens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o New York?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I have     No, I haven’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she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Empire State Building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she has         No, she has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Faisalia Tower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I have    No, I have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Information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Have or has separates the question word from the sentence subjec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com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her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How many times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here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How much mone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spen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er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rough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a map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n present perfect questions </a:t>
            </a:r>
            <a:r>
              <a:rPr b="0" lang="en-US" sz="3200" spc="-1" strike="noStrike">
                <a:solidFill>
                  <a:srgbClr val="8898c3"/>
                </a:solidFill>
                <a:latin typeface="Gill Sans MT"/>
                <a:ea typeface="Arial"/>
              </a:rPr>
              <a:t>with who or what as the subject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, the word order is the same as in a stateme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o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liv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abroad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Jaun has lived abroa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o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tak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any picture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No one ha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Ever, never, already, just, recently, still and yet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Questions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1. </a:t>
            </a:r>
            <a:r>
              <a:rPr b="1" lang="en-US" sz="3000" spc="-1" strike="noStrike" u="sng">
                <a:solidFill>
                  <a:srgbClr val="f88631"/>
                </a:solidFill>
                <a:uFillTx/>
                <a:latin typeface="Gill Sans MT"/>
              </a:rPr>
              <a:t>Ever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: means “at any time”. It comes before the past participle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000" spc="-1" strike="noStrike">
                <a:solidFill>
                  <a:srgbClr val="f88631"/>
                </a:solidFill>
                <a:latin typeface="Gill Sans MT"/>
              </a:rPr>
              <a:t>ever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the British Museum?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2. </a:t>
            </a:r>
            <a:r>
              <a:rPr b="1" lang="en-US" sz="3000" spc="-1" strike="noStrike" u="sng">
                <a:solidFill>
                  <a:srgbClr val="f88631"/>
                </a:solidFill>
                <a:uFillTx/>
                <a:latin typeface="Gill Sans MT"/>
              </a:rPr>
              <a:t>Already: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means “before now”. It may come before the past participle or at the end of the question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000" spc="-1" strike="noStrike">
                <a:solidFill>
                  <a:srgbClr val="f88631"/>
                </a:solidFill>
                <a:latin typeface="Gill Sans MT"/>
              </a:rPr>
              <a:t>already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the British Museum?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the British Museum </a:t>
            </a:r>
            <a:r>
              <a:rPr b="0" lang="en-US" sz="3000" spc="-1" strike="noStrike">
                <a:solidFill>
                  <a:srgbClr val="f88631"/>
                </a:solidFill>
                <a:latin typeface="Gill Sans MT"/>
              </a:rPr>
              <a:t>already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06:05:47Z</dcterms:created>
  <dc:creator>Sara aldawood</dc:creator>
  <dc:description/>
  <dc:language>en-US</dc:language>
  <cp:lastModifiedBy>Sara aldawood</cp:lastModifiedBy>
  <dcterms:modified xsi:type="dcterms:W3CDTF">2012-04-08T06:14:27Z</dcterms:modified>
  <cp:revision>23</cp:revision>
  <dc:subject/>
  <dc:title>The Present Perfect Tense</dc:title>
</cp:coreProperties>
</file>