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E383-02FA-4151-9AF8-11E2CDD1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06A-77B6-4763-B703-EF558ABE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581-36C4-442D-BED0-DD831EDF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11F-229D-43EF-A10E-A26D703E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6E1A-2BFB-4FD3-818F-BD6AAAA7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6C21-2074-4E1B-8B20-E3521BC8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06FB-AC83-47A0-BB79-D85A4255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A6CC-DF1E-436A-9934-6C68ADB9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2497-F192-42B0-ACF5-7ECDA8DB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4F04-5310-49EF-9FA5-975B98F4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CFDB-278A-45A4-91A4-52352C5B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A90-8296-442D-AC37-995E3779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6CB1-CA89-478A-A2C8-29DD70BD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1967-1818-419B-84BB-4BFAF9E0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0C5E-2C57-4BD2-A5F0-C9C73BD1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5701-B52D-48C1-8CA5-DCF99998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9E0D-01A0-4A70-98F0-DCFD01C5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DCD00-16FA-4407-A29E-F1576313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D0BF3-02C3-44D5-8755-E6729FC4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5EFD-B205-4C67-9B3D-2B11E15C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CBC90-7C5C-4E60-BAAE-CBEC469F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214D-67BD-45CB-B792-0736CE98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A1F-E13E-4FF9-9DD6-CD850E0F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18871-AC72-429F-BBCA-A96D091F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C8004-799B-4B1B-B7A0-898F7F64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408D5-9094-4AE5-AB24-247C969E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A5DD4-44AC-4727-B65B-3E49D421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A0706-65F1-4A73-B9D7-89FC2CE8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6AB90-08D5-4E96-B4A9-707550D4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40EC3-8486-4B68-B6A9-41288619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0BDFA-6B91-4787-A639-389A871F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B66A0-A031-4B3D-A004-23672A7D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747F8-B3CA-4DA7-8729-1AAB8585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B66-8600-4E01-8890-FC26769D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32825-4F31-43E5-ACB3-249EF340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20EEB-D68E-4BF2-9199-3A6C45D5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04A39-4C9E-4459-81D0-5BB8876B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4EEAF-B2FD-4321-87B0-CDD1BA53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AD7F0-0BDB-42F7-9414-C56E4FD3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234E-183D-4149-8D48-C300D3AF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867B8-14D2-4D96-B7A0-AAA4AE53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D8102-573E-455A-92F3-444775F6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CDE53-2EF5-405D-B8F3-CCB10E79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7F0FC-F8F6-4775-BFC8-B56931E9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40E-72BB-4AC9-A8CC-4DCDF917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C7571-3191-454A-ABE6-73FEEA17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56DD3-3914-4B98-A25D-A5624232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67193-B07D-47C5-A42B-D488D6F5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36092-68C8-4C63-9BBE-319B596C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E947D-CE4D-4D16-BED3-EE87EE9C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44DCA-8198-40BB-AC29-93B13E63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A2F87-6D55-47D0-A816-6027C823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D07D9-8550-4919-96D9-1E699E4A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152EB-E2AC-4D98-89A1-C5E086A2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B40B1-7303-498A-A754-004074F6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99D-3D7A-4227-AC11-B232F5AC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E04C2-0034-44EC-84D0-6A62EF61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8FC0A-AAC7-4C0B-B68C-DC5631DA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FEF2B-F14F-439A-80C6-4B1B4B2B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A1559-260E-44A3-ADDE-41AE6512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F196A-B28A-4D6C-AAA4-F2B2E667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A7326-2E43-4C7D-A852-13620B22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7B388-995F-4CD8-A9BD-BA686F25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824D0-559A-4E59-8D83-1038ED93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3DCC9-C96A-49D7-AE62-4B3CD23B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E8652-ECF7-4DA8-A1D3-3128C020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845-970B-4E46-9469-60A4AB6E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B037C-F621-43FF-B042-AFFFA200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81F08-CA26-49AB-AEA0-215A6505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A931A-C6F9-48C6-9B72-92287E0A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E870D-3975-4E65-AB23-5C619CFC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0FFEA-AC8B-4D16-8C4C-8DD8B125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6C652-96AD-425E-9888-D0B4FE05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B2795-6400-4BDF-B982-4FA15B2C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0CEF2-4EEF-445E-9210-1A61FC68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0CC50-5D38-442D-9B5B-540CC026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13C07-7723-47F3-A6F1-B234D81C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9E2-087A-43D3-B18E-9B9EF8A4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86083-3F26-4B68-9838-53C49DD5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FFD4C-E447-4DB1-BD81-32359208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17609-CCEB-4568-A089-1EAAB0E7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D4B69-2635-4E02-AE18-9B1326B2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F35E2-F7AB-40C2-9856-7E9C6100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F4D-66A4-4BCC-9179-9A6E7753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3B18-9EAD-47AB-8EC2-CF4E7066086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A538-6558-42EB-A897-5B6956485A92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B082-2C8D-4B61-9D20-102B85C4AB9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B945-8816-49FF-BFEB-B215428A46E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AF2C-6CAF-4FEC-A31E-080A2EB0406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46C4-B7C6-42CC-A595-BB7E706ECBD5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FF89-6814-4009-9290-E4F99E7F218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The Present Perfect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3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. Yet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up to now”. It is usually placed at the end of the ques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British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ffirm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43000" y="1714320"/>
            <a:ext cx="75153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Just: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ers to the very recent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omes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Already/ 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 before the past participle or at the end of the senten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recent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Negative Statements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  <a:ea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1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Never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eans “not at any time”. It must come before the past particip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usually comes at the end of a negative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at museum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  <a:ea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1" lang="en-US" sz="3200" spc="-1" strike="noStrike" u="sng">
                <a:solidFill>
                  <a:srgbClr val="f88631"/>
                </a:solidFill>
                <a:uFillTx/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means “up to now”. Still comes before has or hav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visit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at museu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present perfect tense consists of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/has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+ the past participle form of the verb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heir photos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lived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broad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 I, you, they, we, plural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8d01"/>
                </a:solidFill>
                <a:latin typeface="Gill Sans MT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(she, he, it, singular nou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654c"/>
                </a:solidFill>
                <a:latin typeface="Gill Sans MT"/>
              </a:rPr>
              <a:t>Contraction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I’ve, we’ve, they’ve, she’s, he’s, it’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Us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ctions or situations that happened  at an unspecified time in the past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return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from ther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he Houses of Parliamen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Sh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Brazi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for this use are: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lready, just, ever, recently, still, yet, so far and up to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’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seen their phot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parents have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returned from Canad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My family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til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asn’t had time for a trip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hey have shot 10 rolls of film </a:t>
            </a: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so far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9988"/>
                </a:solidFill>
                <a:latin typeface="Gill Sans MT"/>
                <a:ea typeface="Arial"/>
              </a:rPr>
              <a:t>Up until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we haven’t had the mone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2- Repeated actions ay unspecified times in the pas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to London twi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Paul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ravel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outside his country too many ti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7d42"/>
                </a:solidFill>
                <a:uFillTx/>
                <a:latin typeface="Gill Sans MT"/>
                <a:ea typeface="Arial"/>
              </a:rPr>
              <a:t>Time expressions li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: once, twice, several times.. Etc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Yes/ No questions in the present perfect tense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dverb :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(not) ever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common in the present perfect tens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New York?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 No, I haven’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he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Empire State Build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she has         No, she has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200" spc="-1" strike="noStrike">
                <a:solidFill>
                  <a:srgbClr val="e17b7c"/>
                </a:solidFill>
                <a:latin typeface="Gill Sans MT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Faisalia Towe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I have    No, I haven’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ave or has separates the question word from the sentence sub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com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any time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here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How much mon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sp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er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ve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you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brough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 map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In present perfect questions </a:t>
            </a:r>
            <a:r>
              <a:rPr b="0" lang="en-US" sz="3200" spc="-1" strike="noStrike">
                <a:solidFill>
                  <a:srgbClr val="8898c3"/>
                </a:solidFill>
                <a:latin typeface="Gill Sans MT"/>
                <a:ea typeface="Arial"/>
              </a:rPr>
              <a:t>with who or what as the subject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, the word order is the same as in a stat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live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broa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Jaun has lived abro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Who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Arial"/>
              </a:rPr>
              <a:t>hasn’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3200" spc="-1" strike="noStrike">
                <a:solidFill>
                  <a:srgbClr val="637f26"/>
                </a:solidFill>
                <a:latin typeface="Gill Sans MT"/>
                <a:ea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 any picture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No one ha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ver, never, already, just, recently, still and yet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ion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: means “at any time”. It comes before the past participle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e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n-US" sz="3000" spc="-1" strike="noStrike" u="sng">
                <a:solidFill>
                  <a:srgbClr val="f88631"/>
                </a:solidFill>
                <a:uFillTx/>
                <a:latin typeface="Gill Sans MT"/>
              </a:rPr>
              <a:t>Already: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eans “before now”. It may come before the past participle or at the end of the question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?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Hav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you </a:t>
            </a:r>
            <a:r>
              <a:rPr b="0" lang="en-US" sz="3000" spc="-1" strike="noStrike">
                <a:solidFill>
                  <a:srgbClr val="637f26"/>
                </a:solidFill>
                <a:latin typeface="Gill Sans MT"/>
              </a:rPr>
              <a:t>been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o the British Museum </a:t>
            </a:r>
            <a:r>
              <a:rPr b="0" lang="en-US" sz="3000" spc="-1" strike="noStrike">
                <a:solidFill>
                  <a:srgbClr val="f88631"/>
                </a:solidFill>
                <a:latin typeface="Gill Sans MT"/>
              </a:rPr>
              <a:t>already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06:05:47Z</dcterms:created>
  <dc:creator>Sara aldawood</dc:creator>
  <dc:description/>
  <dc:language>en-US</dc:language>
  <cp:lastModifiedBy>Sara aldawood</cp:lastModifiedBy>
  <dcterms:modified xsi:type="dcterms:W3CDTF">2012-04-08T06:14:27Z</dcterms:modified>
  <cp:revision>23</cp:revision>
  <dc:subject/>
  <dc:title>The Present Perfect Tense</dc:title>
</cp:coreProperties>
</file>