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4937-AFE8-4033-8CB0-5325ED77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F550-1A74-40B3-AF37-6431678C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D583-7914-43B7-9219-D75694FE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F1E6-EF06-49C9-978F-81088670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F1B1-5469-4AD6-91E9-66CF8562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3EC5-BFFC-4691-B20C-B0645BF0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DF7C-7CB2-499F-923A-D5B9BDE8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75B3-C3D3-49E8-9109-02C1A89E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A647-439F-47E8-8C6A-F69C20AE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C630-4303-48E2-A9E6-5F22E7D3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36EF-26CA-4A10-85EB-645C2EE0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3047-1714-4BFA-897E-7EF94A2F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BC07-0740-473F-843D-2A8542F1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3319-30AB-433A-A6AB-C6B9B9F4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113D-2EF4-4B1C-80EE-AC9065CC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50C6-0823-45BD-A8F4-55B81468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45E0-7D8C-4567-A370-A1101074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76BAD-F534-4598-99D4-782BD589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6F1FA-3352-4452-BD81-6BD81337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98A88-9A0F-447F-9958-F1CBDDD6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BBD57-13D3-4D30-B5FD-AB65053A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63F51-0BE8-4147-85B6-9A88A188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C913-E1E2-486F-A3A3-F63C25C9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896F8-63BD-4556-9F2A-605E2D43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46EE6-198D-4CF5-8B30-9F590093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AA4A4-44E1-4C93-B5B2-6C3793B1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813AF-11B0-4375-9730-521C07D3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BDF63-1739-43A5-9047-F1A7049D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22363-8768-4033-ABAB-6AA3A8FC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B302A-CD8F-4228-9E6C-206B6682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7A909-80FD-491F-8221-CF596242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A136D-D49B-499A-BAF1-223DED3E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87421-A189-4463-A158-4840A2E6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12AA-2EB4-41D9-A0E1-34729893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2A873-4323-452C-8877-BDD7B9DE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49443-02E6-4210-ABD0-F5340021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5E55B-1C3E-452C-A766-AA804963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0254D-6869-42AD-ACA3-1541B78A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1AB28-EE35-4B69-B0FA-DAC3B0D7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E43F7-2220-4130-B6E2-3891265C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A4640-16CD-4407-95A6-FF4B873E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6DCBB-08B1-48B6-B87D-EDFADE43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02392-23C7-4014-AAF8-FBA9A36C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79221-F942-4344-8BA7-1F6E5AA3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AFD7-A54B-4D43-8DEF-7403ED13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5D239-483D-4D08-83C5-69E56788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2B52E-0258-4D2F-97AE-2C589990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6E834-78D0-4485-B817-E2867558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51304-C999-4601-A4CC-4561EC84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41017-6598-49C6-81A4-BC3CC309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1A2A0-FE2E-426B-8833-5F7F4CD6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49912-CF6C-4B15-85FB-7708AAF3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46182-1025-41BE-BEE2-B179C850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87663-BB11-42B7-A9E8-9A83906B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44E0B-E8A9-4107-A496-10A28583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0C54-23CE-4082-BC39-7A2DDC81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D73D5-0F0B-4ADB-928C-0762C36E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BA2F2-DC41-4254-989B-CB5F1F81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1A720-A4ED-44BE-BDB9-BA4C9E36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9420D-20A1-43CF-B500-3DFAA0B8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C2AD8-367D-422C-A116-07D301B4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89973-E998-43E1-8D84-E64C7C76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21BA5-DDA3-4CDE-85E2-424F8089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5EAAD-9D19-4EA1-A9CE-9597E7D5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55CF1-6D35-473F-9CCA-61A3F62C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A0B96-EDB8-4251-AF00-143EF19C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ED53-9758-46FA-8993-A3C31555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82F1F-EE81-4A30-8F5E-2F5A9E83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3EA9F-C67B-4CC1-89EF-BFE41621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897F5-32D2-4C57-B350-38461ED0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BE082-3846-45D7-AFA5-BBC540F9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8A73D-AB0F-4FA2-881C-E8AEF17B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A1557-276E-4B02-924E-78001D80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3048E-2E8B-4F2A-9CA6-6E246D7C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12F12-4E58-4C7D-AC58-6CD4F476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0DDA6-438D-4843-B414-C811DD1D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6620D-F894-4E94-855F-8345A738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5F7A-044A-4D03-84DF-7B17659B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B94DF-B926-4FD8-B023-78EB2380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9DFAC-CDCF-463A-AB67-EDB59C6C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52DAD-453E-4991-BE9A-115E135D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BCAF1-50E3-4D63-AAA0-469B036A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F5049-4FE8-45B4-9E05-9E0F840E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D2B5-D368-45E4-B7FA-C083271C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9302-C6E2-4F61-BAC8-CB2F355BCF6A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C650-0F07-4895-B0D2-014E34C9A814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9E0E-28C6-4CBC-8FF7-BB5E4B3070B7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3551-9D1F-4AC0-9D9D-C36011FF0005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5530-891B-4E78-9060-73536094A38E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24C2-6CE0-4DC4-8A31-DEAD1B4DD5D6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5D15-B5E3-425D-9723-CD486F83BFFF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The Present Perfect Tens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3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. Yet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eans “up to now”. It is usually placed at the end of the ques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e British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ffirmative statements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: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143000" y="1714320"/>
            <a:ext cx="751536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</a:rPr>
              <a:t>Just: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fers to the very recent pas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comes before the past particip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Already/ 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usually come before the past participle or at the end of the senten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’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Negative Statements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1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Never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eans “not at any time”. It must come before the past particip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usually comes at the end of a negative state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means “up to now”. Still comes before has or hav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e present perfect tense consists of 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/has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+ the past participle form of the verb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heir photo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lived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abroad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8d01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( I, you, they, we, plural noun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8d01"/>
                </a:solidFill>
                <a:latin typeface="Gill Sans MT"/>
              </a:rPr>
              <a:t>H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(she, he, it, singular noun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654c"/>
                </a:solidFill>
                <a:latin typeface="Gill Sans MT"/>
              </a:rPr>
              <a:t>Contraction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: I’ve, we’ve, they’ve, she’s, he’s, it’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Us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ctions or situations that happened  at an unspecified time in the past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Cana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parent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return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from ther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e Houses of Parliament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Sh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Brazi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67d42"/>
                </a:solidFill>
                <a:uFillTx/>
                <a:latin typeface="Gill Sans MT"/>
                <a:ea typeface="Arial"/>
              </a:rPr>
              <a:t>Time expressions for this use are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lready, just, ever, recently, still, yet, so far and up to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ve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seen their photo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parents have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returned from Cana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family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asn’t had time for a trip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They have shot 10 rolls of film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so far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Up until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, we haven’t had the mone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- Repeated actions ay unspecified times in the pas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London tw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Paul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travel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outside his country too many tim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67d42"/>
                </a:solidFill>
                <a:uFillTx/>
                <a:latin typeface="Gill Sans MT"/>
                <a:ea typeface="Arial"/>
              </a:rPr>
              <a:t>Time expressions lik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once, twice, several times.. Etc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Yes/ No questions in the present perfect tense: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adverb :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(not) ever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 common in the present perfect tens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New York?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have     No, I haven’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he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Empire State Building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she has         No, she has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Faisalia Tower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have    No, I have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Information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ave or has separates the question word from the sentenc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com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er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ow many time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ere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ow much mone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spen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er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rough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 map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n present perfect questions </a:t>
            </a:r>
            <a:r>
              <a:rPr b="0" lang="en-US" sz="3200" spc="-1" strike="noStrike">
                <a:solidFill>
                  <a:srgbClr val="8898c3"/>
                </a:solidFill>
                <a:latin typeface="Gill Sans MT"/>
                <a:ea typeface="Arial"/>
              </a:rPr>
              <a:t>with who or what as the subjec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, the word order is the same as in a state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liv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broa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Jaun has lived abroa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tak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ny picture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No one ha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ver, never, already, just, recently, still and yet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Questions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1. </a:t>
            </a:r>
            <a:r>
              <a:rPr b="1" lang="en-US" sz="3000" spc="-1" strike="noStrike" u="sng">
                <a:solidFill>
                  <a:srgbClr val="f88631"/>
                </a:solidFill>
                <a:uFillTx/>
                <a:latin typeface="Gill Sans MT"/>
              </a:rPr>
              <a:t>Ev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: means “at any time”. It comes before the past participle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ev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?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. </a:t>
            </a:r>
            <a:r>
              <a:rPr b="1" lang="en-US" sz="3000" spc="-1" strike="noStrike" u="sng">
                <a:solidFill>
                  <a:srgbClr val="f88631"/>
                </a:solidFill>
                <a:uFillTx/>
                <a:latin typeface="Gill Sans MT"/>
              </a:rPr>
              <a:t>Already: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means “before now”. It may come before the past participle or at the end of the question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already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?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already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06:05:47Z</dcterms:created>
  <dc:creator>Sara aldawood</dc:creator>
  <dc:description/>
  <dc:language>en-US</dc:language>
  <cp:lastModifiedBy>Sara aldawood</cp:lastModifiedBy>
  <dcterms:modified xsi:type="dcterms:W3CDTF">2012-04-08T06:14:27Z</dcterms:modified>
  <cp:revision>23</cp:revision>
  <dc:subject/>
  <dc:title>The Present Perfect Tense</dc:title>
</cp:coreProperties>
</file>