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D6EA-7558-4779-A809-4282BA26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9040-335E-42EE-A821-59297B73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BF3E-CDC3-4538-BACA-8DC452CB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E5AA-2A4B-421F-AB54-AA566E19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1B7E-91F8-480B-88FE-12E1C4AE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F6DB-7D7E-487C-9330-FD90F36F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85CC-9A43-438E-8D99-302B08DF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7512-69FF-430D-9F9B-C9726F26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4080-9D0D-442B-B643-5C40F6CE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439C-562E-4CA0-9313-960C6F0B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8CBE-B6EC-4EA0-9654-5824BAB5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37BD-9B1D-4215-B793-E23DB69B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CACF-9407-49B7-B48E-8E89AD80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5693-1ACE-46F6-9D81-D6C3188E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4715-97D5-4D2C-AE51-8C59D97C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3995-AF9B-422E-BD1A-CFF779A5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BF3B-FF26-4C8F-95ED-0A501739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3225F-5832-4C3E-A4A8-85E62216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257F5-3ED9-41A4-BFB0-61B8B600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EDCE1-29A0-486F-9684-47F9ACD2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80BC3-2C17-4FCA-9BCE-C00A01DA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E57E4-25B9-4869-ACB1-374E3402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3E98-C82A-4B8F-AF51-D7533EC8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2B209-2FA9-4310-8492-3200895E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1522A-E41F-45C0-9A6E-5C8682AA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FC19E-19AF-4067-AA5D-737F42E9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9B4F3-E5EC-423D-8C08-4A77FE86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56B8B-55F3-42CB-ADB1-48643E7E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F91ED-D177-4609-920A-57151064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C5189-0475-4C5E-AD7F-E6723E9B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C526F-46C6-430C-9339-F5DF56C3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4972F-C63D-4C27-8FB3-E32CD5DF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6BE85-1310-420D-85CB-F8F5BDD3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BE29-8F8D-4992-95FD-E04EBE60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C6145-AFDE-4373-ADCB-0C2AFA6E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B7457-E11B-44D9-BA9C-8C12B1B7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92CE7-C679-4DB8-88E8-5345610D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30483-AB2C-45FB-A1B7-BA58754D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147E4-D09A-40A4-9114-44C269FB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F0D37-0A20-4823-B5EC-42A45575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7D9BF-88B6-497E-804C-1E9DF4A1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55626-EF18-4A39-9BF6-29603D97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4516C-3213-4D80-B196-E6BD9704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5819E-95D3-4414-8833-B5AF7087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94FC-FAE9-474F-8EBA-2183F0F8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129DF-820A-4E6D-A7AE-90F04BA7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E7219-D9FA-4292-9F1C-EF4040E6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6B000-2035-4169-8786-927D458C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2F22D-83DA-4881-877E-7F45DF26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3343E-4DD4-4EB9-9D38-9DF16D60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30E24-06D7-4ADF-9719-3939D1FF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CDB46-14C7-4965-B75E-1F25958B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441C8-B816-48FC-B235-A0169AB6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B7972-2834-464B-A903-7F56ED39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9D4E9-0180-44F8-A48A-D9904457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D16C-35CA-40EF-9027-8F8E63B9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8D2A1-A79D-4C93-82DB-06F5C78F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8F3E8-6658-4093-B7C4-53819297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F91CC-235D-415D-AF18-5DE22877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DE71D-E4D2-4A1F-A8A0-6359C544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17204-3623-48A9-B1C1-B1A89D37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ADCA1-1328-4681-9660-1DD3975B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9187D-5DF2-4FEB-8AA5-92A94CA9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85BF3-8BF0-4C32-ADA2-EDFE386F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14C81-BA39-4806-96B3-644A4F95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EEA50-96B1-4195-AFAC-7F937D53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6FCA-82E5-4F37-A674-82C2BA5E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81F93-45BD-40A1-AD79-7F953D45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F8918-E6A4-46C9-B740-87C28645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5B44A-A174-47EC-A989-A7AFAB41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7F9FB-B1DB-4D89-A7D5-CDACE2F4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68243-2D75-4A23-8837-5EB09ADD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13A9C-2C03-486A-A2C7-B88793AB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3D052-25F6-46B3-95E9-C0BFEBA4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D3B87-BA71-41CF-BBAC-B185D383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CF568-27BB-45D6-B92C-B4FD9462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3EFF7-F9D0-4C27-93D6-F05D6C5C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546E-5035-4817-9BF5-2CA6E8FB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F1AB2-8DD7-4605-B37C-4EAAC331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E643B-4D84-426E-AACA-73E828C5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A55DA-76DA-4C06-87E0-EA07610C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403A9-6E2B-45B4-9D0F-DACF381D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A77C5-3D56-495E-A257-8E7DFEC0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7BAF-2DF9-4D5E-B570-44FE95FE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9FFB-DA23-45BA-B4A2-D0A2E9038262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047A-AE37-4967-957D-8CE04E639F89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1D8E-E3E2-4E65-AEC2-091BECB589D1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F793-8622-405F-890C-2761DF57F5A7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E807-FF0E-45D7-B2EF-48E9BBD09A30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86DC-1546-4437-8252-F14597A0F5BA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29C9-CCD0-4912-B8FE-2B29C33BD40D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The Present Perfect Tens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3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. Yet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eans “up to now”. It is usually placed at the end of the ques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e British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ffirmative statements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: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143000" y="1714320"/>
            <a:ext cx="751536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</a:rPr>
              <a:t>Just: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fers to the very recent pas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comes before the past particip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Already/ 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usually come before the past participle or at the end of the senten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’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Negative Statements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1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Never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eans “not at any time”. It must come before the past particip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usually comes at the end of a negative state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means “up to now”. Still comes before has or hav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e present perfect tense consists of 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/has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+ the past participle form of the verb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heir photo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lived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abroad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8d01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( I, you, they, we, plural noun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8d01"/>
                </a:solidFill>
                <a:latin typeface="Gill Sans MT"/>
              </a:rPr>
              <a:t>H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(she, he, it, singular noun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654c"/>
                </a:solidFill>
                <a:latin typeface="Gill Sans MT"/>
              </a:rPr>
              <a:t>Contraction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: I’ve, we’ve, they’ve, she’s, he’s, it’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Us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ctions or situations that happened  at an unspecified time in the past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Cana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parent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return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from ther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e Houses of Parliament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Sh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Brazi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67d42"/>
                </a:solidFill>
                <a:uFillTx/>
                <a:latin typeface="Gill Sans MT"/>
                <a:ea typeface="Arial"/>
              </a:rPr>
              <a:t>Time expressions for this use are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lready, just, ever, recently, still, yet, so far and up to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ve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seen their photo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parents have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returned from Cana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family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asn’t had time for a trip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They have shot 10 rolls of film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so far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Up until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, we haven’t had the mone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- Repeated actions ay unspecified times in the pas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London tw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Paul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travel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outside his country too many tim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67d42"/>
                </a:solidFill>
                <a:uFillTx/>
                <a:latin typeface="Gill Sans MT"/>
                <a:ea typeface="Arial"/>
              </a:rPr>
              <a:t>Time expressions lik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once, twice, several times.. Etc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Yes/ No questions in the present perfect tense: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adverb :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(not) ever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common in the present perfect tens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New York?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have     No, I haven’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he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Empire State Building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she has         No, she has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Faisalia Tower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have    No, I have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Information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ave or has separates the question word from the sentenc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com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er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ow many time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ere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ow much mone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spe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er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rough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 map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n present perfect questions </a:t>
            </a:r>
            <a:r>
              <a:rPr b="0" lang="en-US" sz="3200" spc="-1" strike="noStrike">
                <a:solidFill>
                  <a:srgbClr val="8898c3"/>
                </a:solidFill>
                <a:latin typeface="Gill Sans MT"/>
                <a:ea typeface="Arial"/>
              </a:rPr>
              <a:t>with who or what as the subjec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, the word order is the same as in a state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liv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broa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Jaun has lived abroa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tak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ny picture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No one ha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ver, never, already, just, recently, still and yet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Questions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1. </a:t>
            </a:r>
            <a:r>
              <a:rPr b="1" lang="en-US" sz="3000" spc="-1" strike="noStrike" u="sng">
                <a:solidFill>
                  <a:srgbClr val="f88631"/>
                </a:solidFill>
                <a:uFillTx/>
                <a:latin typeface="Gill Sans MT"/>
              </a:rPr>
              <a:t>Ev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: means “at any time”. It comes before the past participle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ev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?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. </a:t>
            </a:r>
            <a:r>
              <a:rPr b="1" lang="en-US" sz="3000" spc="-1" strike="noStrike" u="sng">
                <a:solidFill>
                  <a:srgbClr val="f88631"/>
                </a:solidFill>
                <a:uFillTx/>
                <a:latin typeface="Gill Sans MT"/>
              </a:rPr>
              <a:t>Already: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means “before now”. It may come before the past participle or at the end of the question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already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?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already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06:05:47Z</dcterms:created>
  <dc:creator>Sara aldawood</dc:creator>
  <dc:description/>
  <dc:language>en-US</dc:language>
  <cp:lastModifiedBy>Sara aldawood</cp:lastModifiedBy>
  <dcterms:modified xsi:type="dcterms:W3CDTF">2012-04-08T06:14:27Z</dcterms:modified>
  <cp:revision>23</cp:revision>
  <dc:subject/>
  <dc:title>The Present Perfect Tense</dc:title>
</cp:coreProperties>
</file>