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19BD-851C-4113-9F82-777940E36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3EB6-3F2E-48A1-B886-B6B6CDFD8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1119-AF28-4E8B-B7BB-D5532D512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F08E-DCA1-44D7-A509-F447E32EB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2CE2C-0BE8-4A7E-A984-8C33321F5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F1F10-9C95-4A7B-9CBB-B6400C963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FAD1D-648D-403E-B90B-6A39E7E33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028F5-424E-486F-8765-63E8DB24C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CC06F-23A3-4BAA-A6F3-93EEB53B4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3B2EC-0F58-4078-9B2C-E9DDEF63D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CB154-FD38-447E-B667-F0BA13BB5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057F-7221-4F33-8FB8-085E26738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707D1-F938-435A-ACC8-91943997D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9BFDB-49DF-4A3B-BCD4-683056E42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F7C92-B8C0-495E-83D4-5E8E50AE4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66F50-E480-4754-B981-F64EA21D8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524B1-B9E3-4160-B45D-F76DAE03C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D6BE0B-CF39-40E1-AD61-05C31E7CE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B3610F-23D0-413E-87C2-301721176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C7EEF9-AE2E-4505-A8E8-419F81381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7D93DE-228F-494B-9340-9DCAE694C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A1D90E-D74E-4AE9-B418-648DE56C7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557B-42A0-4EEB-8A9A-5DC43A2EC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6A0FA7-8019-4DD8-8A17-9AE6A38BE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9BB317-A8F2-435F-8B24-105D76D52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2C83B6-CDC3-4CB8-BDB5-E871B89DA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2EF3D4-84A0-439A-A55A-594431FD2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C6A647-2F4A-4F15-9572-95E5EEE1D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26CD86-3BAF-4215-B42F-D8D9531AB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07C077-686E-4B02-A5E7-DEC393364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744A30-E775-41EE-B22D-B8B6E1FB1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CC6E91-092D-4CAB-A196-D8563C8BA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C14C12-6ACA-4E8F-BC34-8FE5DB9C9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C09B-B48A-4DED-9F57-ED668DDE2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DE9D0D-8162-4D5A-95EE-CFE5B4427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0AC678-7C2A-4DF7-9E23-A76321964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20EDC6-333C-49B2-9544-B70BA1FD2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C81624-A620-49BD-AEFB-9032DF065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18F453-E21E-4099-8B0B-7FFC46ED7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92AFA6-CCE5-48F0-8A3D-F34586CA7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5CDFCF-76F0-46B0-82DC-3572F704B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C97C95-05FB-49BF-A3D6-39B0E74BD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C100C4-2477-4B3D-B873-47105A3C0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CE5BAD-6211-4B0B-828F-56801367C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1418-917E-472D-8DCE-11A591209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7C1F4C-93FF-45E2-9B60-B4E1AB8B8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B64682-7EF0-4BBF-B8DD-C6814A39D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A28A6A-1298-4DAA-8F6E-6BE2D6201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6B391D-7F7D-45E9-9292-7CBEAAE78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FB2C39-B371-48DC-B3F7-68A6FE89E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EE40F7-26E3-492F-B072-3B9EBA61B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13B2C4-4B61-405A-8D56-9A6227E5D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AAB68F-1577-4DD7-8FEF-33739AC3C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AF4D4C-205F-43F5-A6EA-39796FD24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65FD2E-4052-4D99-A110-221A66A97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46C7-321C-4DA7-B045-039AAF787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B63B23-59AB-4A88-BD0F-0653A499F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6BF77E-53CC-4325-8227-CD1AEBDA5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AEF87E-CAA3-4157-A315-1B2147E19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29C60D-3602-49B8-93B7-541911B05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513E26-B363-439D-B6F9-28A8418FD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4A31EB-A258-4C36-8A33-E3618C958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AED019-9B8B-486F-9F5D-15ED163BB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2755E5-C06D-4AF3-B7C3-84EFC1C2C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0A5803-BB6F-4D99-8279-E4B711CBE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85477C-39D6-4C18-AFF9-6DB60A795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CF99-849A-4092-BAE5-A5FA63ABF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69F58F-15C1-4FCA-9EFD-A6FC0F765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3D42BB-7CCD-426A-8156-9C4282209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931520-3182-4F83-8C00-FEFECD260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1C538D-BD13-42B9-8A30-4BE5ED18A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4000D8-CCC4-4B65-98BA-5CF2F902D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B81AD0-F761-45A9-AD10-7EB140D33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A3D589-71F0-4C9F-8F5C-20124D2A1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E7B084-7D5D-4089-87CC-C71C90D25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665AD7-420F-469C-9FE4-CB217A0C9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7D35BC-3EA4-4F5D-9DAF-115CCC8B8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2096-83BE-4494-BAA2-FD47A3091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416D9A-D348-491C-BE8A-270F6C858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ABAD96-777D-4949-8E3C-16ABDAAFE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081D74-F2F1-4A8F-9384-9AED73B1A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83DBEE-0EB6-4047-AACC-023C0DFBC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A16F23-73CE-4F52-8299-04FF44A29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0C50-C39F-4297-B5D3-80E48E78B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دائري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شكل بيضاوي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دائرة مجوفة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دائرة مجوفة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مستطيل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2DA42-55D8-401B-8E3B-78744CBAD278}" type="slidenum"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مستطيل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دائري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شكل بيضاوي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دائرة مجوفة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دائرة مجوفة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مستطيل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مستطيل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شكل بيضاوي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شكل بيضاوي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شكل بيضاوي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E604C-9996-4498-8662-B52C4E7C3A24}" type="slidenum"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مستطيل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مستطيل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شكل بيضاوي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شكل بيضاوي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شكل بيضاوي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439CB-9DA6-4A8B-878B-B1FF1023322A}" type="slidenum"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CB20E-0546-4689-8B98-921A8E186AEF}" type="slidenum"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مستطيل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مستطيل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FBEB6-47A9-4474-B661-9ED28124EC60}" type="slidenum"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A5785-E7EB-47BA-852B-96C9ABB6F88C}" type="slidenum"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مستطيل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مستطيل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مخطط انسيابي: معالجة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مخطط انسيابي: معالجة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619BC-A804-4241-BA26-5F1984B31231}" type="slidenum"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  <a:ea typeface="Times New Roman"/>
              </a:rPr>
              <a:t>The Present Perfect Tense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  <a:ea typeface="Times New Roman"/>
              </a:rPr>
              <a:t>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2600" spc="-1" strike="noStrike">
              <a:solidFill>
                <a:srgbClr val="320e0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3</a:t>
            </a:r>
            <a:r>
              <a:rPr b="1" lang="en-US" sz="3200" spc="-1" strike="noStrike" u="sng">
                <a:solidFill>
                  <a:srgbClr val="f88631"/>
                </a:solidFill>
                <a:uFillTx/>
                <a:latin typeface="Gill Sans MT"/>
                <a:ea typeface="Arial"/>
              </a:rPr>
              <a:t>. Yet: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means “up to now”. It is usually placed at the end of the question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Hav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you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  <a:ea typeface="Arial"/>
              </a:rPr>
              <a:t>visite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the British Museum </a:t>
            </a:r>
            <a:r>
              <a:rPr b="0" lang="en-US" sz="3200" spc="-1" strike="noStrike">
                <a:solidFill>
                  <a:srgbClr val="f88631"/>
                </a:solidFill>
                <a:latin typeface="Gill Sans MT"/>
                <a:ea typeface="Arial"/>
              </a:rPr>
              <a:t>ye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Affirmative statements</a:t>
            </a: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: 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1143000" y="1714320"/>
            <a:ext cx="751536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88631"/>
                </a:solidFill>
                <a:uFillTx/>
                <a:latin typeface="Gill Sans MT"/>
              </a:rPr>
              <a:t>Just: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refers to the very recent past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t comes before the past participle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’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v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f88631"/>
                </a:solidFill>
                <a:latin typeface="Gill Sans MT"/>
              </a:rPr>
              <a:t>jus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</a:rPr>
              <a:t>visite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that museum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2. </a:t>
            </a:r>
            <a:r>
              <a:rPr b="1" lang="en-US" sz="3200" spc="-1" strike="noStrike" u="sng">
                <a:solidFill>
                  <a:srgbClr val="f88631"/>
                </a:solidFill>
                <a:uFillTx/>
                <a:latin typeface="Gill Sans MT"/>
                <a:ea typeface="Arial"/>
              </a:rPr>
              <a:t>Already/ recently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: usually come before the past participle or at the end of the sentence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I’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v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3200" spc="-1" strike="noStrike">
                <a:solidFill>
                  <a:srgbClr val="f88631"/>
                </a:solidFill>
                <a:latin typeface="Gill Sans MT"/>
                <a:ea typeface="Arial"/>
              </a:rPr>
              <a:t>already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  <a:ea typeface="Arial"/>
              </a:rPr>
              <a:t>visite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that museum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I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’v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  <a:ea typeface="Arial"/>
              </a:rPr>
              <a:t>visite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that museum </a:t>
            </a:r>
            <a:r>
              <a:rPr b="0" lang="en-US" sz="3200" spc="-1" strike="noStrike">
                <a:solidFill>
                  <a:srgbClr val="f88631"/>
                </a:solidFill>
                <a:latin typeface="Gill Sans MT"/>
                <a:ea typeface="Arial"/>
              </a:rPr>
              <a:t>already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I’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v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3200" spc="-1" strike="noStrike">
                <a:solidFill>
                  <a:srgbClr val="f88631"/>
                </a:solidFill>
                <a:latin typeface="Gill Sans MT"/>
                <a:ea typeface="Arial"/>
              </a:rPr>
              <a:t>recently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  <a:ea typeface="Arial"/>
              </a:rPr>
              <a:t>visite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that museum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I’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v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  <a:ea typeface="Arial"/>
              </a:rPr>
              <a:t>visite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that museum </a:t>
            </a:r>
            <a:r>
              <a:rPr b="0" lang="en-US" sz="3200" spc="-1" strike="noStrike">
                <a:solidFill>
                  <a:srgbClr val="f88631"/>
                </a:solidFill>
                <a:latin typeface="Gill Sans MT"/>
                <a:ea typeface="Arial"/>
              </a:rPr>
              <a:t>recently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  <a:ea typeface="Arial"/>
              </a:rPr>
              <a:t>Negative Statements</a:t>
            </a:r>
            <a:r>
              <a:rPr b="0" lang="en-US" sz="3900" spc="-1" strike="noStrike">
                <a:solidFill>
                  <a:srgbClr val="572314"/>
                </a:solidFill>
                <a:latin typeface="Gill Sans MT"/>
                <a:ea typeface="Arial"/>
              </a:rPr>
              <a:t>: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1. </a:t>
            </a:r>
            <a:r>
              <a:rPr b="1" lang="en-US" sz="3200" spc="-1" strike="noStrike" u="sng">
                <a:solidFill>
                  <a:srgbClr val="f88631"/>
                </a:solidFill>
                <a:uFillTx/>
                <a:latin typeface="Gill Sans MT"/>
                <a:ea typeface="Arial"/>
              </a:rPr>
              <a:t>Never: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means “not at any time”. It must come before the past participle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I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hav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3200" spc="-1" strike="noStrike">
                <a:solidFill>
                  <a:srgbClr val="f88631"/>
                </a:solidFill>
                <a:latin typeface="Gill Sans MT"/>
                <a:ea typeface="Arial"/>
              </a:rPr>
              <a:t>never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  <a:ea typeface="Arial"/>
              </a:rPr>
              <a:t>visite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that museum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2. </a:t>
            </a:r>
            <a:r>
              <a:rPr b="1" lang="en-US" sz="3200" spc="-1" strike="noStrike" u="sng">
                <a:solidFill>
                  <a:srgbClr val="f88631"/>
                </a:solidFill>
                <a:uFillTx/>
                <a:latin typeface="Gill Sans MT"/>
                <a:ea typeface="Arial"/>
              </a:rPr>
              <a:t>ye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: usually comes at the end of a negative statement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I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haven’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  <a:ea typeface="Arial"/>
              </a:rPr>
              <a:t>visite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that museum </a:t>
            </a:r>
            <a:r>
              <a:rPr b="0" lang="en-US" sz="3200" spc="-1" strike="noStrike">
                <a:solidFill>
                  <a:srgbClr val="f88631"/>
                </a:solidFill>
                <a:latin typeface="Gill Sans MT"/>
                <a:ea typeface="Arial"/>
              </a:rPr>
              <a:t>ye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3. </a:t>
            </a:r>
            <a:r>
              <a:rPr b="1" lang="en-US" sz="3200" spc="-1" strike="noStrike" u="sng">
                <a:solidFill>
                  <a:srgbClr val="f88631"/>
                </a:solidFill>
                <a:uFillTx/>
                <a:latin typeface="Gill Sans MT"/>
              </a:rPr>
              <a:t>Still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: means “up to now”. Still comes before has or have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 </a:t>
            </a:r>
            <a:r>
              <a:rPr b="0" lang="en-US" sz="3200" spc="-1" strike="noStrike">
                <a:solidFill>
                  <a:srgbClr val="f88631"/>
                </a:solidFill>
                <a:latin typeface="Gill Sans MT"/>
              </a:rPr>
              <a:t>still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haven’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</a:rPr>
              <a:t>visite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that museum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6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1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The present perfect tense consists of :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Gill Sans MT"/>
              </a:rPr>
              <a:t>Have/has </a:t>
            </a:r>
            <a:r>
              <a:rPr b="0" lang="en-US" sz="3000" spc="-1" strike="noStrike">
                <a:solidFill>
                  <a:srgbClr val="637f26"/>
                </a:solidFill>
                <a:latin typeface="Gill Sans MT"/>
              </a:rPr>
              <a:t>+ the past participle form of the verb.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I </a:t>
            </a:r>
            <a:r>
              <a:rPr b="0" lang="en-US" sz="3000" spc="-1" strike="noStrike">
                <a:solidFill>
                  <a:srgbClr val="ff0000"/>
                </a:solidFill>
                <a:latin typeface="Gill Sans MT"/>
              </a:rPr>
              <a:t>have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000" spc="-1" strike="noStrike">
                <a:solidFill>
                  <a:srgbClr val="637f26"/>
                </a:solidFill>
                <a:latin typeface="Gill Sans MT"/>
              </a:rPr>
              <a:t>seen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their photos.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She </a:t>
            </a:r>
            <a:r>
              <a:rPr b="0" lang="en-US" sz="3000" spc="-1" strike="noStrike">
                <a:solidFill>
                  <a:srgbClr val="ff0000"/>
                </a:solidFill>
                <a:latin typeface="Gill Sans MT"/>
              </a:rPr>
              <a:t>has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000" spc="-1" strike="noStrike">
                <a:solidFill>
                  <a:srgbClr val="637f26"/>
                </a:solidFill>
                <a:latin typeface="Gill Sans MT"/>
              </a:rPr>
              <a:t>lived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abroad.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58d01"/>
                </a:solidFill>
                <a:latin typeface="Gill Sans MT"/>
              </a:rPr>
              <a:t>Have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( I, you, they, we, plural nouns)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58d01"/>
                </a:solidFill>
                <a:latin typeface="Gill Sans MT"/>
              </a:rPr>
              <a:t>Has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(she, he, it, singular nouns)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0654c"/>
                </a:solidFill>
                <a:latin typeface="Gill Sans MT"/>
              </a:rPr>
              <a:t>Contractions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: I’ve, we’ve, they’ve, she’s, he’s, it’s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3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3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3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  <a:ea typeface="Times New Roman"/>
              </a:rPr>
              <a:t>Uses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  <a:ea typeface="Times New Roman"/>
              </a:rPr>
              <a:t>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Actions or situations that happened  at an unspecified time in the past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I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hav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  <a:ea typeface="Arial"/>
              </a:rPr>
              <a:t>been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to Canada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My parents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hav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  <a:ea typeface="Arial"/>
              </a:rPr>
              <a:t>returne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from there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I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haven’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  <a:ea typeface="Arial"/>
              </a:rPr>
              <a:t>seen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the Houses of Parliaments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She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has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  <a:ea typeface="Arial"/>
              </a:rPr>
              <a:t>been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to Brazil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31920" indent="-25704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67d42"/>
                </a:solidFill>
                <a:uFillTx/>
                <a:latin typeface="Gill Sans MT"/>
                <a:ea typeface="Arial"/>
              </a:rPr>
              <a:t>Time expressions for this use are: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already, just, ever, recently, still, yet, so far and up to now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I’ve </a:t>
            </a:r>
            <a:r>
              <a:rPr b="0" lang="en-US" sz="3200" spc="-1" strike="noStrike">
                <a:solidFill>
                  <a:srgbClr val="d59988"/>
                </a:solidFill>
                <a:latin typeface="Gill Sans MT"/>
                <a:ea typeface="Arial"/>
              </a:rPr>
              <a:t>already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seen their photos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My parents have </a:t>
            </a:r>
            <a:r>
              <a:rPr b="0" lang="en-US" sz="3200" spc="-1" strike="noStrike">
                <a:solidFill>
                  <a:srgbClr val="d59988"/>
                </a:solidFill>
                <a:latin typeface="Gill Sans MT"/>
                <a:ea typeface="Arial"/>
              </a:rPr>
              <a:t>jus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returned from Canada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My family </a:t>
            </a:r>
            <a:r>
              <a:rPr b="0" lang="en-US" sz="3200" spc="-1" strike="noStrike">
                <a:solidFill>
                  <a:srgbClr val="d59988"/>
                </a:solidFill>
                <a:latin typeface="Gill Sans MT"/>
                <a:ea typeface="Arial"/>
              </a:rPr>
              <a:t>still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hasn’t had time for a trip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They have shot 10 rolls of film </a:t>
            </a:r>
            <a:r>
              <a:rPr b="0" lang="en-US" sz="3200" spc="-1" strike="noStrike">
                <a:solidFill>
                  <a:srgbClr val="d59988"/>
                </a:solidFill>
                <a:latin typeface="Gill Sans MT"/>
                <a:ea typeface="Arial"/>
              </a:rPr>
              <a:t>so far.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59988"/>
                </a:solidFill>
                <a:latin typeface="Gill Sans MT"/>
                <a:ea typeface="Arial"/>
              </a:rPr>
              <a:t>Up until now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, we haven’t had the money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2- Repeated actions ay unspecified times in the past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I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hav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  <a:ea typeface="Arial"/>
              </a:rPr>
              <a:t>been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to London twice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Paul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hasn’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  <a:ea typeface="Arial"/>
              </a:rPr>
              <a:t>travele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outside his country too many time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67d42"/>
                </a:solidFill>
                <a:uFillTx/>
                <a:latin typeface="Gill Sans MT"/>
                <a:ea typeface="Arial"/>
              </a:rPr>
              <a:t>Time expressions lik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: once, twice, several times.. Etc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Yes/ No questions in the present perfect tense: 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 adverb : </a:t>
            </a:r>
            <a:r>
              <a:rPr b="0" lang="en-US" sz="3200" spc="-1" strike="noStrike">
                <a:solidFill>
                  <a:srgbClr val="e17b7c"/>
                </a:solidFill>
                <a:latin typeface="Gill Sans MT"/>
              </a:rPr>
              <a:t>(not) ever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s common in the present perfect tense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Hav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you </a:t>
            </a:r>
            <a:r>
              <a:rPr b="0" lang="en-US" sz="3200" spc="-1" strike="noStrike">
                <a:solidFill>
                  <a:srgbClr val="e17b7c"/>
                </a:solidFill>
                <a:latin typeface="Gill Sans MT"/>
              </a:rPr>
              <a:t>ever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</a:rPr>
              <a:t>been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to New York?    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Yes, I have     No, I haven’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Has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she </a:t>
            </a:r>
            <a:r>
              <a:rPr b="0" lang="en-US" sz="3200" spc="-1" strike="noStrike">
                <a:solidFill>
                  <a:srgbClr val="e17b7c"/>
                </a:solidFill>
                <a:latin typeface="Gill Sans MT"/>
              </a:rPr>
              <a:t>ever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</a:rPr>
              <a:t>seen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the Empire State Building?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Yes, she has         No, she hasn’t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Haven’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you </a:t>
            </a:r>
            <a:r>
              <a:rPr b="0" lang="en-US" sz="3200" spc="-1" strike="noStrike">
                <a:solidFill>
                  <a:srgbClr val="e17b7c"/>
                </a:solidFill>
                <a:latin typeface="Gill Sans MT"/>
              </a:rPr>
              <a:t>ever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</a:rPr>
              <a:t>seen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the Faisalia Tower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Yes, I have    No, I haven’t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  <a:ea typeface="Times New Roman"/>
              </a:rPr>
              <a:t>Information Questions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  <a:ea typeface="Times New Roman"/>
              </a:rPr>
              <a:t>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Have or has separates the question word from the sentence subject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Why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hav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you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  <a:ea typeface="Arial"/>
              </a:rPr>
              <a:t>com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here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How many times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hav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you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  <a:ea typeface="Arial"/>
              </a:rPr>
              <a:t>been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here?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How much money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hav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you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  <a:ea typeface="Arial"/>
              </a:rPr>
              <a:t>spen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Where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hav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you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  <a:ea typeface="Arial"/>
              </a:rPr>
              <a:t>been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Why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haven’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you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  <a:ea typeface="Arial"/>
              </a:rPr>
              <a:t>brough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a map?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In present perfect questions </a:t>
            </a:r>
            <a:r>
              <a:rPr b="0" lang="en-US" sz="3200" spc="-1" strike="noStrike">
                <a:solidFill>
                  <a:srgbClr val="8898c3"/>
                </a:solidFill>
                <a:latin typeface="Gill Sans MT"/>
                <a:ea typeface="Arial"/>
              </a:rPr>
              <a:t>with who or what as the subject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, the word order is the same as in a statement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Who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has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  <a:ea typeface="Arial"/>
              </a:rPr>
              <a:t>live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abroad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Jaun has lived abroad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Who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hasn’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  <a:ea typeface="Arial"/>
              </a:rPr>
              <a:t>taken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any pictures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No one has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Ever, never, already, just, recently, still and yet</a:t>
            </a: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.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317520" indent="-2455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Questions: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1. </a:t>
            </a:r>
            <a:r>
              <a:rPr b="1" lang="en-US" sz="3000" spc="-1" strike="noStrike" u="sng">
                <a:solidFill>
                  <a:srgbClr val="f88631"/>
                </a:solidFill>
                <a:uFillTx/>
                <a:latin typeface="Gill Sans MT"/>
              </a:rPr>
              <a:t>Ever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: means “at any time”. It comes before the past participle.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Gill Sans MT"/>
              </a:rPr>
              <a:t>Have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you </a:t>
            </a:r>
            <a:r>
              <a:rPr b="0" lang="en-US" sz="3000" spc="-1" strike="noStrike">
                <a:solidFill>
                  <a:srgbClr val="f88631"/>
                </a:solidFill>
                <a:latin typeface="Gill Sans MT"/>
              </a:rPr>
              <a:t>ever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000" spc="-1" strike="noStrike">
                <a:solidFill>
                  <a:srgbClr val="637f26"/>
                </a:solidFill>
                <a:latin typeface="Gill Sans MT"/>
              </a:rPr>
              <a:t>been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to the British Museum?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2. </a:t>
            </a:r>
            <a:r>
              <a:rPr b="1" lang="en-US" sz="3000" spc="-1" strike="noStrike" u="sng">
                <a:solidFill>
                  <a:srgbClr val="f88631"/>
                </a:solidFill>
                <a:uFillTx/>
                <a:latin typeface="Gill Sans MT"/>
              </a:rPr>
              <a:t>Already: 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means “before now”. It may come before the past participle or at the end of the question.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Gill Sans MT"/>
              </a:rPr>
              <a:t>Have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you </a:t>
            </a:r>
            <a:r>
              <a:rPr b="0" lang="en-US" sz="3000" spc="-1" strike="noStrike">
                <a:solidFill>
                  <a:srgbClr val="f88631"/>
                </a:solidFill>
                <a:latin typeface="Gill Sans MT"/>
              </a:rPr>
              <a:t>already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000" spc="-1" strike="noStrike">
                <a:solidFill>
                  <a:srgbClr val="637f26"/>
                </a:solidFill>
                <a:latin typeface="Gill Sans MT"/>
              </a:rPr>
              <a:t>been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to the British Museum?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Gill Sans MT"/>
              </a:rPr>
              <a:t>Have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you </a:t>
            </a:r>
            <a:r>
              <a:rPr b="0" lang="en-US" sz="3000" spc="-1" strike="noStrike">
                <a:solidFill>
                  <a:srgbClr val="637f26"/>
                </a:solidFill>
                <a:latin typeface="Gill Sans MT"/>
              </a:rPr>
              <a:t>been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to the British Museum </a:t>
            </a:r>
            <a:r>
              <a:rPr b="0" lang="en-US" sz="3000" spc="-1" strike="noStrike">
                <a:solidFill>
                  <a:srgbClr val="f88631"/>
                </a:solidFill>
                <a:latin typeface="Gill Sans MT"/>
              </a:rPr>
              <a:t>already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7T06:05:47Z</dcterms:created>
  <dc:creator>Sara aldawood</dc:creator>
  <dc:description/>
  <dc:language>en-US</dc:language>
  <cp:lastModifiedBy>Sara aldawood</cp:lastModifiedBy>
  <dcterms:modified xsi:type="dcterms:W3CDTF">2012-04-08T06:14:27Z</dcterms:modified>
  <cp:revision>23</cp:revision>
  <dc:subject/>
  <dc:title>The Present Perfect Tense</dc:title>
</cp:coreProperties>
</file>