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E9492-38FB-441F-9167-7EE706DF9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98CBD-E208-4C8E-8513-A4F481E62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E25CF-2A02-4FC2-87EB-803C86800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559C4-E4A0-44D4-A756-8C52A5262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47B02-0F71-41C7-A6BC-DCB32ADA4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F31A1-45E4-4BEE-9821-F8125CBDB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526B4-B730-4E1F-85F0-86F02418C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986FF-AFBA-4058-B8D7-3815B0CCC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B4D6A-CCE0-404C-A0A4-EE1DC9BE0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E9876-10DE-4962-A46A-8B24B4CFC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82264-0F69-448F-B75D-A7F09A461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B8911-E664-479B-8921-717A89DD2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EF753-81FC-4C7B-9EF3-887CF1B50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49920-8281-4780-BFA5-FFD5CAA95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AC1ED-E9B8-4231-AE37-14C428263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2A1F2-D1CB-44C3-B470-D389248BD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5FC3D-9923-4E67-BE1B-9448C8ECC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1FFC00-F139-4820-B505-CAFE13246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80F497-C6AF-47FE-A714-363058CF8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AD7D84-6155-47C4-BB40-A8319B06A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B9A280-9D4C-4A7A-B8DB-21D47F6D8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B08512-572F-4E21-B7E8-90D543D94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0D95F-056E-4BDC-ADB4-704695865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D62EFD-4305-4C37-A4A5-F8DC12872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6A3CA0-A99E-45E6-BCC9-33F146794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D7E8EA-289F-4F66-A12C-9CCFAAA85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2D6FD1-24D7-4348-97FB-1A7E6F016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49AADD-29E6-46EC-A9C1-716192223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659F2F-0A8D-4AD6-A5D7-258C9132C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47C6B0-4B8B-41E3-AC97-742F1CD3A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4F6E33-F4E3-473F-82EB-DD9F7C94E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DE07E6-FF19-494A-B9B4-95E0089E8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19FE9B-5C5A-4713-B3A3-DD362AF07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493DD-8ADE-46DD-A166-9476F743A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525E2F-3158-498D-8675-18B3A7A84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288E40-0E5E-4FD7-9C65-FDC96D6CB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3B62C5-514C-4815-B323-E4237BBEF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BCC3BE-E92D-41C6-8134-CF023B14C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19A012-340F-48ED-B2E9-AE93433D6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CC3200-8B74-4661-85A8-1111680DC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C04B41-8925-40BD-96AF-2ABC9F3AD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77A348-27EF-4D47-8746-666E698AC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7980F1-26D2-4CC1-85E4-A3BC0EBA5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D57B2C-2356-4410-A567-549349122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C8FC5-8504-44DB-8EB7-E66A82364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BE2407-92B5-4373-9AE3-01DDE62E9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90ACD1-B452-43D3-9F3C-C4CFFF87A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7313AD-2B39-4DAF-9E38-7B6ECC3F7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38D27F-975D-4139-829A-5045FE577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FCCB5C-6678-4EB6-8AD4-D3139640D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EED2AD-CBAB-497C-865E-07FF52433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48CD51-5390-464A-BB91-9FDBAB209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B057A3-ADB4-4081-9EA2-5972DE2C1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AAE308-F5C7-4DED-AF50-3A1A8D018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CCA3C2-52B3-458A-AFF7-97C851100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9C806-DCA4-437A-B035-9645E4366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E8897B-15F2-456E-B6BA-F1F611F49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9FE0B4-5115-4091-8669-02D099FAA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034FA0-087A-4C2C-A141-690401379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6FA610-F45E-4D78-AEA6-2552C0A9F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50037D-7E0D-43F6-86CF-3E9542699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822512-72D9-4B83-A783-C741F888D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CC157E-C454-4EB6-AEAB-08F15A688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712B95-7715-4662-B8E4-E20AE25FE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BD11B1-8797-4A68-86B0-5FC150F94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9C966B-14C2-49B1-BE86-E725BEF8D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71CA4-01FE-44B8-8E4F-85E711E67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85314D-DBA4-41EF-A93E-30A72B534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6F8711-61CD-44B7-A814-22691D828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5C7EA7-9E86-4295-8DDA-CB55C0398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6672B9-6ABE-4F0B-A3A4-A95106E26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31FAF9-5857-4FA7-BDC9-4E9592B5F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D05507-E6D8-4924-BF1B-A16FBDECF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41E128-77AB-4E67-800D-3C5EB5BA8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02528F-14A0-4F34-9E60-921EFFB47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056078-5AE2-41CB-A242-9890DDDA2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C6310D-005F-450D-A32C-040EBE292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2DF20-E832-4DC6-A746-EB175CC67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D0C52B-2D35-4957-AD87-6F250D0F0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1FF4B9-BA1E-43DD-8371-EE6EBF2B4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DFD2BD-0641-44BE-88A4-5D2236CCA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EEF7FB-0DF6-457D-950F-28C8FE0B8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BBD449-A0CD-4AF8-84BF-B4EB6951B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18CDA-AE7D-40C4-A726-2D74B4EF1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دائري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شكل بيضاوي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دائرة مجوفة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دائرة مجوفة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مستطيل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81FDB-D1F4-4DEC-9966-5BB97C851B59}" type="slidenum"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مستطيل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دائري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شكل بيضاوي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دائرة مجوفة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دائرة مجوفة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مستطيل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مستطيل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شكل بيضاوي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شكل بيضاوي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شكل بيضاوي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A7C4C-EADF-4D85-B1E4-BFDD2F879C87}" type="slidenum"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مستطيل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مستطيل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شكل بيضاوي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شكل بيضاوي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شكل بيضاوي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677B0-A822-4F54-BBA9-291FF45ABB06}" type="slidenum"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8F25D-7EA3-4BD1-94A4-DB7C035CE828}" type="slidenum"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مستطيل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مستطيل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4C488-D398-423B-ADA6-AB6E4B4A49E8}" type="slidenum"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4B490-FEEE-473E-BA8C-3F12249138D4}" type="slidenum"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مستطيل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مستطيل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مخطط انسيابي: معالجة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مخطط انسيابي: معالجة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5FDF3-A3F1-4B32-A9C3-375FF75DEB9F}" type="slidenum"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  <a:ea typeface="Times New Roman"/>
              </a:rPr>
              <a:t>The Present Perfect Tense</a:t>
            </a:r>
            <a:r>
              <a:rPr b="0" lang="en-US" sz="4300" spc="-1" strike="noStrike">
                <a:solidFill>
                  <a:srgbClr val="572314"/>
                </a:solidFill>
                <a:latin typeface="Gill Sans MT"/>
                <a:ea typeface="Times New Roman"/>
              </a:rPr>
              <a:t> 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431720" y="1848960"/>
            <a:ext cx="74070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2600" spc="-1" strike="noStrike">
              <a:solidFill>
                <a:srgbClr val="320e0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3</a:t>
            </a:r>
            <a:r>
              <a:rPr b="1" lang="en-US" sz="3200" spc="-1" strike="noStrike" u="sng">
                <a:solidFill>
                  <a:srgbClr val="f88631"/>
                </a:solidFill>
                <a:uFillTx/>
                <a:latin typeface="Gill Sans MT"/>
                <a:ea typeface="Arial"/>
              </a:rPr>
              <a:t>. Yet: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means “up to now”. It is usually placed at the end of the question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  <a:ea typeface="Arial"/>
              </a:rPr>
              <a:t>Have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you </a:t>
            </a:r>
            <a:r>
              <a:rPr b="0" lang="en-US" sz="3200" spc="-1" strike="noStrike">
                <a:solidFill>
                  <a:srgbClr val="637f26"/>
                </a:solidFill>
                <a:latin typeface="Gill Sans MT"/>
                <a:ea typeface="Arial"/>
              </a:rPr>
              <a:t>visited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the British Museum </a:t>
            </a:r>
            <a:r>
              <a:rPr b="0" lang="en-US" sz="3200" spc="-1" strike="noStrike">
                <a:solidFill>
                  <a:srgbClr val="f88631"/>
                </a:solidFill>
                <a:latin typeface="Gill Sans MT"/>
                <a:ea typeface="Arial"/>
              </a:rPr>
              <a:t>yet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2000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2000"/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Affirmative statements</a:t>
            </a: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: </a:t>
            </a: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1143000" y="1714320"/>
            <a:ext cx="751536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88631"/>
                </a:solidFill>
                <a:uFillTx/>
                <a:latin typeface="Gill Sans MT"/>
              </a:rPr>
              <a:t>Just: 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refers to the very recent past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t comes before the past participle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’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ve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3200" spc="-1" strike="noStrike">
                <a:solidFill>
                  <a:srgbClr val="f88631"/>
                </a:solidFill>
                <a:latin typeface="Gill Sans MT"/>
              </a:rPr>
              <a:t>just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3200" spc="-1" strike="noStrike">
                <a:solidFill>
                  <a:srgbClr val="637f26"/>
                </a:solidFill>
                <a:latin typeface="Gill Sans MT"/>
              </a:rPr>
              <a:t>visited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that museum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20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20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20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20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2. </a:t>
            </a:r>
            <a:r>
              <a:rPr b="1" lang="en-US" sz="3200" spc="-1" strike="noStrike" u="sng">
                <a:solidFill>
                  <a:srgbClr val="f88631"/>
                </a:solidFill>
                <a:uFillTx/>
                <a:latin typeface="Gill Sans MT"/>
                <a:ea typeface="Arial"/>
              </a:rPr>
              <a:t>Already/ recently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: usually come before the past participle or at the end of the sentence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I’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  <a:ea typeface="Arial"/>
              </a:rPr>
              <a:t>ve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</a:t>
            </a:r>
            <a:r>
              <a:rPr b="0" lang="en-US" sz="3200" spc="-1" strike="noStrike">
                <a:solidFill>
                  <a:srgbClr val="f88631"/>
                </a:solidFill>
                <a:latin typeface="Gill Sans MT"/>
                <a:ea typeface="Arial"/>
              </a:rPr>
              <a:t>already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</a:t>
            </a:r>
            <a:r>
              <a:rPr b="0" lang="en-US" sz="3200" spc="-1" strike="noStrike">
                <a:solidFill>
                  <a:srgbClr val="637f26"/>
                </a:solidFill>
                <a:latin typeface="Gill Sans MT"/>
                <a:ea typeface="Arial"/>
              </a:rPr>
              <a:t>visited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that museum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I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  <a:ea typeface="Arial"/>
              </a:rPr>
              <a:t>’ve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</a:t>
            </a:r>
            <a:r>
              <a:rPr b="0" lang="en-US" sz="3200" spc="-1" strike="noStrike">
                <a:solidFill>
                  <a:srgbClr val="637f26"/>
                </a:solidFill>
                <a:latin typeface="Gill Sans MT"/>
                <a:ea typeface="Arial"/>
              </a:rPr>
              <a:t>visited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that museum </a:t>
            </a:r>
            <a:r>
              <a:rPr b="0" lang="en-US" sz="3200" spc="-1" strike="noStrike">
                <a:solidFill>
                  <a:srgbClr val="f88631"/>
                </a:solidFill>
                <a:latin typeface="Gill Sans MT"/>
                <a:ea typeface="Arial"/>
              </a:rPr>
              <a:t>already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I’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  <a:ea typeface="Arial"/>
              </a:rPr>
              <a:t>ve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</a:t>
            </a:r>
            <a:r>
              <a:rPr b="0" lang="en-US" sz="3200" spc="-1" strike="noStrike">
                <a:solidFill>
                  <a:srgbClr val="f88631"/>
                </a:solidFill>
                <a:latin typeface="Gill Sans MT"/>
                <a:ea typeface="Arial"/>
              </a:rPr>
              <a:t>recently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</a:t>
            </a:r>
            <a:r>
              <a:rPr b="0" lang="en-US" sz="3200" spc="-1" strike="noStrike">
                <a:solidFill>
                  <a:srgbClr val="637f26"/>
                </a:solidFill>
                <a:latin typeface="Gill Sans MT"/>
                <a:ea typeface="Arial"/>
              </a:rPr>
              <a:t>visited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that museum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I’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  <a:ea typeface="Arial"/>
              </a:rPr>
              <a:t>ve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</a:t>
            </a:r>
            <a:r>
              <a:rPr b="0" lang="en-US" sz="3200" spc="-1" strike="noStrike">
                <a:solidFill>
                  <a:srgbClr val="637f26"/>
                </a:solidFill>
                <a:latin typeface="Gill Sans MT"/>
                <a:ea typeface="Arial"/>
              </a:rPr>
              <a:t>visited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that museum </a:t>
            </a:r>
            <a:r>
              <a:rPr b="0" lang="en-US" sz="3200" spc="-1" strike="noStrike">
                <a:solidFill>
                  <a:srgbClr val="f88631"/>
                </a:solidFill>
                <a:latin typeface="Gill Sans MT"/>
                <a:ea typeface="Arial"/>
              </a:rPr>
              <a:t>recently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20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2000"/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20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20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2000"/>
                                        <p:tgtEl>
                                          <p:spTgt spid="3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72314"/>
                </a:solidFill>
                <a:latin typeface="Gill Sans MT"/>
                <a:ea typeface="Arial"/>
              </a:rPr>
              <a:t>Negative Statements</a:t>
            </a:r>
            <a:r>
              <a:rPr b="0" lang="en-US" sz="3900" spc="-1" strike="noStrike">
                <a:solidFill>
                  <a:srgbClr val="572314"/>
                </a:solidFill>
                <a:latin typeface="Gill Sans MT"/>
                <a:ea typeface="Arial"/>
              </a:rPr>
              <a:t>:</a:t>
            </a: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1. </a:t>
            </a:r>
            <a:r>
              <a:rPr b="1" lang="en-US" sz="3200" spc="-1" strike="noStrike" u="sng">
                <a:solidFill>
                  <a:srgbClr val="f88631"/>
                </a:solidFill>
                <a:uFillTx/>
                <a:latin typeface="Gill Sans MT"/>
                <a:ea typeface="Arial"/>
              </a:rPr>
              <a:t>Never: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means “not at any time”. It must come before the past participle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I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  <a:ea typeface="Arial"/>
              </a:rPr>
              <a:t>have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</a:t>
            </a:r>
            <a:r>
              <a:rPr b="0" lang="en-US" sz="3200" spc="-1" strike="noStrike">
                <a:solidFill>
                  <a:srgbClr val="f88631"/>
                </a:solidFill>
                <a:latin typeface="Gill Sans MT"/>
                <a:ea typeface="Arial"/>
              </a:rPr>
              <a:t>never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</a:t>
            </a:r>
            <a:r>
              <a:rPr b="0" lang="en-US" sz="3200" spc="-1" strike="noStrike">
                <a:solidFill>
                  <a:srgbClr val="637f26"/>
                </a:solidFill>
                <a:latin typeface="Gill Sans MT"/>
                <a:ea typeface="Arial"/>
              </a:rPr>
              <a:t>visited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that museum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2. </a:t>
            </a:r>
            <a:r>
              <a:rPr b="1" lang="en-US" sz="3200" spc="-1" strike="noStrike" u="sng">
                <a:solidFill>
                  <a:srgbClr val="f88631"/>
                </a:solidFill>
                <a:uFillTx/>
                <a:latin typeface="Gill Sans MT"/>
                <a:ea typeface="Arial"/>
              </a:rPr>
              <a:t>yet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: usually comes at the end of a negative statement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I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  <a:ea typeface="Arial"/>
              </a:rPr>
              <a:t>haven’t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</a:t>
            </a:r>
            <a:r>
              <a:rPr b="0" lang="en-US" sz="3200" spc="-1" strike="noStrike">
                <a:solidFill>
                  <a:srgbClr val="637f26"/>
                </a:solidFill>
                <a:latin typeface="Gill Sans MT"/>
                <a:ea typeface="Arial"/>
              </a:rPr>
              <a:t>visited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that museum </a:t>
            </a:r>
            <a:r>
              <a:rPr b="0" lang="en-US" sz="3200" spc="-1" strike="noStrike">
                <a:solidFill>
                  <a:srgbClr val="f88631"/>
                </a:solidFill>
                <a:latin typeface="Gill Sans MT"/>
                <a:ea typeface="Arial"/>
              </a:rPr>
              <a:t>yet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20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2000"/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20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2000"/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3. </a:t>
            </a:r>
            <a:r>
              <a:rPr b="1" lang="en-US" sz="3200" spc="-1" strike="noStrike" u="sng">
                <a:solidFill>
                  <a:srgbClr val="f88631"/>
                </a:solidFill>
                <a:uFillTx/>
                <a:latin typeface="Gill Sans MT"/>
              </a:rPr>
              <a:t>Still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: means “up to now”. Still comes before has or have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 </a:t>
            </a:r>
            <a:r>
              <a:rPr b="0" lang="en-US" sz="3200" spc="-1" strike="noStrike">
                <a:solidFill>
                  <a:srgbClr val="f88631"/>
                </a:solidFill>
                <a:latin typeface="Gill Sans MT"/>
              </a:rPr>
              <a:t>still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haven’t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3200" spc="-1" strike="noStrike">
                <a:solidFill>
                  <a:srgbClr val="637f26"/>
                </a:solidFill>
                <a:latin typeface="Gill Sans MT"/>
              </a:rPr>
              <a:t>visited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that museum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6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1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The present perfect tense consists of :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Gill Sans MT"/>
              </a:rPr>
              <a:t>Have/has </a:t>
            </a:r>
            <a:r>
              <a:rPr b="0" lang="en-US" sz="3000" spc="-1" strike="noStrike">
                <a:solidFill>
                  <a:srgbClr val="637f26"/>
                </a:solidFill>
                <a:latin typeface="Gill Sans MT"/>
              </a:rPr>
              <a:t>+ the past participle form of the verb. 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I </a:t>
            </a:r>
            <a:r>
              <a:rPr b="0" lang="en-US" sz="3000" spc="-1" strike="noStrike">
                <a:solidFill>
                  <a:srgbClr val="ff0000"/>
                </a:solidFill>
                <a:latin typeface="Gill Sans MT"/>
              </a:rPr>
              <a:t>have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3000" spc="-1" strike="noStrike">
                <a:solidFill>
                  <a:srgbClr val="637f26"/>
                </a:solidFill>
                <a:latin typeface="Gill Sans MT"/>
              </a:rPr>
              <a:t>seen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 their photos. 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She </a:t>
            </a:r>
            <a:r>
              <a:rPr b="0" lang="en-US" sz="3000" spc="-1" strike="noStrike">
                <a:solidFill>
                  <a:srgbClr val="ff0000"/>
                </a:solidFill>
                <a:latin typeface="Gill Sans MT"/>
              </a:rPr>
              <a:t>has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3000" spc="-1" strike="noStrike">
                <a:solidFill>
                  <a:srgbClr val="637f26"/>
                </a:solidFill>
                <a:latin typeface="Gill Sans MT"/>
              </a:rPr>
              <a:t>lived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 abroad. 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58d01"/>
                </a:solidFill>
                <a:latin typeface="Gill Sans MT"/>
              </a:rPr>
              <a:t>Have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 ( I, you, they, we, plural nouns)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58d01"/>
                </a:solidFill>
                <a:latin typeface="Gill Sans MT"/>
              </a:rPr>
              <a:t>Has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 (she, he, it, singular nouns)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0654c"/>
                </a:solidFill>
                <a:latin typeface="Gill Sans MT"/>
              </a:rPr>
              <a:t>Contractions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: I’ve, we’ve, they’ve, she’s, he’s, it’s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3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3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3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  <a:ea typeface="Times New Roman"/>
              </a:rPr>
              <a:t>Uses</a:t>
            </a:r>
            <a:r>
              <a:rPr b="0" lang="en-US" sz="4300" spc="-1" strike="noStrike">
                <a:solidFill>
                  <a:srgbClr val="572314"/>
                </a:solidFill>
                <a:latin typeface="Gill Sans MT"/>
                <a:ea typeface="Times New Roman"/>
              </a:rPr>
              <a:t> 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Actions or situations that happened  at an unspecified time in the past: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I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  <a:ea typeface="Arial"/>
              </a:rPr>
              <a:t>have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</a:t>
            </a:r>
            <a:r>
              <a:rPr b="0" lang="en-US" sz="3200" spc="-1" strike="noStrike">
                <a:solidFill>
                  <a:srgbClr val="637f26"/>
                </a:solidFill>
                <a:latin typeface="Gill Sans MT"/>
                <a:ea typeface="Arial"/>
              </a:rPr>
              <a:t>been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to Canada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My parents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  <a:ea typeface="Arial"/>
              </a:rPr>
              <a:t>have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</a:t>
            </a:r>
            <a:r>
              <a:rPr b="0" lang="en-US" sz="3200" spc="-1" strike="noStrike">
                <a:solidFill>
                  <a:srgbClr val="637f26"/>
                </a:solidFill>
                <a:latin typeface="Gill Sans MT"/>
                <a:ea typeface="Arial"/>
              </a:rPr>
              <a:t>returned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from there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I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  <a:ea typeface="Arial"/>
              </a:rPr>
              <a:t>haven’t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</a:t>
            </a:r>
            <a:r>
              <a:rPr b="0" lang="en-US" sz="3200" spc="-1" strike="noStrike">
                <a:solidFill>
                  <a:srgbClr val="637f26"/>
                </a:solidFill>
                <a:latin typeface="Gill Sans MT"/>
                <a:ea typeface="Arial"/>
              </a:rPr>
              <a:t>seen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the Houses of Parliaments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She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  <a:ea typeface="Arial"/>
              </a:rPr>
              <a:t>has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  <a:ea typeface="Arial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</a:t>
            </a:r>
            <a:r>
              <a:rPr b="0" lang="en-US" sz="3200" spc="-1" strike="noStrike">
                <a:solidFill>
                  <a:srgbClr val="637f26"/>
                </a:solidFill>
                <a:latin typeface="Gill Sans MT"/>
                <a:ea typeface="Arial"/>
              </a:rPr>
              <a:t>been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to Brazil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31920" indent="-25704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967d42"/>
                </a:solidFill>
                <a:uFillTx/>
                <a:latin typeface="Gill Sans MT"/>
                <a:ea typeface="Arial"/>
              </a:rPr>
              <a:t>Time expressions for this use are: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already, just, ever, recently, still, yet, so far and up to now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I’ve </a:t>
            </a:r>
            <a:r>
              <a:rPr b="0" lang="en-US" sz="3200" spc="-1" strike="noStrike">
                <a:solidFill>
                  <a:srgbClr val="d59988"/>
                </a:solidFill>
                <a:latin typeface="Gill Sans MT"/>
                <a:ea typeface="Arial"/>
              </a:rPr>
              <a:t>already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seen their photos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My parents have </a:t>
            </a:r>
            <a:r>
              <a:rPr b="0" lang="en-US" sz="3200" spc="-1" strike="noStrike">
                <a:solidFill>
                  <a:srgbClr val="d59988"/>
                </a:solidFill>
                <a:latin typeface="Gill Sans MT"/>
                <a:ea typeface="Arial"/>
              </a:rPr>
              <a:t>just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returned from Canada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My family </a:t>
            </a:r>
            <a:r>
              <a:rPr b="0" lang="en-US" sz="3200" spc="-1" strike="noStrike">
                <a:solidFill>
                  <a:srgbClr val="d59988"/>
                </a:solidFill>
                <a:latin typeface="Gill Sans MT"/>
                <a:ea typeface="Arial"/>
              </a:rPr>
              <a:t>still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hasn’t had time for a trip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They have shot 10 rolls of film </a:t>
            </a:r>
            <a:r>
              <a:rPr b="0" lang="en-US" sz="3200" spc="-1" strike="noStrike">
                <a:solidFill>
                  <a:srgbClr val="d59988"/>
                </a:solidFill>
                <a:latin typeface="Gill Sans MT"/>
                <a:ea typeface="Arial"/>
              </a:rPr>
              <a:t>so far.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59988"/>
                </a:solidFill>
                <a:latin typeface="Gill Sans MT"/>
                <a:ea typeface="Arial"/>
              </a:rPr>
              <a:t>Up until now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, we haven’t had the money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500"/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500"/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3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00"/>
                                        <p:tgtEl>
                                          <p:spTgt spid="3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2- Repeated actions ay unspecified times in the past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I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  <a:ea typeface="Arial"/>
              </a:rPr>
              <a:t>have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</a:t>
            </a:r>
            <a:r>
              <a:rPr b="0" lang="en-US" sz="3200" spc="-1" strike="noStrike">
                <a:solidFill>
                  <a:srgbClr val="637f26"/>
                </a:solidFill>
                <a:latin typeface="Gill Sans MT"/>
                <a:ea typeface="Arial"/>
              </a:rPr>
              <a:t>been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to London twice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Paul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  <a:ea typeface="Arial"/>
              </a:rPr>
              <a:t>hasn’t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</a:t>
            </a:r>
            <a:r>
              <a:rPr b="0" lang="en-US" sz="3200" spc="-1" strike="noStrike">
                <a:solidFill>
                  <a:srgbClr val="637f26"/>
                </a:solidFill>
                <a:latin typeface="Gill Sans MT"/>
                <a:ea typeface="Arial"/>
              </a:rPr>
              <a:t>traveled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outside his country too many times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967d42"/>
                </a:solidFill>
                <a:uFillTx/>
                <a:latin typeface="Gill Sans MT"/>
                <a:ea typeface="Arial"/>
              </a:rPr>
              <a:t>Time expressions like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: once, twice, several times.. Etc 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3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Yes/ No questions in the present perfect tense: 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53880" indent="-273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e adverb : </a:t>
            </a:r>
            <a:r>
              <a:rPr b="0" lang="en-US" sz="3200" spc="-1" strike="noStrike">
                <a:solidFill>
                  <a:srgbClr val="e17b7c"/>
                </a:solidFill>
                <a:latin typeface="Gill Sans MT"/>
              </a:rPr>
              <a:t>(not) ever 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s common in the present perfect tense: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Have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you </a:t>
            </a:r>
            <a:r>
              <a:rPr b="0" lang="en-US" sz="3200" spc="-1" strike="noStrike">
                <a:solidFill>
                  <a:srgbClr val="e17b7c"/>
                </a:solidFill>
                <a:latin typeface="Gill Sans MT"/>
              </a:rPr>
              <a:t>ever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3200" spc="-1" strike="noStrike">
                <a:solidFill>
                  <a:srgbClr val="637f26"/>
                </a:solidFill>
                <a:latin typeface="Gill Sans MT"/>
              </a:rPr>
              <a:t>been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to New York?     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Yes, I have     No, I haven’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Has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she </a:t>
            </a:r>
            <a:r>
              <a:rPr b="0" lang="en-US" sz="3200" spc="-1" strike="noStrike">
                <a:solidFill>
                  <a:srgbClr val="e17b7c"/>
                </a:solidFill>
                <a:latin typeface="Gill Sans MT"/>
              </a:rPr>
              <a:t>ever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3200" spc="-1" strike="noStrike">
                <a:solidFill>
                  <a:srgbClr val="637f26"/>
                </a:solidFill>
                <a:latin typeface="Gill Sans MT"/>
              </a:rPr>
              <a:t>seen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the Empire State Building?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Yes, she has         No, she hasn’t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Haven’t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you </a:t>
            </a:r>
            <a:r>
              <a:rPr b="0" lang="en-US" sz="3200" spc="-1" strike="noStrike">
                <a:solidFill>
                  <a:srgbClr val="e17b7c"/>
                </a:solidFill>
                <a:latin typeface="Gill Sans MT"/>
              </a:rPr>
              <a:t>ever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3200" spc="-1" strike="noStrike">
                <a:solidFill>
                  <a:srgbClr val="637f26"/>
                </a:solidFill>
                <a:latin typeface="Gill Sans MT"/>
              </a:rPr>
              <a:t>seen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the Faisalia Tower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Yes, I have    No, I haven’t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3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3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  <a:ea typeface="Times New Roman"/>
              </a:rPr>
              <a:t>Information Questions</a:t>
            </a:r>
            <a:r>
              <a:rPr b="0" lang="en-US" sz="4300" spc="-1" strike="noStrike">
                <a:solidFill>
                  <a:srgbClr val="572314"/>
                </a:solidFill>
                <a:latin typeface="Gill Sans MT"/>
                <a:ea typeface="Times New Roman"/>
              </a:rPr>
              <a:t> 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Have or has separates the question word from the sentence subject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Why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  <a:ea typeface="Arial"/>
              </a:rPr>
              <a:t>have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you </a:t>
            </a:r>
            <a:r>
              <a:rPr b="0" lang="en-US" sz="3200" spc="-1" strike="noStrike">
                <a:solidFill>
                  <a:srgbClr val="637f26"/>
                </a:solidFill>
                <a:latin typeface="Gill Sans MT"/>
                <a:ea typeface="Arial"/>
              </a:rPr>
              <a:t>come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here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How many times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  <a:ea typeface="Arial"/>
              </a:rPr>
              <a:t>have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you </a:t>
            </a:r>
            <a:r>
              <a:rPr b="0" lang="en-US" sz="3200" spc="-1" strike="noStrike">
                <a:solidFill>
                  <a:srgbClr val="637f26"/>
                </a:solidFill>
                <a:latin typeface="Gill Sans MT"/>
                <a:ea typeface="Arial"/>
              </a:rPr>
              <a:t>been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here?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How much money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  <a:ea typeface="Arial"/>
              </a:rPr>
              <a:t>have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you </a:t>
            </a:r>
            <a:r>
              <a:rPr b="0" lang="en-US" sz="3200" spc="-1" strike="noStrike">
                <a:solidFill>
                  <a:srgbClr val="637f26"/>
                </a:solidFill>
                <a:latin typeface="Gill Sans MT"/>
                <a:ea typeface="Arial"/>
              </a:rPr>
              <a:t>spent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?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Where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  <a:ea typeface="Arial"/>
              </a:rPr>
              <a:t>have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you </a:t>
            </a:r>
            <a:r>
              <a:rPr b="0" lang="en-US" sz="3200" spc="-1" strike="noStrike">
                <a:solidFill>
                  <a:srgbClr val="637f26"/>
                </a:solidFill>
                <a:latin typeface="Gill Sans MT"/>
                <a:ea typeface="Arial"/>
              </a:rPr>
              <a:t>been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?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Why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  <a:ea typeface="Arial"/>
              </a:rPr>
              <a:t>haven’t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you </a:t>
            </a:r>
            <a:r>
              <a:rPr b="0" lang="en-US" sz="3200" spc="-1" strike="noStrike">
                <a:solidFill>
                  <a:srgbClr val="637f26"/>
                </a:solidFill>
                <a:latin typeface="Gill Sans MT"/>
                <a:ea typeface="Arial"/>
              </a:rPr>
              <a:t>brought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a map?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In present perfect questions </a:t>
            </a:r>
            <a:r>
              <a:rPr b="0" lang="en-US" sz="3200" spc="-1" strike="noStrike">
                <a:solidFill>
                  <a:srgbClr val="8898c3"/>
                </a:solidFill>
                <a:latin typeface="Gill Sans MT"/>
                <a:ea typeface="Arial"/>
              </a:rPr>
              <a:t>with who or what as the subject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, the word order is the same as in a statement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Who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  <a:ea typeface="Arial"/>
              </a:rPr>
              <a:t>has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</a:t>
            </a:r>
            <a:r>
              <a:rPr b="0" lang="en-US" sz="3200" spc="-1" strike="noStrike">
                <a:solidFill>
                  <a:srgbClr val="637f26"/>
                </a:solidFill>
                <a:latin typeface="Gill Sans MT"/>
                <a:ea typeface="Arial"/>
              </a:rPr>
              <a:t>lived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abroad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Jaun has lived abroad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Who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  <a:ea typeface="Arial"/>
              </a:rPr>
              <a:t>hasn’t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</a:t>
            </a:r>
            <a:r>
              <a:rPr b="0" lang="en-US" sz="3200" spc="-1" strike="noStrike">
                <a:solidFill>
                  <a:srgbClr val="637f26"/>
                </a:solidFill>
                <a:latin typeface="Gill Sans MT"/>
                <a:ea typeface="Arial"/>
              </a:rPr>
              <a:t>taken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any pictures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No one has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20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20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Ever, never, already, just, recently, still and yet</a:t>
            </a: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.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317520" indent="-2455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Questions: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17520" indent="-245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1. </a:t>
            </a:r>
            <a:r>
              <a:rPr b="1" lang="en-US" sz="3000" spc="-1" strike="noStrike" u="sng">
                <a:solidFill>
                  <a:srgbClr val="f88631"/>
                </a:solidFill>
                <a:uFillTx/>
                <a:latin typeface="Gill Sans MT"/>
              </a:rPr>
              <a:t>Ever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: means “at any time”. It comes before the past participle. 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17520" indent="-245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Gill Sans MT"/>
              </a:rPr>
              <a:t>Have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 you </a:t>
            </a:r>
            <a:r>
              <a:rPr b="0" lang="en-US" sz="3000" spc="-1" strike="noStrike">
                <a:solidFill>
                  <a:srgbClr val="f88631"/>
                </a:solidFill>
                <a:latin typeface="Gill Sans MT"/>
              </a:rPr>
              <a:t>ever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3000" spc="-1" strike="noStrike">
                <a:solidFill>
                  <a:srgbClr val="637f26"/>
                </a:solidFill>
                <a:latin typeface="Gill Sans MT"/>
              </a:rPr>
              <a:t>been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 to the British Museum? 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17520" indent="-245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2. </a:t>
            </a:r>
            <a:r>
              <a:rPr b="1" lang="en-US" sz="3000" spc="-1" strike="noStrike" u="sng">
                <a:solidFill>
                  <a:srgbClr val="f88631"/>
                </a:solidFill>
                <a:uFillTx/>
                <a:latin typeface="Gill Sans MT"/>
              </a:rPr>
              <a:t>Already: 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means “before now”. It may come before the past participle or at the end of the question. 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17520" indent="-245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Gill Sans MT"/>
              </a:rPr>
              <a:t>Have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 you </a:t>
            </a:r>
            <a:r>
              <a:rPr b="0" lang="en-US" sz="3000" spc="-1" strike="noStrike">
                <a:solidFill>
                  <a:srgbClr val="f88631"/>
                </a:solidFill>
                <a:latin typeface="Gill Sans MT"/>
              </a:rPr>
              <a:t>already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3000" spc="-1" strike="noStrike">
                <a:solidFill>
                  <a:srgbClr val="637f26"/>
                </a:solidFill>
                <a:latin typeface="Gill Sans MT"/>
              </a:rPr>
              <a:t>been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 to the British Museum? 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17520" indent="-245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Gill Sans MT"/>
              </a:rPr>
              <a:t>Have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 you </a:t>
            </a:r>
            <a:r>
              <a:rPr b="0" lang="en-US" sz="3000" spc="-1" strike="noStrike">
                <a:solidFill>
                  <a:srgbClr val="637f26"/>
                </a:solidFill>
                <a:latin typeface="Gill Sans MT"/>
              </a:rPr>
              <a:t>been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 to the British Museum </a:t>
            </a:r>
            <a:r>
              <a:rPr b="0" lang="en-US" sz="3000" spc="-1" strike="noStrike">
                <a:solidFill>
                  <a:srgbClr val="f88631"/>
                </a:solidFill>
                <a:latin typeface="Gill Sans MT"/>
              </a:rPr>
              <a:t>already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2000"/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20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20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2000"/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20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7T06:05:47Z</dcterms:created>
  <dc:creator>Sara aldawood</dc:creator>
  <dc:description/>
  <dc:language>en-US</dc:language>
  <cp:lastModifiedBy>Sara aldawood</cp:lastModifiedBy>
  <dcterms:modified xsi:type="dcterms:W3CDTF">2012-04-08T06:14:27Z</dcterms:modified>
  <cp:revision>23</cp:revision>
  <dc:subject/>
  <dc:title>The Present Perfect Tense</dc:title>
</cp:coreProperties>
</file>