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1C2F-9BC9-4C5F-B5AB-9DA60B681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0869-F996-4A96-92E0-13C57364C8C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F95E-FB27-4AA8-9D91-626534003F3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1450-9818-45FF-8F80-76E452A9A74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49A4-55C7-497F-8D30-43C99EA4BAF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B311-AF1B-4CB6-9541-D75F6EDAD1A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793E-C7FA-43D1-B186-0337379A31C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4545-24AA-4052-9BEC-06F99E71658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17A9-19F8-4405-9FA2-E5EB78AFAF2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2BFF-7612-45AE-ADEC-A47EC1E4FFD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D6BC-1381-4F7A-A7D5-358D15A2B68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072A-A8DC-4F8E-B481-17ED630CA26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D0B-BF04-43E4-B517-5F3A889C286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CB5C-0529-4A94-A8D1-85809FAD2D9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C5CB-21C3-4C5B-AC49-1ADA522D8E2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434F-A7E7-4648-A36E-B66C79431DC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094F-717D-4932-B55E-907E40DDB38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F40-98BB-40E9-8E30-73D380F1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642-D20D-47B3-804A-CC960994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F01-9E39-4037-A78E-6905D974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4C0-EE3D-4D7C-9EB6-A1CF1E52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B356-6192-4D03-BB7C-842629E9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24A4-DDCD-4B70-BB74-8C7A9195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4105-5578-4A3F-85D3-F3D16EEF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8798-D0FF-4C68-826F-CAD5DD82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181E-2640-4FDD-808B-DC484E6B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5C22-3085-4D3B-A1C8-6E94B917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07B1-BB75-4F23-B626-C18A2092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E30-CA7C-4EFC-8F55-7A47C6E0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4E13-96A2-4735-B568-C1B14FB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54FC-6C29-4FFA-B14F-0AAE6226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E706-5FA9-445F-BB51-F7D53634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8AA1-B67B-4092-B094-D48F82E6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3AAE-3E54-40CE-BADE-47DA474F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48A-0907-47E9-BA9B-F19639D1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0FA-C79E-4FD0-8205-C937D63D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B9A-2E5D-498A-957F-D7DE62ED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D3F-D8AB-4B32-A361-A84463C7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B0F-8FCC-4481-B7DB-1EF46B87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A46-406A-444A-B044-1CF74822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90C-4EF5-4843-90AC-13D73D4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5DD6-DEE8-41F6-8536-16C43E79DE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FC19-50BC-4CE3-A6E7-9B7CAD649C9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Process Essa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Le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ucture of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244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troducti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oduce your topic in an interesting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 your thesis state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ies the process and indicates why and under what circumstances it is perform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buckeyb"/>
          <p:cNvPicPr/>
          <p:nvPr/>
        </p:nvPicPr>
        <p:blipFill>
          <a:blip r:embed="rId1"/>
          <a:stretch/>
        </p:blipFill>
        <p:spPr>
          <a:xfrm>
            <a:off x="2209680" y="0"/>
            <a:ext cx="914400" cy="893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ome"/>
          <p:cNvPicPr/>
          <p:nvPr/>
        </p:nvPicPr>
        <p:blipFill>
          <a:blip r:embed="rId2"/>
          <a:stretch/>
        </p:blipFill>
        <p:spPr>
          <a:xfrm>
            <a:off x="4800600" y="4724280"/>
            <a:ext cx="15289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453520" cy="141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6707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ffa3"/>
                </a:solidFill>
                <a:latin typeface="Arial"/>
              </a:rPr>
              <a:t>Body of ess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major stage of the process in each body paragrap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stage may involve several step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r body should be like th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pic sentence (Main ide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upporting details (Examples, fact, statistic, short stor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losing remark (The function of this ste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5" descr="dipsea-steps"/>
          <p:cNvPicPr/>
          <p:nvPr/>
        </p:nvPicPr>
        <p:blipFill>
          <a:blip r:embed="rId1"/>
          <a:stretch/>
        </p:blipFill>
        <p:spPr>
          <a:xfrm>
            <a:off x="7162920" y="2438280"/>
            <a:ext cx="1746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, cont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al 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ow the result of the proces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iefly summarize your major st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inforce  and restate the thesis state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interesting, humorous, or inspiring closing remark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17748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vising Checklist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rocess Ess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assignment call for a set of instructions or a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writing style clearly and consistently indicate whether you are writing a set of instructions or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essay have a clearly stated thesis that identifies the process and perhaps tells why it is (or was) perform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reminders and cautio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step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the steps presented in strict chronological order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 transitions clearly indicate where one step ends and the next begi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mmar in contex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void unnecessary shifts in verb tense, voice and mood, and in pronoun pers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Tense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Voice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Mood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Pronoun Person explanation and exerc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380880" y="533520"/>
            <a:ext cx="845820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Assignment (1 pt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Due next lec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process essay (No less than 400 word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ssible topic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lose weight without losing your min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a particular accident occurr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end a relationship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avoid a nervous breakdown during exa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kick a bad hab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 Class Process Writing Exerci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9" descr="catolantern1"/>
          <p:cNvPicPr/>
          <p:nvPr/>
        </p:nvPicPr>
        <p:blipFill>
          <a:blip r:embed="rId1"/>
          <a:stretch/>
        </p:blipFill>
        <p:spPr>
          <a:xfrm>
            <a:off x="5105520" y="1371600"/>
            <a:ext cx="3595680" cy="44974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1"/>
          <p:cNvSpPr/>
          <p:nvPr/>
        </p:nvSpPr>
        <p:spPr>
          <a:xfrm>
            <a:off x="380880" y="1828800"/>
            <a:ext cx="38862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ook at the photograph to the right. How is this jack-o’-lantern different from the pumpkin from which it was carve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ist the steps involved in the process of carving a pumpkin into a jack-o’-lantern. Where dies the process begin?  Where does it en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cautions and reminders might be helpful to someone who has never made a jack-o’-lantern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Picture 13" descr="pumpkins"/>
          <p:cNvPicPr/>
          <p:nvPr/>
        </p:nvPicPr>
        <p:blipFill>
          <a:blip r:embed="rId2"/>
          <a:stretch/>
        </p:blipFill>
        <p:spPr>
          <a:xfrm>
            <a:off x="1447920" y="5334120"/>
            <a:ext cx="15573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urnal En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62156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set of instructions for someone who has never made a jack-o’-lantern.  Using commands and present tense, explain each step in the order in which it occurs, including all necessary cautions and reminde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Picture 4" descr="pumpkins"/>
          <p:cNvPicPr/>
          <p:nvPr/>
        </p:nvPicPr>
        <p:blipFill>
          <a:blip r:embed="rId1"/>
          <a:stretch/>
        </p:blipFill>
        <p:spPr>
          <a:xfrm>
            <a:off x="457200" y="4343400"/>
            <a:ext cx="2819520" cy="2030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atolantern1"/>
          <p:cNvPicPr/>
          <p:nvPr/>
        </p:nvPicPr>
        <p:blipFill>
          <a:blip r:embed="rId2"/>
          <a:stretch/>
        </p:blipFill>
        <p:spPr>
          <a:xfrm>
            <a:off x="6600960" y="3886200"/>
            <a:ext cx="2071440" cy="259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46027-demonstrating-jack-o-lantern-making-shanghai-china"/>
          <p:cNvPicPr/>
          <p:nvPr/>
        </p:nvPicPr>
        <p:blipFill>
          <a:blip r:embed="rId3"/>
          <a:stretch/>
        </p:blipFill>
        <p:spPr>
          <a:xfrm>
            <a:off x="3962520" y="3962520"/>
            <a:ext cx="1931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 proces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explains how to do something or how something occu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obvious example of process writing is a reci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7" descr="MCj02334390000[1]"/>
          <p:cNvPicPr/>
          <p:nvPr/>
        </p:nvPicPr>
        <p:blipFill>
          <a:blip r:embed="rId1"/>
          <a:stretch/>
        </p:blipFill>
        <p:spPr>
          <a:xfrm>
            <a:off x="5557680" y="2473200"/>
            <a:ext cx="22100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racteristics of Process Writ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1547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ict chronological or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f the steps described are repeated, the same outcome should always be achiev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xed ord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arity extremely importa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itions essent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Picture 8" descr="hour%20glass"/>
          <p:cNvPicPr/>
          <p:nvPr/>
        </p:nvPicPr>
        <p:blipFill>
          <a:blip r:embed="rId1"/>
          <a:stretch/>
        </p:blipFill>
        <p:spPr>
          <a:xfrm>
            <a:off x="1600200" y="4267080"/>
            <a:ext cx="1579680" cy="2173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645080" y="1598760"/>
            <a:ext cx="40370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wo Types of Process Writ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333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rectional (Gives Instructions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ables readers to perform a process. Describes how to do someth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recipe, a handout, an operating manual are examples of instruction wri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imperative mo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bject of sentences is “you” understood; speak directly to read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6" descr="0452279232"/>
          <p:cNvPicPr/>
          <p:nvPr/>
        </p:nvPicPr>
        <p:blipFill>
          <a:blip r:embed="rId1"/>
          <a:stretch/>
        </p:blipFill>
        <p:spPr>
          <a:xfrm>
            <a:off x="6024600" y="1598760"/>
            <a:ext cx="21445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Process Explan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rpose is to help reader understand how a process is carried out i.e. explains how something happen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either 1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erson or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erson; not second person or imperative mo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y be in present or past tense, depending on whether the writer is explaining a process that takes place regularly or one that occurred in the past, and on whether the writer or someone else carried out the proc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process"/>
          <p:cNvPicPr/>
          <p:nvPr/>
        </p:nvPicPr>
        <p:blipFill>
          <a:blip r:embed="rId1"/>
          <a:stretch/>
        </p:blipFill>
        <p:spPr>
          <a:xfrm>
            <a:off x="304812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5760" y="303120"/>
          <a:ext cx="8226360" cy="5586480"/>
        </p:xfrm>
        <a:graphic>
          <a:graphicData uri="http://schemas.openxmlformats.org/drawingml/2006/table">
            <a:tbl>
              <a:tblPr/>
              <a:tblGrid>
                <a:gridCol w="1523880"/>
                <a:gridCol w="3274920"/>
                <a:gridCol w="342756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 the chemicals in the tray, I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habitual process performed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photographers place the chemicals in the tray, they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abitual process performed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d the chemicals in the tray, I turned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cess performed in the past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the photographer placed the chemicals in the tray, she turned out the lights in the darkroom.”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process performed in the past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Process Wri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769752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llege writing for science, literature, history, or any other su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process writing to persuade or to infor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should have a clear thesis statement that identifie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ocess and tells why it is perform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5" descr="underwood"/>
          <p:cNvPicPr/>
          <p:nvPr/>
        </p:nvPicPr>
        <p:blipFill>
          <a:blip r:embed="rId1"/>
          <a:stretch/>
        </p:blipFill>
        <p:spPr>
          <a:xfrm>
            <a:off x="5715000" y="4191120"/>
            <a:ext cx="2438280" cy="202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hv_persuasion"/>
          <p:cNvPicPr/>
          <p:nvPr/>
        </p:nvPicPr>
        <p:blipFill>
          <a:blip r:embed="rId2"/>
          <a:stretch/>
        </p:blipFill>
        <p:spPr>
          <a:xfrm>
            <a:off x="1066680" y="4572000"/>
            <a:ext cx="2152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ning a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503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eep reader’s needs in min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ain reasons for performing step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unfamiliar materials or equipmen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e terms Avoid ambigui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rn readers of possible problems they may encoun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oid unnecessary shifts in tense, person, voice and moo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5" descr="reader"/>
          <p:cNvPicPr/>
          <p:nvPr/>
        </p:nvPicPr>
        <p:blipFill>
          <a:blip r:embed="rId1"/>
          <a:stretch/>
        </p:blipFill>
        <p:spPr>
          <a:xfrm>
            <a:off x="5410080" y="15238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trans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ck list of transitions our bookl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cifically useful are such transitions as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irst, second, meanwhile, after this, next, then, at the same time, when you have finished, and fina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ransitions to establish sequential and chronological relationships between steps in proc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21:34:55Z</dcterms:created>
  <dc:creator>Steven Federle</dc:creator>
  <dc:description/>
  <dc:language>en-US</dc:language>
  <cp:lastModifiedBy>user</cp:lastModifiedBy>
  <dcterms:modified xsi:type="dcterms:W3CDTF">2012-09-25T12:49:33Z</dcterms:modified>
  <cp:revision>16</cp:revision>
  <dc:subject/>
  <dc:title>The Process Essay</dc:title>
</cp:coreProperties>
</file>