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1FCB-B9F2-4414-9324-23295AB22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2686-C4FA-4D78-9504-5B5468B2BF1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3E5-B559-45C5-9EC6-48657E0A0EB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047C-8621-47C2-ABCD-8E924EC888E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1EA-9AF7-4E38-856F-54B82D09615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28C0-1987-45BB-8E2E-6ED21460FCC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9D5-953A-4132-8B36-03C203E59CD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DF25-C93B-46D4-9C59-9A81CB1837E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648-9033-4BFA-AA41-74E641ED2BA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0A4-8705-4298-9190-2D30A3D637F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093-71A6-4DC6-80CE-8B132D9A5DC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B532-5F34-4893-BAB9-4C28E2EED17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8C1F-9B17-4CD4-B35C-861FA6FE1A5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9205-FDC8-4427-98F2-BE799AAA132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5034-9C31-4928-8B83-DA35A1F5D08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F8F-4AA4-47FA-9DF9-8CE51352EB0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596C-DF0F-4B64-A65A-535B1DBF8EA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2BC-7DFC-49B9-AE7E-AAD51FC8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39E-0A66-4DC7-AE4E-3C8742B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91D-DB2B-4CC8-BA84-47993387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D38-D8F0-479E-8173-16F2550A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CDB6-EE7B-430B-9061-ACA27AA3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603-41D1-4563-BA32-409601CD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A675-BD70-442B-8D48-4C84E20C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5B24-A416-4706-9E6D-C015A85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ECB1-D7C7-4848-B557-62534CCA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AC29-429E-4C3A-98B7-3A47C545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9959-F8BC-456D-9230-9F96389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E19-9374-4ECF-9EBA-CFEA3161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8D09-B5BA-420E-8485-F44C960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855-11D8-4EFF-9BA3-3C59B3C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5FD9-321E-425C-8AFB-24299907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72B5-3FF8-441A-89A6-71BB93B9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50D6-8624-4B6E-B4F2-EF3A18B3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39C-6BFE-46A9-A995-B5C32AEC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D6D-BBF7-4243-8148-271E723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B8A-0E3D-416E-B61B-6635E37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C1E-66DA-4D90-876A-38B8F6BB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D22-8226-446A-BF1B-E7663B53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E4D-22B2-4A47-9A57-183193E2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3DD-A0F8-4C04-9753-98C2337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466B-64DE-4BB6-BEF6-8319F150B8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248E-57F2-4B0B-AA91-6F9D8A0CE45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rocess Ess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L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e your topic in an interesting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 your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ies the process and indicates why and under what circumstances it is perform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buckeyb"/>
          <p:cNvPicPr/>
          <p:nvPr/>
        </p:nvPicPr>
        <p:blipFill>
          <a:blip r:embed="rId1"/>
          <a:stretch/>
        </p:blipFill>
        <p:spPr>
          <a:xfrm>
            <a:off x="2209680" y="0"/>
            <a:ext cx="914400" cy="893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ome"/>
          <p:cNvPicPr/>
          <p:nvPr/>
        </p:nvPicPr>
        <p:blipFill>
          <a:blip r:embed="rId2"/>
          <a:stretch/>
        </p:blipFill>
        <p:spPr>
          <a:xfrm>
            <a:off x="4800600" y="4724280"/>
            <a:ext cx="15289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453520" cy="141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6707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ffa3"/>
                </a:solidFill>
                <a:latin typeface="Arial"/>
              </a:rPr>
              <a:t>Body of es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major stage of the process in each body paragrap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stage may involve several step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r body should be like th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pic sentence (Main ide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upporting details (Examples, fact, statistic, short stor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losing remark (The function of this ste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5" descr="dipsea-steps"/>
          <p:cNvPicPr/>
          <p:nvPr/>
        </p:nvPicPr>
        <p:blipFill>
          <a:blip r:embed="rId1"/>
          <a:stretch/>
        </p:blipFill>
        <p:spPr>
          <a:xfrm>
            <a:off x="7162920" y="2438280"/>
            <a:ext cx="174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al 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w the result of the proce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efly summarize your major s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inforce  and restate the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interesting, humorous, or inspiring closing remark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17748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vising Checklist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assignment call for a set of instructions or a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writing style clearly and consistently indicate whether you are writing a set of instructions or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essay have a clearly stated thesis that identifies the process and perhaps tells why it is (or was) perform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reminders and cautio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step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 steps presented in strict chronological ord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 transitions clearly indicate where one step ends and the next begi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mmar in con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void unnecessary shifts in verb tense, voice and mood, and in pronoun pers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Tens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Voic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Mood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Pronoun Person explanation and exerc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80880" y="53352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ssignment (1 p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Due next lec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process essay (No less than 400 word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sible topic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lose weight without losing your min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a particular accident occurr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end a relationship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avoid a nervous breakdown during exa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kick a bad hab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 Class Process Writing Exerci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9" descr="catolantern1"/>
          <p:cNvPicPr/>
          <p:nvPr/>
        </p:nvPicPr>
        <p:blipFill>
          <a:blip r:embed="rId1"/>
          <a:stretch/>
        </p:blipFill>
        <p:spPr>
          <a:xfrm>
            <a:off x="5105520" y="1371600"/>
            <a:ext cx="3595680" cy="4497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1"/>
          <p:cNvSpPr/>
          <p:nvPr/>
        </p:nvSpPr>
        <p:spPr>
          <a:xfrm>
            <a:off x="380880" y="1828800"/>
            <a:ext cx="38862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k at the photograph to the right. How is this jack-o’-lantern different from the pumpkin from which it was carve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st the steps involved in the process of carving a pumpkin into a jack-o’-lantern. Where dies the process begin?  Where does it en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cautions and reminders might be helpful to someone who has never made a jack-o’-lantern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13" descr="pumpkins"/>
          <p:cNvPicPr/>
          <p:nvPr/>
        </p:nvPicPr>
        <p:blipFill>
          <a:blip r:embed="rId2"/>
          <a:stretch/>
        </p:blipFill>
        <p:spPr>
          <a:xfrm>
            <a:off x="1447920" y="5334120"/>
            <a:ext cx="1557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urnal En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62156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et of instructions for someone who has never made a jack-o’-lantern.  Using commands and present tense, explain each step in the order in which it occurs, including all necessary cautions and remind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pumpkins"/>
          <p:cNvPicPr/>
          <p:nvPr/>
        </p:nvPicPr>
        <p:blipFill>
          <a:blip r:embed="rId1"/>
          <a:stretch/>
        </p:blipFill>
        <p:spPr>
          <a:xfrm>
            <a:off x="457200" y="43434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atolantern1"/>
          <p:cNvPicPr/>
          <p:nvPr/>
        </p:nvPicPr>
        <p:blipFill>
          <a:blip r:embed="rId2"/>
          <a:stretch/>
        </p:blipFill>
        <p:spPr>
          <a:xfrm>
            <a:off x="6600960" y="3886200"/>
            <a:ext cx="2071440" cy="259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46027-demonstrating-jack-o-lantern-making-shanghai-china"/>
          <p:cNvPicPr/>
          <p:nvPr/>
        </p:nvPicPr>
        <p:blipFill>
          <a:blip r:embed="rId3"/>
          <a:stretch/>
        </p:blipFill>
        <p:spPr>
          <a:xfrm>
            <a:off x="3962520" y="3962520"/>
            <a:ext cx="1931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proc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explains how to do something or how something occu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obvious example of process writing is a reci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7" descr="MCj02334390000[1]"/>
          <p:cNvPicPr/>
          <p:nvPr/>
        </p:nvPicPr>
        <p:blipFill>
          <a:blip r:embed="rId1"/>
          <a:stretch/>
        </p:blipFill>
        <p:spPr>
          <a:xfrm>
            <a:off x="5557680" y="2473200"/>
            <a:ext cx="22100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Process Wr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15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ict chronological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the steps described are repeated, the same outcome should always be achiev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xed ord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arity extremely importa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itions essent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Picture 8" descr="hour%20glass"/>
          <p:cNvPicPr/>
          <p:nvPr/>
        </p:nvPicPr>
        <p:blipFill>
          <a:blip r:embed="rId1"/>
          <a:stretch/>
        </p:blipFill>
        <p:spPr>
          <a:xfrm>
            <a:off x="1600200" y="4267080"/>
            <a:ext cx="1579680" cy="2173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64508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wo Types of Process Wri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333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ional (Gives Instructions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s readers to perform a process. Describes how to do somet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recipe, a handout, an operating manual are examples of instruction wri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bject of sentences is “you” understood; speak directly to read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6" descr="0452279232"/>
          <p:cNvPicPr/>
          <p:nvPr/>
        </p:nvPicPr>
        <p:blipFill>
          <a:blip r:embed="rId1"/>
          <a:stretch/>
        </p:blipFill>
        <p:spPr>
          <a:xfrm>
            <a:off x="6024600" y="1598760"/>
            <a:ext cx="214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Process Explan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rpose is to help reader understand how a process is carried out i.e. explains how something happen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ither 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 or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; not second person or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y be in present or past tense, depending on whether the writer is explaining a process that takes place regularly or one that occurred in the past, and on whether the writer or someone else carried out the proc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process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5760" y="303120"/>
          <a:ext cx="8226360" cy="5586480"/>
        </p:xfrm>
        <a:graphic>
          <a:graphicData uri="http://schemas.openxmlformats.org/drawingml/2006/table">
            <a:tbl>
              <a:tblPr/>
              <a:tblGrid>
                <a:gridCol w="1523880"/>
                <a:gridCol w="3274920"/>
                <a:gridCol w="34275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 the chemicals in the tray, I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habitual process performed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photographers place the chemicals in the tray, they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abitual process performed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d the chemicals in the tray, I turned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ess performed in the past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the photographer placed the chemicals in the tray, she turned out the lights in the darkroom.”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process performed in the past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Process Wr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69752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 writing for science, literature, history, or any other su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process writing to persuade or to infor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should have a clear thesis statement that identifi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cess and tells why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5" descr="underwood"/>
          <p:cNvPicPr/>
          <p:nvPr/>
        </p:nvPicPr>
        <p:blipFill>
          <a:blip r:embed="rId1"/>
          <a:stretch/>
        </p:blipFill>
        <p:spPr>
          <a:xfrm>
            <a:off x="5715000" y="4191120"/>
            <a:ext cx="2438280" cy="202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hv_persuasion"/>
          <p:cNvPicPr/>
          <p:nvPr/>
        </p:nvPicPr>
        <p:blipFill>
          <a:blip r:embed="rId2"/>
          <a:stretch/>
        </p:blipFill>
        <p:spPr>
          <a:xfrm>
            <a:off x="1066680" y="4572000"/>
            <a:ext cx="2152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ing a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503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ep reader’s needs in min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ain reasons for performing step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unfamiliar materials or equipmen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e terms Avoid ambigui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rn readers of possible problems they may encoun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oid unnecessary shifts in tense, person, voice and moo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5" descr="reader"/>
          <p:cNvPicPr/>
          <p:nvPr/>
        </p:nvPicPr>
        <p:blipFill>
          <a:blip r:embed="rId1"/>
          <a:stretch/>
        </p:blipFill>
        <p:spPr>
          <a:xfrm>
            <a:off x="5410080" y="15238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trans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list of transitions our bookl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ally useful are such transitions as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irst, second, meanwhile, after this, next, then, at the same time, when you have finished, and fi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ransitions to establish sequential and chronological relationships between steps in pro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34:55Z</dcterms:created>
  <dc:creator>Steven Federle</dc:creator>
  <dc:description/>
  <dc:language>en-US</dc:language>
  <cp:lastModifiedBy>user</cp:lastModifiedBy>
  <dcterms:modified xsi:type="dcterms:W3CDTF">2012-09-25T12:49:33Z</dcterms:modified>
  <cp:revision>16</cp:revision>
  <dc:subject/>
  <dc:title>The Process Essay</dc:title>
</cp:coreProperties>
</file>