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5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B421-7120-4341-BE2D-CF67C068B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CAE0-A0C8-4D58-BFE8-8AB05FD46BC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7E25-1799-4E85-90E9-753F1736860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BC08-8616-40D6-AF27-2CE12C180F6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33F2-3069-452E-8A25-04A3CAB8B67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74AA-404A-40E2-A945-060DE16366A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3E99-C8F2-44C9-9B8F-FAB02D348E6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F378-B8E9-4440-8218-0CA071F5343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F66E-FCDA-4090-A031-E201CFD5F79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12BB-C571-450B-9C9A-26A99EF5CAF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753D-8CC2-4A53-935D-60E4F64477E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0560-2DB2-4E1D-8616-EEFDFB92D62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D56A-7C8D-4BA3-815B-65CC46D19D7A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CEBA-D43B-450D-A30A-C022F47B48E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DC91-B14E-4EE0-BC73-9D408BDBF1B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EEF2-FBB3-4ACD-93E4-52549096534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4D2C-552E-464A-B452-EAB5B1A6804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CB3-2DE0-4675-A8AC-16ACD2D0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6B3-275F-407B-BA47-29435C01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57A-1398-4A90-ADF4-876446B6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E53-60F1-4AC0-B191-D6465A49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EEC8-FBA5-4242-8ECD-BF606DCF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6B49-13A5-4C48-8FBA-8BE88412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5DDE-C4E5-45EB-BD4C-01773A14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AEA2-ADCD-485C-B23A-77D1D582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A01A-4EF4-47D5-8AD4-A4DF66A0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D611-1C30-4BDE-A42E-AC80C434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BF27-725A-4D57-B861-CB9E642E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638-C9E5-4DD7-8051-EDC84780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8FA4-7C0D-4944-B683-A9F07FEF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D79A-535C-4A27-ACC3-90154FED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445D-D7EE-4D8E-B7FF-5C7979CD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06AA-E178-4FEA-AE76-1FEBC984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C4B4-D37F-40AA-95CB-46F87875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273-D487-4AC1-A1D8-00120507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C2A-2FF4-4FED-BB87-2D69D646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FAD-CE67-476F-B5F7-424FBAAA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DA9-27B1-4393-A129-A744E156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B2B-A11C-436A-842D-2DBC5653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E92-703F-4761-AE72-71D95151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E5E-6B46-4DDE-8386-2B67A5E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35C1-1B43-40A9-BEC5-EC64C4DA80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5875-CCEF-4DDA-8372-0574E0E2744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Process Essa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Le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ructure of Process Ess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0244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troducti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troduce your topic in an interesting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 your thesis state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ies the process and indicates why and under what circumstances it is perform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5" descr="buckeyb"/>
          <p:cNvPicPr/>
          <p:nvPr/>
        </p:nvPicPr>
        <p:blipFill>
          <a:blip r:embed="rId1"/>
          <a:stretch/>
        </p:blipFill>
        <p:spPr>
          <a:xfrm>
            <a:off x="2209680" y="0"/>
            <a:ext cx="914400" cy="893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home"/>
          <p:cNvPicPr/>
          <p:nvPr/>
        </p:nvPicPr>
        <p:blipFill>
          <a:blip r:embed="rId2"/>
          <a:stretch/>
        </p:blipFill>
        <p:spPr>
          <a:xfrm>
            <a:off x="4800600" y="4724280"/>
            <a:ext cx="152892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453520" cy="141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ructure of Process Essa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6707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ffa3"/>
                </a:solidFill>
                <a:latin typeface="Arial"/>
              </a:rPr>
              <a:t>Body of ess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major stage of the process in each body paragrap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stage may involve several step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r body should be like th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pic sentence (Main ide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upporting details (Examples, fact, statistic, short stor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losing remark (The function of this ste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5" descr="dipsea-steps"/>
          <p:cNvPicPr/>
          <p:nvPr/>
        </p:nvPicPr>
        <p:blipFill>
          <a:blip r:embed="rId1"/>
          <a:stretch/>
        </p:blipFill>
        <p:spPr>
          <a:xfrm>
            <a:off x="7162920" y="2438280"/>
            <a:ext cx="1746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ructure of Process Essay, cont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mal 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ow the result of the proces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riefly summarize your major stag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inforce  and restate the thesis state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interesting, humorous, or inspiring closing remark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17748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vising Checklist fo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Process Essa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assignment call for a set of instructions or a process explanatio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writing style clearly and consistently indicate whether you are writing a set of instructions or process explanatio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essay have a clearly stated thesis that identifies the process and perhaps tells why it is (or was) performed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ve you included all necessary reminders and caution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ve you included all necessary step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e the steps presented in strict chronological order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 transitions clearly indicate where one step ends and the next begin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mmar in contex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void unnecessary shifts in verb tense, voice and mood, and in pronoun pers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 to Verb Tense explanation and exerci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 to Verb Voice explanation and exerci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 to Verb Mood explanation and exerci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 to Pronoun Person explanation and exerc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380880" y="533520"/>
            <a:ext cx="845820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Assignment (1 pt.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Due next lectu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 a process essay (No less than 400 words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ssible topic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to lose weight without losing your min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a particular accident occurre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to end a relationship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to avoid a nervous breakdown during exam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to kick a bad hab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 Class Process Writing Exerci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Picture 9" descr="catolantern1"/>
          <p:cNvPicPr/>
          <p:nvPr/>
        </p:nvPicPr>
        <p:blipFill>
          <a:blip r:embed="rId1"/>
          <a:stretch/>
        </p:blipFill>
        <p:spPr>
          <a:xfrm>
            <a:off x="5105520" y="1371600"/>
            <a:ext cx="3595680" cy="44974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1"/>
          <p:cNvSpPr/>
          <p:nvPr/>
        </p:nvSpPr>
        <p:spPr>
          <a:xfrm>
            <a:off x="380880" y="1828800"/>
            <a:ext cx="38862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ook at the photograph to the right. How is this jack-o’-lantern different from the pumpkin from which it was carved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ist the steps involved in the process of carving a pumpkin into a jack-o’-lantern. Where dies the process begin?  Where does it end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cautions and reminders might be helpful to someone who has never made a jack-o’-lantern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Picture 13" descr="pumpkins"/>
          <p:cNvPicPr/>
          <p:nvPr/>
        </p:nvPicPr>
        <p:blipFill>
          <a:blip r:embed="rId2"/>
          <a:stretch/>
        </p:blipFill>
        <p:spPr>
          <a:xfrm>
            <a:off x="1447920" y="5334120"/>
            <a:ext cx="15573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urnal En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762156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 a set of instructions for someone who has never made a jack-o’-lantern.  Using commands and present tense, explain each step in the order in which it occurs, including all necessary cautions and reminde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5" name="Picture 4" descr="pumpkins"/>
          <p:cNvPicPr/>
          <p:nvPr/>
        </p:nvPicPr>
        <p:blipFill>
          <a:blip r:embed="rId1"/>
          <a:stretch/>
        </p:blipFill>
        <p:spPr>
          <a:xfrm>
            <a:off x="457200" y="4343400"/>
            <a:ext cx="2819520" cy="2030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catolantern1"/>
          <p:cNvPicPr/>
          <p:nvPr/>
        </p:nvPicPr>
        <p:blipFill>
          <a:blip r:embed="rId2"/>
          <a:stretch/>
        </p:blipFill>
        <p:spPr>
          <a:xfrm>
            <a:off x="6600960" y="3886200"/>
            <a:ext cx="2071440" cy="2590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46027-demonstrating-jack-o-lantern-making-shanghai-china"/>
          <p:cNvPicPr/>
          <p:nvPr/>
        </p:nvPicPr>
        <p:blipFill>
          <a:blip r:embed="rId3"/>
          <a:stretch/>
        </p:blipFill>
        <p:spPr>
          <a:xfrm>
            <a:off x="3962520" y="3962520"/>
            <a:ext cx="1931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 proces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process essay explains how to do something or how something occu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obvious example of process writing is a reci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7" descr="MCj02334390000[1]"/>
          <p:cNvPicPr/>
          <p:nvPr/>
        </p:nvPicPr>
        <p:blipFill>
          <a:blip r:embed="rId1"/>
          <a:stretch/>
        </p:blipFill>
        <p:spPr>
          <a:xfrm>
            <a:off x="5557680" y="2473200"/>
            <a:ext cx="221004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haracteristics of Process Writ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1547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rict chronological or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f the steps described are repeated, the same outcome should always be achiev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xed ord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arity extremely importa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nsitions essent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Picture 8" descr="hour%20glass"/>
          <p:cNvPicPr/>
          <p:nvPr/>
        </p:nvPicPr>
        <p:blipFill>
          <a:blip r:embed="rId1"/>
          <a:stretch/>
        </p:blipFill>
        <p:spPr>
          <a:xfrm>
            <a:off x="1600200" y="4267080"/>
            <a:ext cx="1579680" cy="2173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645080" y="1598760"/>
            <a:ext cx="403704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wo Types of Process Writ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53337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rectional (Gives Instructions)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0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ables readers to perform a process. Describes how to do someth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recipe, a handout, an operating manual are examples of instruction wri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imperative moo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bject of sentences is “you” understood; speak directly to read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6" descr="0452279232"/>
          <p:cNvPicPr/>
          <p:nvPr/>
        </p:nvPicPr>
        <p:blipFill>
          <a:blip r:embed="rId1"/>
          <a:stretch/>
        </p:blipFill>
        <p:spPr>
          <a:xfrm>
            <a:off x="6024600" y="1598760"/>
            <a:ext cx="214452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 Process Explan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rpose is to help reader understand how a process is carried out i.e. explains how something happen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either 1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erson or 3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erson; not second person or imperative moo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y be in present or past tense, depending on whether the writer is explaining a process that takes place regularly or one that occurred in the past, and on whether the writer or someone else carried out the proce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5" descr="process"/>
          <p:cNvPicPr/>
          <p:nvPr/>
        </p:nvPicPr>
        <p:blipFill>
          <a:blip r:embed="rId1"/>
          <a:stretch/>
        </p:blipFill>
        <p:spPr>
          <a:xfrm>
            <a:off x="3048120" y="4114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55760" y="303120"/>
          <a:ext cx="8226360" cy="5586480"/>
        </p:xfrm>
        <a:graphic>
          <a:graphicData uri="http://schemas.openxmlformats.org/drawingml/2006/table">
            <a:tbl>
              <a:tblPr/>
              <a:tblGrid>
                <a:gridCol w="1523880"/>
                <a:gridCol w="3274920"/>
                <a:gridCol w="342756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2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sent Ten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I place the chemicals in the tray, I turn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habitual process performed by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photographers place the chemicals in the tray, they turn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abitual process performed by someone other than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5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st Ten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I placed the chemicals in the tray, I turned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cess performed in the past by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the photographer placed the chemicals in the tray, she turned out the lights in the darkroom.”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process performed in the past by someone other than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ing Process Wri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7697520" cy="27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llege writing for science, literature, history, or any other su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process writing to persuade or to inform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process essay should have a clear thesis statement that identifie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rocess and tells why it is perform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5" descr="underwood"/>
          <p:cNvPicPr/>
          <p:nvPr/>
        </p:nvPicPr>
        <p:blipFill>
          <a:blip r:embed="rId1"/>
          <a:stretch/>
        </p:blipFill>
        <p:spPr>
          <a:xfrm>
            <a:off x="5715000" y="4191120"/>
            <a:ext cx="2438280" cy="202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hv_persuasion"/>
          <p:cNvPicPr/>
          <p:nvPr/>
        </p:nvPicPr>
        <p:blipFill>
          <a:blip r:embed="rId2"/>
          <a:stretch/>
        </p:blipFill>
        <p:spPr>
          <a:xfrm>
            <a:off x="1066680" y="4572000"/>
            <a:ext cx="2152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ning a process ess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503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eep reader’s needs in min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ain reasons for performing step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unfamiliar materials or equipmen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e terms Avoid ambiguit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rn readers of possible problems they may encoun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void unnecessary shifts in tense, person, voice and mood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Picture 5" descr="reader"/>
          <p:cNvPicPr/>
          <p:nvPr/>
        </p:nvPicPr>
        <p:blipFill>
          <a:blip r:embed="rId1"/>
          <a:stretch/>
        </p:blipFill>
        <p:spPr>
          <a:xfrm>
            <a:off x="5410080" y="15238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ing trans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eck list of transitions our bookl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ecifically useful are such transitions as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irst, second, meanwhile, after this, next, then, at the same time, when you have finished, and fina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ransitions to establish sequential and chronological relationships between steps in proc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21:34:55Z</dcterms:created>
  <dc:creator>Steven Federle</dc:creator>
  <dc:description/>
  <dc:language>en-US</dc:language>
  <cp:lastModifiedBy>user</cp:lastModifiedBy>
  <dcterms:modified xsi:type="dcterms:W3CDTF">2012-09-25T12:49:33Z</dcterms:modified>
  <cp:revision>16</cp:revision>
  <dc:subject/>
  <dc:title>The Process Essay</dc:title>
</cp:coreProperties>
</file>