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5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36DE-B90C-49A3-95F0-F4232108E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05DF-E0B8-4919-BE3C-5D0F9A78EAA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FBFA-7FC8-4FB0-B412-3EE6177B5E7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F294-56FE-49F5-B29D-F8DBE48F311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C2AB-015B-405D-AD90-A929B04B6F9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8D4D-4BAB-49DC-A834-B24B353F6F7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E77E-B5A1-4C6E-B9CE-E1197CEF467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E503-43ED-4B8D-A35E-E3B4D786564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1F12-756D-4DC3-8DC0-4112B4C91915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AA5F-EF1B-4AB0-BA17-AB4B92AC6124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F818-2B33-4264-BAC5-24FFC4102EBA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587D-0DA1-416E-A440-5CE06E3EE4C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B362-C917-46BC-A480-3E518853D21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304E-9E1F-4552-85EC-8DCC7093A3E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D2C0-6A28-492A-83A6-38582DC64A0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FB09-A3F0-41C7-897D-EAEB327A8C8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D9B7-82F2-4261-9A64-591C969389B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6FC-6C98-4894-8FF9-B2B1FE1B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57C-08D5-4294-8943-52A7D8D3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785-CD25-48AC-A0FD-1231F574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620-8036-4539-A158-5BA6E52E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15A1-312A-456E-A78E-2679E158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4CB0-37D6-4AA1-9FB5-C6B8651E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AD12-6CF5-4F83-B44F-BD335A2F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81FA-27B0-418D-8DC2-E76A991B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514B-2279-418E-B749-6BC322ED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203F-8A47-48E6-A8BB-134DF9FA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4846-F426-4EF6-B86E-233A33FD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F82-FD13-44C6-8B5A-7C11995D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A610-3D4B-4765-8737-6500657E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8DE6-C467-45DA-BC2E-7F6EBFFA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F978-4127-4006-A7BD-04F6CA55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743A-E335-49BB-A22A-7120650C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DA44-D31F-4063-9DD7-4BDA212A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932-F4C5-403E-8426-463A0A90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B4A-2091-4CDF-9887-63A8B73F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FF1-61B3-449D-8C77-FDC23C00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008-7FF7-4824-B8BA-1A4D9569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B7A-8ABA-406F-AF25-4196C5F9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49A-B890-4BD3-8BF8-4D9FCA0A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DE3-F94D-4E66-B04E-EFE1E2C7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EA04-5AF8-4E07-92AC-038A13FF42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8152-1673-4D87-BD81-3F7E59B5BA0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Process Essa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Le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ructure of Process Ess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0244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Introducti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troduce your topic in an interesting w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 your thesis state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ies the process and indicates why and under what circumstances it is perform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5" descr="buckeyb"/>
          <p:cNvPicPr/>
          <p:nvPr/>
        </p:nvPicPr>
        <p:blipFill>
          <a:blip r:embed="rId1"/>
          <a:stretch/>
        </p:blipFill>
        <p:spPr>
          <a:xfrm>
            <a:off x="2209680" y="0"/>
            <a:ext cx="914400" cy="893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home"/>
          <p:cNvPicPr/>
          <p:nvPr/>
        </p:nvPicPr>
        <p:blipFill>
          <a:blip r:embed="rId2"/>
          <a:stretch/>
        </p:blipFill>
        <p:spPr>
          <a:xfrm>
            <a:off x="4800600" y="4724280"/>
            <a:ext cx="152892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453520" cy="141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ructure of Process Essa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6707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ffa3"/>
                </a:solidFill>
                <a:latin typeface="Arial"/>
              </a:rPr>
              <a:t>Body of ess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major stage of the process in each body paragrap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stage may involve several step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r body should be like th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pic sentence (Main ide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upporting details (Examples, fact, statistic, short stor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losing remark (The function of this ste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5" descr="dipsea-steps"/>
          <p:cNvPicPr/>
          <p:nvPr/>
        </p:nvPicPr>
        <p:blipFill>
          <a:blip r:embed="rId1"/>
          <a:stretch/>
        </p:blipFill>
        <p:spPr>
          <a:xfrm>
            <a:off x="7162920" y="2438280"/>
            <a:ext cx="1746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ructure of Process Essay, cont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mal 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ow the result of the proces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riefly summarize your major stag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inforce  and restate the thesis state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interesting, humorous, or inspiring closing remark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17748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vising Checklist fo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Process Essa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assignment call for a set of instructions or a process explanatio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writing style clearly and consistently indicate whether you are writing a set of instructions or process explanatio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essay have a clearly stated thesis that identifies the process and perhaps tells why it is (or was) performed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ve you included all necessary reminders and caution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ve you included all necessary step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e the steps presented in strict chronological order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 transitions clearly indicate where one step ends and the next begin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mmar in contex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void unnecessary shifts in verb tense, voice and mood, and in pronoun pers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 to Verb Tense explanation and exerci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 to Verb Voice explanation and exerci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 to Verb Mood explanation and exerci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 to Pronoun Person explanation and exerc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380880" y="533520"/>
            <a:ext cx="845820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Assignment (1 pt.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Due next lectu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 a process essay (No less than 400 words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ssible topic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to lose weight without losing your min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a particular accident occurre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to end a relationship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to avoid a nervous breakdown during exam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How to kick a bad hab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 Class Process Writing Exerci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Picture 9" descr="catolantern1"/>
          <p:cNvPicPr/>
          <p:nvPr/>
        </p:nvPicPr>
        <p:blipFill>
          <a:blip r:embed="rId1"/>
          <a:stretch/>
        </p:blipFill>
        <p:spPr>
          <a:xfrm>
            <a:off x="5105520" y="1371600"/>
            <a:ext cx="3595680" cy="44974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1"/>
          <p:cNvSpPr/>
          <p:nvPr/>
        </p:nvSpPr>
        <p:spPr>
          <a:xfrm>
            <a:off x="380880" y="1828800"/>
            <a:ext cx="38862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ook at the photograph to the right. How is this jack-o’-lantern different from the pumpkin from which it was carved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ist the steps involved in the process of carving a pumpkin into a jack-o’-lantern. Where dies the process begin?  Where does it end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cautions and reminders might be helpful to someone who has never made a jack-o’-lantern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Picture 13" descr="pumpkins"/>
          <p:cNvPicPr/>
          <p:nvPr/>
        </p:nvPicPr>
        <p:blipFill>
          <a:blip r:embed="rId2"/>
          <a:stretch/>
        </p:blipFill>
        <p:spPr>
          <a:xfrm>
            <a:off x="1447920" y="5334120"/>
            <a:ext cx="15573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urnal En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762156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 a set of instructions for someone who has never made a jack-o’-lantern.  Using commands and present tense, explain each step in the order in which it occurs, including all necessary cautions and reminde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5" name="Picture 4" descr="pumpkins"/>
          <p:cNvPicPr/>
          <p:nvPr/>
        </p:nvPicPr>
        <p:blipFill>
          <a:blip r:embed="rId1"/>
          <a:stretch/>
        </p:blipFill>
        <p:spPr>
          <a:xfrm>
            <a:off x="457200" y="4343400"/>
            <a:ext cx="2819520" cy="2030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catolantern1"/>
          <p:cNvPicPr/>
          <p:nvPr/>
        </p:nvPicPr>
        <p:blipFill>
          <a:blip r:embed="rId2"/>
          <a:stretch/>
        </p:blipFill>
        <p:spPr>
          <a:xfrm>
            <a:off x="6600960" y="3886200"/>
            <a:ext cx="2071440" cy="2590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46027-demonstrating-jack-o-lantern-making-shanghai-china"/>
          <p:cNvPicPr/>
          <p:nvPr/>
        </p:nvPicPr>
        <p:blipFill>
          <a:blip r:embed="rId3"/>
          <a:stretch/>
        </p:blipFill>
        <p:spPr>
          <a:xfrm>
            <a:off x="3962520" y="3962520"/>
            <a:ext cx="1931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 proces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process essay explains how to do something or how something occu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obvious example of process writing is a reci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7" descr="MCj02334390000[1]"/>
          <p:cNvPicPr/>
          <p:nvPr/>
        </p:nvPicPr>
        <p:blipFill>
          <a:blip r:embed="rId1"/>
          <a:stretch/>
        </p:blipFill>
        <p:spPr>
          <a:xfrm>
            <a:off x="5557680" y="2473200"/>
            <a:ext cx="221004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haracteristics of Process Writ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1547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rict chronological or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f the steps described are repeated, the same outcome should always be achiev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xed ord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arity extremely importa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nsitions essent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Picture 8" descr="hour%20glass"/>
          <p:cNvPicPr/>
          <p:nvPr/>
        </p:nvPicPr>
        <p:blipFill>
          <a:blip r:embed="rId1"/>
          <a:stretch/>
        </p:blipFill>
        <p:spPr>
          <a:xfrm>
            <a:off x="1600200" y="4267080"/>
            <a:ext cx="1579680" cy="2173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645080" y="1598760"/>
            <a:ext cx="403704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wo Types of Process Writ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53337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rectional (Gives Instructions)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0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ables readers to perform a process. Describes how to do someth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recipe, a handout, an operating manual are examples of instruction wri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imperative moo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16520" indent="-43884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bject of sentences is “you” understood; speak directly to read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6" descr="0452279232"/>
          <p:cNvPicPr/>
          <p:nvPr/>
        </p:nvPicPr>
        <p:blipFill>
          <a:blip r:embed="rId1"/>
          <a:stretch/>
        </p:blipFill>
        <p:spPr>
          <a:xfrm>
            <a:off x="6024600" y="1598760"/>
            <a:ext cx="214452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 Process Explan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rpose is to help reader understand how a process is carried out i.e. explains how something happen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either 1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erson or 3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erson; not second person or imperative moo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y be in present or past tense, depending on whether the writer is explaining a process that takes place regularly or one that occurred in the past, and on whether the writer or someone else carried out the proce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5" descr="process"/>
          <p:cNvPicPr/>
          <p:nvPr/>
        </p:nvPicPr>
        <p:blipFill>
          <a:blip r:embed="rId1"/>
          <a:stretch/>
        </p:blipFill>
        <p:spPr>
          <a:xfrm>
            <a:off x="3048120" y="4114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55760" y="303120"/>
          <a:ext cx="8226360" cy="5586480"/>
        </p:xfrm>
        <a:graphic>
          <a:graphicData uri="http://schemas.openxmlformats.org/drawingml/2006/table">
            <a:tbl>
              <a:tblPr/>
              <a:tblGrid>
                <a:gridCol w="1523880"/>
                <a:gridCol w="3274920"/>
                <a:gridCol w="342756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2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sent Ten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I place the chemicals in the tray, I turn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habitual process performed by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photographers place the chemicals in the tray, they turn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abitual process performed by someone other than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5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st Ten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I placed the chemicals in the tray, I turned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cess performed in the past by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the photographer placed the chemicals in the tray, she turned out the lights in the darkroom.”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process performed in the past by someone other than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ing Process Wri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7697520" cy="27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llege writing for science, literature, history, or any other su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process writing to persuade or to inform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process essay should have a clear thesis statement that identifie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rocess and tells why it is perform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5" descr="underwood"/>
          <p:cNvPicPr/>
          <p:nvPr/>
        </p:nvPicPr>
        <p:blipFill>
          <a:blip r:embed="rId1"/>
          <a:stretch/>
        </p:blipFill>
        <p:spPr>
          <a:xfrm>
            <a:off x="5715000" y="4191120"/>
            <a:ext cx="2438280" cy="2023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hv_persuasion"/>
          <p:cNvPicPr/>
          <p:nvPr/>
        </p:nvPicPr>
        <p:blipFill>
          <a:blip r:embed="rId2"/>
          <a:stretch/>
        </p:blipFill>
        <p:spPr>
          <a:xfrm>
            <a:off x="1066680" y="4572000"/>
            <a:ext cx="2152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ning a process ess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503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eep reader’s needs in min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ain reasons for performing step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unfamiliar materials or equipmen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e terms Avoid ambiguit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rn readers of possible problems they may encoun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void unnecessary shifts in tense, person, voice and mood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Picture 5" descr="reader"/>
          <p:cNvPicPr/>
          <p:nvPr/>
        </p:nvPicPr>
        <p:blipFill>
          <a:blip r:embed="rId1"/>
          <a:stretch/>
        </p:blipFill>
        <p:spPr>
          <a:xfrm>
            <a:off x="5410080" y="15238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ing trans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eck list of transitions our bookl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ecifically useful are such transitions as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irst, second, meanwhile, after this, next, then, at the same time, when you have finished, and fina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ransitions to establish sequential and chronological relationships between steps in proc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21:34:55Z</dcterms:created>
  <dc:creator>Steven Federle</dc:creator>
  <dc:description/>
  <dc:language>en-US</dc:language>
  <cp:lastModifiedBy>user</cp:lastModifiedBy>
  <dcterms:modified xsi:type="dcterms:W3CDTF">2012-09-25T12:49:33Z</dcterms:modified>
  <cp:revision>16</cp:revision>
  <dc:subject/>
  <dc:title>The Process Essay</dc:title>
</cp:coreProperties>
</file>