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77D-15C0-45CF-99DF-55FC3BE8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98B-197A-460E-B061-B00D312D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83A-B3AE-48C8-8B4C-93708ABC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0FC-08D1-44F1-A91A-C4F1B866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4D1-81D4-44F7-BE0B-FC337048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30D3-3079-4702-A576-B4967175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2BC-0AB3-45FF-8D26-A5BD5435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56C-AAFD-4950-BEE3-A0645F14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B67D-FC8E-412A-9770-C2510582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DDD-8E00-4209-82E6-22EF8C4D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3330-0001-45A9-97A5-49774F73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FA1-CEE6-48F7-9218-14279B94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7104-3FFB-4B67-8428-884F3332DE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le Of Pinn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capital Fra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r.Abdulrahman Algarni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6781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s currently the treatment of choice for displaced subcapital femoral neck fractures if the Pt is young,demented or if the fracture can be reduced anatomically and fixed in a timely and structurally stable manner in the elderly 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784692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polar endoprosthe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hip fractures:is it the b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26920" y="299736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ptimal choice:minimize mortality ,pain ,bleed,hospital stay, revision rate , cost and maximaize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uld i fix (IF) or replace the head (arthroplasty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hroplasty (uni-,bi-,or THR):lower revision rate while decreased OR time ,blood loss and mortality for 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arthroplasty should I u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2204640"/>
            <a:ext cx="7128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number of RCTcomparing impl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- Vs bi :no dif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- Vs THR : few trials, small s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- Vs THR : high surviorship for 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uld I cement the ste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26560" y="1628640"/>
            <a:ext cx="7201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. Hypotension related to arthroplasty has been described for both cemented and uncemented impl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view :parker et al, 4 R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mented :low risk of postop pain a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, low risk of failure to regain mo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other outcomes could be measur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review studies are of poor quality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study linked the risk of clinical complications to high preop PAP(&gt;30mm Hg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these new unipoalr impla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39640" y="206064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mparative study that measure clinical or economical out comes between new unipolar and the classic 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99640" y="1557360"/>
            <a:ext cx="7272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ain parameters such as revision rate would guide surgeon toward arthroplasty over 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information is available to guide surgeon to the best implant if arthroplasty is chosen and more trials are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afe use of cement is still debated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ing its use to patients who do not have history or signs of severe cardiorespiratory disease and who are well hydrated is recommend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1"/>
          <p:cNvSpPr/>
          <p:nvPr/>
        </p:nvSpPr>
        <p:spPr>
          <a:xfrm>
            <a:off x="609480" y="2362320"/>
            <a:ext cx="769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treatment modality :ease of surgery,cost,morbidity and mortality,risk of AVN,reoperation rate and functional di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1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5280" y="14479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pt : IF with 3 or 4 screws is accepted therapy.                        Capsulotomy does not seem to be clinically relevant. Expedient surgery : probably low AVN rate.Also,only 20% require further surg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ata suggest that urgent reduction and IF within 12 hrs may be associated with reduced rate of AV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re a place for IF in the elderly p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 , arthroplasty led to fewer treatment failure, better function but more complications.Mortality rates : did not diff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ne long F/U prospective cohorts study : both IF and HA results in poor outcome with respect to pain and mobility with 20% revision rate and no difference mortality or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19051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: fewer postop. Complication,shorter hospital stay,reduced cost and higher reop. rate. Other studies : higher reop.rate for IF but also higher than expected for arthroplas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90720" y="13716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s the optimal treatment for bedridden or demented Pt for pain relief.Dislocation rate is 32% with mental dysfunction for HA Vs 12% in mentally normal P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es young high demand Pt do better with I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tion status,ability to use crutches and bone quality. All prospective RCTs have not discuss efficacy of fracture reduction. Comminuted fractures are difficult to reduce and more prone to fail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22:03:35Z</dcterms:created>
  <dc:creator> </dc:creator>
  <dc:description/>
  <dc:language>en-US</dc:language>
  <cp:lastModifiedBy>dell</cp:lastModifiedBy>
  <dcterms:modified xsi:type="dcterms:W3CDTF">2009-03-06T15:48:51Z</dcterms:modified>
  <cp:revision>5</cp:revision>
  <dc:subject/>
  <dc:title>The Role Of Pinning In Subcapital Fractures</dc:title>
</cp:coreProperties>
</file>