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7D7-CC35-4393-A326-A31DFB8A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58C-1CA6-4DF8-B92F-AA2716A1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56F-A4EE-46AB-A3B1-FCF2A67D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572-9615-4ED4-885F-00858693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7FDA-239F-482D-A3D0-212FC71C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E3BB-D018-4C48-BE14-71850619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D61D-9816-4156-9D10-1879A829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F323-CB10-4183-A805-5A763DC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D11D-8862-42DC-B2B7-F5253046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CC06-5D65-425E-A7BF-E2109F61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46C9-AF20-4891-94C3-FCE8D29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1EF-DB3D-4770-9446-1C1F9081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847E-C23C-46FE-A4AC-03F0700E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8991-EFA3-4A19-AEF7-915E7271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BAEC-C136-4046-A1AE-5CE6F55B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B1D3-BD12-43BA-AEBA-D1F7D502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344A-C9AD-47C6-BD97-FBE9EA49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2D30-EDE0-48EB-90B0-EA4ECE28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AF34-81B2-446D-A1E3-027152F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CE24-07CF-4C13-9F75-4C9F42CC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D506-28C9-4214-AE1A-D828723E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321D-7F87-4AD2-82BF-D7BF8988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34A-6B87-4212-A872-B61A173E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B661-8BEE-4B62-8038-D232B396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8F84-44E8-451C-8C4B-27AFDB3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10D7-D0A6-47AA-8F17-D61D1701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E2D5F-45E3-45C7-9598-1FC609F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8055-9CFB-42A0-980A-5CBBBCB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450D-9D89-4A5C-A767-4ADA0E2A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65F4-6861-4D81-950C-86EE2FF5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A519-291E-4329-88EF-C684A3A4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F87D-960B-4183-B5FF-57A91A9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4C48-F423-43B7-932A-2C80844F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2AD-881E-4AFD-868D-2494C273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722F-0E9A-49B5-B7EA-61605E2C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0AF4-7029-4E78-8D99-6737044B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55B73-20E2-4448-936D-41829A41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6ECF-D4C1-4A23-B9A8-A3D04DE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F4C9-1DE7-485E-A07E-62ADDA9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EB6AF-A89E-4002-9058-BBED13B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16947-C55E-438F-A613-3AECC71A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C9FF-310E-4EEB-9124-464A5874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7D3A-EDB3-4BF9-AC37-9ABFC8CF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8A36F-8049-46E1-AC67-1184CA4C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022-DC95-48BB-8F52-D2563C09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5D948-3979-4250-9B34-9EA8E8A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4A09-F206-4495-A97C-69BC6EE4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212B-733A-4D6A-94B8-D231F2EE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74700-318E-461A-8E21-5DC2BD31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BAFBD-F5FA-441C-A9D2-1F31CCC7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0F63-1A85-4196-936C-8A5A293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03D7-AE53-4275-A892-0C551E4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6FA2E-32C2-4B9E-8875-F1054D7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23006-0920-4EC5-AA75-0A2790E1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49C75-01DF-4F7B-8545-F3BB2588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60E-FA5D-44F4-9151-12FFEFCE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A0AE-AB4E-474F-A662-ABAE84EC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1FC1-3933-4106-9C3C-0D95FCD1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8C8B2-9CA7-47EB-9213-985955A3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F9977-A0F6-45EB-BC9B-21D14969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D0195-31E6-4472-83D6-03A3B712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27B83-03C3-487E-8116-5B045962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CBC8C-C22D-4D15-948F-8D5CD747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4F91-8ECC-49A4-97D4-C41EE83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BC266-8445-4725-9CD9-FA72C3A3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BA7D4-2C9D-4E12-BF45-5DBEFFC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110-0A39-41FF-B637-9F0C7B7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D15ED-E52A-4205-80F1-352528AF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55DB-6420-4EEF-9256-9571FDE6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6C509-1AC3-417A-AEE9-D621ADAA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F3804-D291-443F-B70C-DB2EC6D4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AF9B-9B40-432E-A594-952370FB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29E0-0B41-4F32-B496-ECB9B1DE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E5E45-44EF-4433-B7CA-C62D25DF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357F3-75EE-4251-9CA7-19C1C55A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E894C-BE3E-4D5B-B131-DDE32F6F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B3FC0-3FC1-4253-A139-440BE951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3C8-7A16-48E4-85D3-FE125607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3D7D-0ECE-4D8B-A0FE-554D1DC4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830F9-4264-48FA-95B8-2FB82E38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B7BCE-3762-4C15-9977-99D92038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D38E9-2E8B-44E1-A45F-E0E496CE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BEC3-BB62-46EA-9607-98C3DE67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41D-1DD1-4943-B1D8-37F0A695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0BD8-F623-4F03-AF06-F75F5267A4E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778E-A5CA-4074-875B-1B1CBF38CF9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3787-F70F-4AE8-9E99-0BBE46B237A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7FC3-6F43-445C-92D5-68A6BD783F7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B58E-8033-4995-AC77-3A664F64892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8A26-EDAA-4393-837D-DE660F2C8EE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8C6A-E349-49F7-B0F7-EDC67922520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The Simple Past</a:t>
            </a: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ho or what is the subject of the sentence, the main verb is in the simple past tense, did is NOT use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argu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lo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s and I argued a lo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travelled with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did you travel with you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parents stayed in their new apart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r parents st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ra visited her friend yesterd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visited her friend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the simple past to talk about completed past events and activit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ud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rammar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living roo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all regular verbs, add an –ed ending in the past tense. This form is used for all subjects, both singular and plur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p late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garde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liste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the news after dinn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g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negative past verbs, 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imple form of the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roommat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ke that restaura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traction of did not i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ve in a dormitory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r famil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wn a computer until recentl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lling and pronunciatio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ge 136 –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ressions of past tim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ay before 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mor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afterno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eve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nigh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Monday/ Friday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. Page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imple past tense yes/no questions with main verbs other than be, inclu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n’t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week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father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 call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in verb is in the simple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’s no final –ed ending in the question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mother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oo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nigh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did                              No, she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a new apart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did                                  No, I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neighbor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house a few years ago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they did                        No, they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e past information questions have di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call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relativ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visi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mon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izza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wan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home-cooked mea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8:18Z</dcterms:created>
  <dc:creator>sony</dc:creator>
  <dc:description/>
  <dc:language>en-US</dc:language>
  <cp:lastModifiedBy>sony</cp:lastModifiedBy>
  <dcterms:modified xsi:type="dcterms:W3CDTF">2012-04-11T17:26:54Z</dcterms:modified>
  <cp:revision>12</cp:revision>
  <dc:subject/>
  <dc:title>The Simple Past</dc:title>
</cp:coreProperties>
</file>