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501-20F6-4C18-A20B-839B37E5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204-CAB8-4B7A-8533-2E095BC2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F36-8E89-423C-8614-66176A91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F10-4ABD-4DDC-9137-249B83F7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0A6-F3A7-4473-B5D9-B287CECE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0552-35AD-4DC0-AD9D-56E8DAA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397B-4A75-4587-BF4D-7B977AD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CFE3-8A97-4924-A58C-BE7D330B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1DFA-3CFE-459B-B1DF-23DD75B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0DC-1106-484F-B9E9-5E69E03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CB88-6D0E-4B5C-979B-AF17B86F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9C4-A6EA-42A8-895F-9B6EDD4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7D3-565F-440D-BBEA-E84261D6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4025-AAF8-4EF5-B23A-6895E6A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46AA-39D5-4B6B-B11F-BCB2753C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6387-7152-40D8-8DF7-5CBABB50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558-69E9-47D7-957F-63CA79B7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DD03-FDEF-40DE-AB2A-CB0E7DC9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30CA-EE0B-44A2-AA14-DF9F1F20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9FCB-8959-4C53-8AA7-33AA557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CD75-9F8C-4CF6-A30E-E3DFECD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EA53-6C8E-492E-8DCB-2FB76F1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7DE-5CDB-4AF1-905F-3DABD397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09A0-9BD3-4581-828D-82B1D066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0B75-A0DE-438B-A1CC-CA53575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B9CB-AE4B-4C4A-B769-FBF01F3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C53E-2C79-4E8F-83F9-E1312E7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401E-4F26-4FEF-8784-D2ADE539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414F-1A19-4CE0-A50D-048A60B6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61E7F-6498-4DE7-AFAE-F88814A9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27C3-4581-4D61-B2DE-62178D4F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71D0-5808-4E7A-990F-602AE71E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AFBC-F89B-46BB-847E-A079715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A3F-E337-4682-BE9D-7D39CA3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D409-77F2-4BD6-9539-A75BB59B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5C8B-3F34-49C5-802E-410D3170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0500-22AE-4F8F-8435-5B9F7B8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784B-C43E-4A80-ABA0-90C7B28B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E3CD7-406C-4FD3-AA68-D017A2F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6434-238F-48E6-B47B-EF7D3FC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3931-1A6D-43DF-8E6F-0826324D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48DE-DFB2-41EF-AB01-C22E837A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E7AB-4F60-4855-860B-82845C92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E12C-B946-4ECF-8DFE-C776E848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8C0-AA42-4702-968F-BB8E61B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D636-A457-4269-9DA4-50E9861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C808-E04F-44A6-B1CC-12BB0213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FA4B-2118-46F2-923C-9E7C1ACB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9547-C4A9-4D11-9A4E-194D0AD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745C7-5913-40A2-814C-9382E1EA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9096B-BF22-48D4-83FA-52C8454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04D7-BDCE-4EE1-A9D0-3A594F6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5AD9-BD42-4728-A2CA-6E855A3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AA38-7E90-44D6-B2A3-99FBD52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1BC6-3013-4983-966D-4903AD4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7EB-8A0F-47F7-9774-D0B0F1FB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FF3FB-AAE4-4B91-A2A5-2EBBAD5A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41E8-8F37-462E-A4D1-0DEB54F7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6DB5-4F35-4FF7-96FC-DB8A8E64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D937-D7A4-4EC2-A7B4-989DEFA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93D6-00C5-461B-A4F1-0BE072D4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36AC6-66DF-481F-BA94-A730F63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F779-BA4F-4D04-BF80-F68D9F8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4473-6199-49A7-9C38-17645CF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8766D-D9B9-4CD0-BFF1-BE26A75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A953-9B58-47C3-9FB7-307EF2D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2BF-D8B6-4602-A209-FC0EC44E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2FF3-D38E-40D4-BD96-8903791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F7C5-F3A0-441F-A1F0-2E12195C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3898-1093-43F5-82E0-E911103F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BCBE-FF18-45D7-B354-09B79323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4EA38-7D43-4A75-B158-902AAA8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3D58-6C0E-4B70-882C-E65500DE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9F0D-1CFB-4F98-A6CD-42ACEDAF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8CAF-AD64-46F3-81A1-1718FF44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263C-BF4C-4723-9FFC-9D8AF32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0353-C987-4536-A1FF-3697987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CDA-727C-44D4-B018-4540BA0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B5F5-3424-47BD-AEEE-A4E86B2C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CD19-0D91-4CA7-91B7-310223A8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D3E8-2F42-47C7-9CC5-226094D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3128-88CF-4506-80B3-06B06628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50061-73FE-4135-A680-056354E5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CFD-D2A9-4D03-923B-B9D1B44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B247-CE6E-4445-9FAC-8019E7F885A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13A-BCE6-4C57-A3D6-EDF8A77A017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C85D-F25C-4723-BBA2-186337F627ED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711F-4CD0-47FE-8692-CA75BB55EC2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77F1-AC76-470C-A76D-34937E26BA0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1C1B-9C82-4820-9706-392E24BAEB6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E6BA-901D-4872-A455-76510940F9C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The Simple Past</a:t>
            </a:r>
            <a:r>
              <a:rPr b="0" lang="en-US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who or what is the subject of the sentence, the main verb is in the simple past tense, did is NOT use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argu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lo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sisters and I argued a lo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travelled with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did you travel with you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parents stayed in their new apart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r parents sta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ra visited her friend yesterda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visited her friend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use the simple past to talk about completed past events and activiti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ud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rammar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living roo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all regular verbs, add an –ed ending in the past tense. This form is used for all subjects, both singular and plural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st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p late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ildren play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games in the garde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e liste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the news after dinn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gative Statement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negative past verbs, 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imple form of the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y roommat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ke that restaura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ontraction of did not i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ive in a dormitory last nigh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r famil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wn a computer until recentl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elling and pronunciation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ge 136 –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pressions of past tim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ay before yesterd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mor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afternoo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 evenin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nigh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Monday/ Friday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t week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. Page 137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imple past tense yes/no questions with main verbs other than be, includ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(n’t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stu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week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father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 call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verb is in the simple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’s no final –ed ending in the question for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mother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ook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night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did                              No, she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o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a new apart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did                                  No, I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neighbor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pai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ir house a few years ago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they did                        No, they did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past information questions have did before th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esterday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call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y sist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r relatives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visi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ast mon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id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pizza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want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home-cooked meal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2:58:18Z</dcterms:created>
  <dc:creator>sony</dc:creator>
  <dc:description/>
  <dc:language>en-US</dc:language>
  <cp:lastModifiedBy>sony</cp:lastModifiedBy>
  <dcterms:modified xsi:type="dcterms:W3CDTF">2012-04-11T17:26:54Z</dcterms:modified>
  <cp:revision>12</cp:revision>
  <dc:subject/>
  <dc:title>The Simple Past</dc:title>
</cp:coreProperties>
</file>