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4BC-0D88-4FE7-86AC-267D6815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F51-E722-4231-BA77-7B5B7408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B1A-2A55-47FF-B6A2-E54A5819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BE5-400C-486C-BC56-BBB94243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2E5F-D475-4F2F-A7AF-44D5048D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AFAD-6814-413D-954C-46F407ED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A860-CF89-4012-9A8A-B95A26A9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76CF-1AE9-4EB4-BFCB-01507C9F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4932-2C12-4382-B804-22EE5BC2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90D4-79A8-4E8C-A647-AC7A5ACC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A198-1E02-4078-8073-DCDBBA87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E85-549F-4343-9931-E0891437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5AB5-1731-434F-9672-51101C2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A92C-668A-4DF5-97F0-8A936B59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7E1B-5409-49A8-A188-770E7701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40FB-BDBD-4C62-866C-951F82EF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8DF7-B79A-407C-AB7A-05600906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A8D3-CEB5-4D41-87F6-8E97B193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7BE4-E95E-4994-90A2-4B1846AC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4E0B-87E5-4539-935A-CD9FB8B6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8111-BD7E-436B-B671-9BEB8E73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B94AF-2102-4970-BEEB-F5F04EA6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E0B-9B25-4F93-85B2-32721621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4C70-D3BF-49E2-908A-8ABFC87E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6E7F7-4AEC-4317-94BA-815C0BB8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3865-CCD2-455F-BA34-98C1E51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CBAA-6DA8-4FDF-971A-B0FD8E50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4C02-F10C-44D2-A477-71D80F4A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829B-92C4-4ED3-94C3-2D0CB98D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DC57-CA67-41BE-A1C5-95991679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4DF44-1B58-4FEB-830C-6E5E4EF0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F67E-93C2-4D65-8358-40557815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AAE5-4B99-4938-8869-5F32E99B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985-CCA3-470D-9ED9-B514B1EB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B8A3-ABCA-4302-B9BE-2A4189A9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A5278-B3CF-4D8C-BF9D-16CF4FEB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C2F4-6D26-44DC-9424-5A347D26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C596C-71EA-4D98-A04D-797653EE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27B1-A334-472E-ADA4-EE766F16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0E0F-BB9F-4218-A02A-BD877595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3F114-2D13-45AF-8523-B69E0AE2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C7C7-47C9-40C8-AD66-838DE6C3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0DA30-F99A-44B1-B4EB-2A9D5491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384B7-113C-48EC-AF2B-89EEA3EC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766-EC01-4D2A-9C96-C4BDF0DA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49C47-7FE9-4746-ACF9-9DE07DAE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32325-A8F8-4B76-AD24-0372FE2D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8A78C-37BA-4C43-9D90-75265FA2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5A6E9-2127-4F50-AD7C-9D1D5331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3EAE-5B5C-4BA9-B47E-021EAC2A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50085-D71E-4445-BA4E-7CDD48ED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26737-A636-4E2B-9DF2-188C4E1A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7E1CA-DCCD-4185-981E-F35D6278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7F73D-951F-4922-A4A2-42FB39A5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B307C-7925-41D5-B26E-5D234596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8B2-F4EC-440A-852C-E498BDA8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151B2-B019-478E-A04D-6F18D0C7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D2249-33B0-4400-9DF2-F676CBBD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42F56-1586-4224-B2A1-63B27056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26AFB-A112-4AA8-9A4F-37F35A80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7E588-1665-41CF-95DF-E53E045F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A869E-3E14-4FD1-BF45-2892596B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3E93B-37D4-421C-A1CD-9B123549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D406-BB17-45F5-AB92-F8031AB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C1812-145C-4024-9410-C711DB4A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9ADE7-EBD9-42CE-A472-B81573C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A22-D4AE-4D2E-8ABA-13E08536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B43F-7788-4E99-BC42-60EBEA20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C1107-3291-4574-BD21-0FED746A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029D2-47C5-4A5F-8829-AE3859D7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91D87-BAAB-48F3-9BB7-006F8650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E7E41-A9A1-4D40-A673-CCDA8BA0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5684E-8E0E-4865-BED1-E8002EE7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B43C-B9CF-444E-8740-1A5BE460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48B3F-FE0B-4636-9245-B8DC17BD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5983E-D6FD-4AF9-B08C-D2756DDF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D02B9-A350-4DE7-97F2-858C8804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39C-43A9-4336-9FED-8C16722C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0ECA7-C4AF-4E10-A222-E8E3684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B77A4-8DDD-4976-8844-CEC07C6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DDC32-7061-492E-A684-5B314D3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FAFAD-B8BA-4ED0-9A02-61D742AE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4C52-16E2-402D-9C7E-193604B2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48F-2BA1-4AE3-B69D-9C456959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BB37-6DFB-4044-A064-FBE89590FBA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A160-5679-44DC-A205-D5035934130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9BD7-F471-43C5-A545-2C34D5A2321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E0AA-BDEA-484D-A22F-BAF58B90491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608A-F120-4652-B99E-08C4388AE6B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7F2D-F966-408D-B3AF-7666C37E750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09CF-7C22-4275-80D1-43B48D6B579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The Simple Past</a:t>
            </a: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who or what is the subject of the sentence, the main verb is in the simple past tense, did is NOT use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argu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lo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s and I argued a lo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travelled with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did you travel with you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parents stayed in their new apart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re did your parents st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ra visited her friend yesterd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visited her friend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the simple past to talk about completed past events and activit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ud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rammar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living roo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all regular verbs, add an –ed ending in the past tense. This form is used for all subjects, both singular and plur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p late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garde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liste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the news after dinn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g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negative past verbs, us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imple form of the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roommat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ke that restaura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ntraction of did not i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ve in a dormitory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r famil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wn a computer until recentl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lling and pronunciation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ge 136 –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ressions of past tim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ay before 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mor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afterno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eve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nigh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Monday/ Friday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week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. Page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simple past tense yes/no questions with main verbs other than be, inclu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n’t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week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father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 call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in verb is in the simple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’s no final –ed ending in the question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mother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oo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nigh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did                              No, she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a new apart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did                                  No, I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neighbor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ir house a few years ago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they did                        No, they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e past information questions have di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call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relative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visi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mon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izza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wan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home-cooked meal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2:58:18Z</dcterms:created>
  <dc:creator>sony</dc:creator>
  <dc:description/>
  <dc:language>en-US</dc:language>
  <cp:lastModifiedBy>sony</cp:lastModifiedBy>
  <dcterms:modified xsi:type="dcterms:W3CDTF">2012-04-11T17:26:54Z</dcterms:modified>
  <cp:revision>12</cp:revision>
  <dc:subject/>
  <dc:title>The Simple Past</dc:title>
</cp:coreProperties>
</file>