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BA5-9261-412D-8A45-641F48DF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128-692D-45AD-A05D-9D6092D2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4044-F16D-44E8-A0C2-1FB91E7E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55D2-1A9B-426E-AB14-7B9EFD5F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FF0F-6FEE-44E4-8507-733B6ED5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9D50-F5D0-4B84-8D48-23132DAC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0FB2-2422-4BB4-BCA5-5BFD35B3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02B2-BC5D-4F6A-90A7-5B88F7A6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CF83-D32A-400F-A17C-0F51B0A5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4434-1A38-4607-A8D3-C6755D89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EBE7-0481-470F-8C8E-4652EE1D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2BD-2DA9-4F85-B3D1-8134E589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DCC3-7365-4FE9-9964-94A345FC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8513-E98A-46F0-B5BC-AC55344E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70ED-BF43-4D9A-9F90-D3179743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4043-C291-43FA-B8C9-33D61721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F6C0-971F-4F96-9835-7E0E20CC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37C79-A0A5-40B9-B4A8-EF14733A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A3B45-74DA-4F81-AB77-967F9B6F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2639C-399E-477A-94E6-A856D987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F0580-2A69-4558-A96F-70D11E15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AE1EA-D5C7-4668-87B6-EA3CD847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1532-0364-4BF2-801B-FBBF586D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212AF-7BCB-4F2E-8590-E4797231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B19D9-EDD7-4D82-90BB-EC9CABDF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9CA4D-710F-4AF9-A884-D9B9E7AF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8BDB3-C22C-4380-BB5B-3D18C5E8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C53D9-4274-40AC-8CD5-D52EDF70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F9177-5397-4E1C-A426-33AEB61B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055DF-35ED-4B53-81B2-32636E3C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2327A-EA06-4454-9015-4B49AF6A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A14D6-22C1-42F7-9F22-09703D1B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5AE69-9632-40FB-BD60-077BAFA9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3D2-901A-4DFD-A631-1C21B9F7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DB5F5-C55D-458F-A9A9-4DD841E9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88FFC-ECF9-408C-8A1A-880BC9FF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5B025-F337-4DC6-AA77-ECAFE2A9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AFFA8-F08F-45C4-86F0-A0861610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309F8-F2AF-4FAE-8535-103737BC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6C735-7DE0-4294-A3BA-F47122E7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5D97D-1F74-41A3-85E5-E48CAF01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44CB5-E8F0-42AD-8074-D43E380F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CA03D-8DCF-4F11-BE64-40881492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1BD98-D3C4-4734-A89C-995F53E2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B669-4E3A-411B-B58B-89F3DFC8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624C4-690D-4737-AFA2-B9A3DDD5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11F20-D36A-4212-9501-8B2728BD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05E17-8552-4110-A7E4-5C7B7140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F4682-AF9D-4EFA-BF1B-2D682FCE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5D893-0628-4F6D-8E80-D9E1A8BD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A3FB4-C34E-4B9E-A845-F5BE1C2C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CFD68-A92E-4AD7-929A-CD19BDF6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44997-B158-431F-89E4-61437A6C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2EED5-11DA-48DB-9590-047B518F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0AAA8-B44D-493D-93CB-07BDBD70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DE72-C0DE-481C-96CD-B1BA867D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F4C34-C4B3-4FD1-85E3-23ADBE4A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A7885-9FD7-410B-A5BA-65B8B06C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DE107-09BD-4CBC-92D5-F88902EF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B7A02-7FD7-49F8-A21C-0F80E8CA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47E05-5BB2-4898-B8D9-61691C77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0F03B-F9ED-4AE6-8359-5FBA9292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59036-B166-4698-B718-A626A4D0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F71E9-9043-4647-8283-4D051E96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1F250-CA7A-4967-953F-A7D7323E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FA5F1-F0E9-4E65-A968-70B28D40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A4B-F99B-42E9-8382-CFE22FD9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743E0-C194-4049-918C-D437EE63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1CABB-9671-4445-8BB1-1D051B67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B3525-EEDD-4BF8-8F93-EFF8DBF8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B44D3-FD4F-4170-9A06-F7F6B02E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C19EE-447F-4EA5-A0DA-B37AEF8C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66AB5-6AFE-4A04-AA24-26D26D78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19B79-CC49-42F6-8805-FB0E4806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3E2D0-B867-4736-8305-36BC3A88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E3D10-4AAD-41E5-B8CC-F252C472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ADB89-E318-4015-9185-9446E379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144-F1D8-4771-B7C8-CE7842C5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F4337-41C7-4853-AEE5-F54526F7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AA1B2-05A4-4C98-B1F4-2EFD7511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D72DB-F9EB-43FC-A398-EAC7E9E7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B1E2E-B2E0-41E4-8D92-5E974EC5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60982-FD38-4D77-960E-D7E33E3F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EB68-93E4-4E99-A6F8-0963E64D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7BBB-1391-4A98-9F66-BBAD3958CA2F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66BC-9A45-46EF-B587-56DEB1E303CB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EA28-A78A-43E4-AA51-8D895915ECA0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E79E-FB71-4FC5-8B42-649191BFF4F2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16CF-B3D5-42B6-A6BA-A1190FFFD35B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99D3-7C46-4FAF-B9E0-4E960D914F7B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3E43-88ED-45DD-AC8B-48DD750F8923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2314"/>
                </a:solidFill>
                <a:latin typeface="Gill Sans MT"/>
              </a:rPr>
              <a:t>The Simple Past</a:t>
            </a:r>
            <a:r>
              <a:rPr b="0" lang="en-US" sz="66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who or what is the subject of the sentence, the main verb is in the simple past tense, did is NOT used 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argu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 lot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sisters and I argued a lo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travelled with my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did you travel with you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parents stayed in their new apart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re did your parents stay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ra visited her friend yesterd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visited her friend 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the simple past to talk about completed past events and activiti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stud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rammar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ildren pl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ames in the living roo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ffirmative Statement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all regular verbs, add an –ed ending in the past tense. This form is used for all subjects, both singular and plural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st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up late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ildren pl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ames in the garde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listen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the news after dinner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gative Statement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negative past verbs, us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no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fore the simple form of the verb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roommat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ike that restaura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ontraction of did not i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ive in a dormitory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r famil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own a computer until recentl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pelling and pronunciation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ge 136 – 137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pressions of past tim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day before yesterd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mornin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afternoo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evenin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nigh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Monday/ Friday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week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. Page 137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es/No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simple past tense yes/no questions with main verbs other than be, includ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(n’t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stu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week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father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 call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main verb is in the simple for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’s no final –ed ending in the question for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mother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cook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night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she did                              No, she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mo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a new apartmen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did                                  No, I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neighbor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pai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ir house a few years ago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they did                        No, they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mple past information questions have did 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ca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call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y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relative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visit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mont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pizza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want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 home-cooked meal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2:58:18Z</dcterms:created>
  <dc:creator>sony</dc:creator>
  <dc:description/>
  <dc:language>en-US</dc:language>
  <cp:lastModifiedBy>sony</cp:lastModifiedBy>
  <dcterms:modified xsi:type="dcterms:W3CDTF">2012-04-11T17:26:54Z</dcterms:modified>
  <cp:revision>12</cp:revision>
  <dc:subject/>
  <dc:title>The Simple Past</dc:title>
</cp:coreProperties>
</file>