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18F-2C6B-45E9-B15C-12C4923F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9FE-44AB-4240-9652-00617783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019-1BBC-43B4-B270-C5DC7DED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B8D-3018-480C-AA69-79166A4D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C503-6796-474E-AFD4-1AC44E46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A9B2-C2C9-40D5-BADE-03AD2A64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24FE-E4FF-4FE8-83F9-D13537FC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82B8-992F-4866-9D3F-D4E42720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B1D9-316E-46E8-91C0-C0AD0EDB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7039-416A-49C6-B813-6BDE9415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3AE7-C1AD-4D6E-98F8-FFEDC9B9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1B3-9873-4EE6-94C4-A8CE4ABA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20EA-4F51-4A06-950C-82C8C7D6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C92F-E423-44EC-AE7A-8DE34A5E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F231-6CB2-4046-9943-99CB64A3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E625-53D1-469C-9352-45D170AC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150F-757B-4820-8EBD-09306A03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5F06-3D71-492A-8469-F9FBD006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4666-290F-4CEF-9F62-D5805A3B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DE11-E7A7-429E-AC6E-76877D02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D465-8DDF-45E6-B954-D3C94DC6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D82E-9905-4D38-90CA-6E825280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FEE-C092-47F6-8351-5272FE2B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28E4-E1A7-407B-890C-64C73C57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891B7-35C2-4C94-BA67-1C7E88B6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E14E-84F6-4202-990E-20CB6F0A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1E76-C839-40D3-BA6C-E122C21E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7C8B3-86DB-43D4-9BA5-A9E45A62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4227-BDFB-4D51-AA13-70AB983F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C3FBF-8568-430C-A92C-A41432D0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BCA9B-F3C1-4F04-B50B-F7D3CBDB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9AE2C-5575-4673-9CAB-79362A62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A72A-A8F6-42AE-A48C-565DB627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E2A-F6B1-4978-94F9-F8C1DBB5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656CA-9C86-4CAB-BF00-71FE9BC0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A3FB7-F99A-46DA-93FE-5A0ABB93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8EAEA-E689-42CA-9160-382D7F66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12729-32A4-48C2-9933-78693069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0ACD-1912-4620-8CC0-0F48B69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75702-894A-4614-BE2B-7FC3FDE2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15BB-41A5-4F9E-B595-9C3203B2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1121C-E0A3-44CB-BC56-DC666D9B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4B367-036E-4EFA-82EC-BF8FCF8C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5604A-1D50-4396-80A6-642A37D7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565-EE87-4C30-B8F0-0CCEBFD4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BBCBD-7CFE-44E4-9D64-5627919E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06BB-811D-41B1-9420-06FFE3A3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DF434-BC15-45E1-9C41-6FCEF4E2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11D7B-7671-4481-907E-B58C6521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7ADE9-7C1C-4968-8706-D8617515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2DB45-44EF-455D-BD97-7E6A1C1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449B3-42B2-4DB6-8B21-AF7DA729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16AB0-156D-40D8-B442-0080EEA1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55362-DCF0-4726-AB59-FBCE9810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45584-E36F-4146-8FD7-55F46A60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A33-255E-41DB-98F1-4E394E49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AC2E-CBD7-4372-ADC4-F9DB7952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0885D-1430-41FD-82E1-D35A8089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6324C-31EB-4BBE-BF53-7694FC2E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B40C-7377-4F8A-B922-3E379F86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5BB6E-5FCF-42CD-BAB1-36372522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7CDA9-6BDC-4E90-8A6F-233C6016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5045A-45AD-4B79-9D04-F87453C4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7131C-8DBE-46A8-9C7B-D1D4EFAF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6BE21-5DE8-4034-B38F-96E12C6D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33A5C-6B7C-403C-8A37-E2D38814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B6E-77C7-4E48-AF45-817DC97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A1945-A5E4-411B-B2FF-8CCC0CD5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43E61-303B-49DF-A97D-FCD6DC40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E4FB1-FA3B-4CC5-A934-9E04440F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DAFC8-AD5F-4294-B6F4-B961881E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05E1C-A3E0-4A8D-B8E7-211B5D3F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C6B4D-A92B-4967-A75E-DC42A1B0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3BC44-B933-46C2-8ED8-BC7C9AB0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19FE4-3A0C-4D56-95BE-35221B56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6337C-D6A3-4343-B21F-D038C1B3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D67E5-5625-43B0-AA70-34F292FC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56E-A870-4816-8191-45A427AD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786B9-3B26-4C98-B150-C827784B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FBFC8-3C72-4318-9415-0DBD542A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0D3E9-0B1B-412D-8A38-00F54ABC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D7AA0-6154-4389-B7FF-FABDBF81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2CDEB-3650-44EF-94AE-273CB4EA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EC8FB-A7DC-4BA7-ACBE-CE7A202D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05A72-B438-4016-9058-5C27B05D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846C1-7327-4747-86CB-2E53D37C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73F5-99FF-483D-8F83-00DE1E33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259FB-BAAF-4248-AB1E-54D55DDE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FFD-4DB9-4E45-A120-2DBFDE42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60AF2-8D2E-4D10-AC4B-0C2C2753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AD88D-2889-46DB-BC32-316EFE9B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0088F-4B29-47F6-BB7D-3A9CF457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D9A2F-0765-49DF-AE6A-D568F83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61D52-46AA-4D9B-A62D-C606FC68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C9683-06EA-4E1C-9FB7-F8C38732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31410-128A-49CA-9378-24627F5D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DF86-C6DB-4E70-BE91-E5DAD489791D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4C0D-AC7B-4A5D-A5F1-4E5515437CCE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CBAB-CA40-4368-9EE9-3B2CFFD01AEE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D957-AB23-403E-A6ED-527D4C71BDCA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804A-D23F-4F4C-9D95-4FE46DA00C1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7393-6E5E-413D-B75F-2665B891C33F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4F6E-8965-4DEA-948F-C5454C386887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320A-3108-4E29-87A4-AC4AB45D0576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uture tens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B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+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going to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+ 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’s common in convers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quick informal speech, going to often sounds like gonna but don’t use gonna in wri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to comes the simple form of the verb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sleep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bu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ress tomorrow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ictions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use “be + going to + verb” to make predictions about the fu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ky looks gray. It’s going to rain so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olicema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e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ticket if you park in crosswal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afé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no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owded this wee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lans and inten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“be+ going to+ verb” to talk about plans for future activi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e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 the new restaurant tonigh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opl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not going to g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o the post office today because it’s clo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’m going to walk t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more often in the futur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es/No Question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yes/no questions, put the appropriate form of be before the su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firmative ques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teacher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iv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lecture to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park tomorrow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ative ques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t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ra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Satur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uncil member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bank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ra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formation 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ere, when, why and how : a form of be separates the question word from the subject.  + who and what when they are not the su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o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to the par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his car isn’t work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teach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 L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teach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meet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at 7 pm this even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mee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Gill Sans MT"/>
              </a:rPr>
              <a:t>I’m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not going to come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I have to work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o and what as the subject : Verb to be doesn’t separate the question word from the subject because we’re asking about the subje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Sar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assa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28:31Z</dcterms:created>
  <dc:creator>sony</dc:creator>
  <dc:description/>
  <dc:language>en-US</dc:language>
  <cp:lastModifiedBy>sony</cp:lastModifiedBy>
  <dcterms:modified xsi:type="dcterms:W3CDTF">2012-04-11T17:09:10Z</dcterms:modified>
  <cp:revision>10</cp:revision>
  <dc:subject/>
  <dc:title>The future tense</dc:title>
</cp:coreProperties>
</file>