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FFD-89ED-4228-80A1-8B5280AE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639-BCC0-4AD2-9955-A82B3E01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561-9A11-4E96-8A07-33551EFD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33F-7BA4-4D6B-A075-41FE673D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F76F-0854-415E-8C3D-89CB68DC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60E1-B029-4E0F-8DF0-5C30051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8966-FFF1-47DC-8A03-861CFBA5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3DF6-BFFD-4FB5-880D-72161518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51E4-8543-46C6-AAFD-08BD4D4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DEF7-151F-4700-AE7F-3250928C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6F71-2D29-499F-853C-1F60772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8EA-3824-476D-BE57-95C3B7EF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6E4F-5979-4565-82A2-A9AA1EB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F6F3-79C1-40C4-B4B4-EE4720E2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AC8F-3AF5-4577-BAC4-0CB1F551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D97-AE96-455A-B1CF-25CE238E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5307-C360-4CFB-AF48-FCE955D3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B18A4-EBF7-4429-B5A4-5B678EF7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C59D-4F0E-42E6-BBE4-CCBC990D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FB36-1EBD-4618-A74B-5DE80DE0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A637-B648-4D87-B956-65A20FAD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ACA1-3B91-4A87-B6ED-8EE4FEFE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357-B939-42CC-9E3F-8F85824D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B55ED-1B1C-4D36-AC12-3E9DD3A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BC88-017C-49E5-9118-B932F7A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EABD-422E-4C6F-A9A8-6ED088C5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F05A-6EF0-4724-B5C0-5E3E2A52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8120-D2B3-46A8-B2BF-F274E39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2A55-5705-4409-9E5B-C799BB3E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3A32-E431-4151-BB7F-04E73141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75405-05C6-4756-B870-B099F315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10469-DB5B-4A44-A364-86BB62A0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4B752-16C7-48ED-B50A-A182374C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B08-7DE3-44A2-9FD2-2FCE8601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E6E51-42CC-426B-B147-F45601EA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9C0E-89A9-4A5D-B0DB-1F1AE95C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6806-97D6-431A-869E-60702D9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A46D-6CDD-40B4-8A4B-62D19FE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F707-FB9F-496A-BCDB-D02D3BB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A7403-8AB1-4AE9-93D3-86FF3FB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E4F7-2F25-4C16-AA3B-01202C5A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8EBBA-089D-40BE-B01C-EFABEFD5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BE25-B8FD-4A1F-AEA8-BD0E72A8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CC0A-D38A-4D7C-8DB9-D2608FC6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F40-491A-46B8-954F-F1B79A4B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EF091-D9E1-4064-A968-900B2A5F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81ED-EE30-41DB-96A1-6FA68BCB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ADF9F-E594-4F34-8454-414D2026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B8C5-34EC-451C-B863-C502CA01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AFC4-ECB5-4AD5-B74E-CF5E7507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A26A5-1263-4842-A65D-F6C2417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5564E-3945-4C40-9A00-BC4BE3D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43CA-22E2-4369-8B4E-470EE38C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FFE0-5889-455C-91D7-BDF80B94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61B16-4AEE-4FF2-A92E-7E9E53CC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9CB-9AD5-4DE4-B877-F13C1D41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4538-75F6-4BAA-AF6E-D74B8E86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57FC-FAD6-4B59-84A1-794B44DB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BDD6-B50E-4FB4-B0EC-664EBB75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E365-6705-4153-BF1C-97D4430C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6431-45EA-4AB8-BC33-2DD4EF21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4CD3D-160D-42C7-9C0E-F20CA807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869D-C06C-48F9-B01F-AE039922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0322-13F3-41EF-8E3F-5DCB520C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DB35-81F3-4164-A539-73FCCC90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2344E-2AE1-4D84-A46F-0FFF5B68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EAF-E214-4F19-AADB-9FB633D2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E9BDE-2F97-48A7-8F53-F6B32D3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6CF6-5EDC-4792-B4AE-320235FA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0A388-8254-4DD5-B26F-3EFE13D1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ADFE1-1F4D-486C-9EC6-51F6978B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7BDDF-B947-40E7-8BDC-BA6D68C4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AFF0-11FD-49CC-9DC5-CB68BBC9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FFB01-F791-4D6C-8531-91D0BFDD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537B8-2A71-4D9A-AD83-79FC41A6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41944-D728-4C58-931F-53346022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2F68-DF59-4831-BDD5-8BDD5CEA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7DD-5D20-48A3-8C25-C6A9F084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9FDAF-57D4-4419-8D48-08A44A1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D841-6A7E-4763-B466-CD90B934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1F16-F393-4AC8-BE68-47EAD520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EF956-24F6-4098-A8E3-DBA64190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6B04-96C1-4B3B-AF2C-6DD84957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5CA46-E635-4413-9032-48327999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4EC6C-624F-40A6-8423-0224F468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6F89F-9840-41B1-93A6-C750C879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28C16-CAB8-4403-BA28-EF8FBDE3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D9880-5DC7-46C1-8552-C13ECCAD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ABF-5816-417B-A114-8AAE495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8E665-4F1B-4BDE-8DE7-06B575C0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5FA99-6455-4F97-BC40-C5587242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BF62-848D-4F5D-9630-3A23E272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1AC7D-67C8-4DEE-A406-ADC0FBD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055F0-0325-4C45-A6A9-A93695D0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3937F-5D89-4CBE-8438-881292E5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4B269-3BE4-4D79-A424-578E5E42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8C04-1525-4052-8EA8-49D6AE68288F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1BE3-D4AE-4F51-9EAA-0B6AAB89B17E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90D8-F687-49F9-910D-E98801A0553F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DF81-5BC0-4757-A868-C29E6C37FC9E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525-AA24-42CC-83EB-AEE5C5E7F23D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9394-39DE-4262-BE61-6B14D32D54A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F58E-87C7-4D24-B3A3-3EF14C09B005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6C2E-08BC-41CD-AD75-C87F5908E0C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future tens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B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+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going to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+ 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verb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’s common in conversation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quick informal speech, going to often sounds like gonna but don’t use gonna in wri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ter to comes the simple form of the verb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sleep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going to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bu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ress tomorrow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dictions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use “be + going to + verb” to make predictions about the futu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ky looks gray. It’s going to rain so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olicema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e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ticket if you park in crosswal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afé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no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wded this week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lans and inten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“be+ going to+ verb” to talk about plans for future activi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e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 the new restaurant tonigh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opl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not going to g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o the post office today because it’s clo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’m going to walk t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more often in the futur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Yes/No Question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yes/no questions, put the appropriate form of be before the subjec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ffirmative ques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teacher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iv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a lecture to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park tomorrow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gative ques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t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ra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Saturday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uncil member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the bank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  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ra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formation ques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ere, when, why and how : a form of be separates the question word from the subject.  + who and what when they are not the su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go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to the part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k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go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his car isn’t work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lros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atch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bu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teach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 L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r. An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teach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 going to meet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at 7 pm this even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we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mee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Gill Sans MT"/>
              </a:rPr>
              <a:t>I’m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not going to come </a:t>
            </a: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ecause I have to work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aren’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going to co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Who and what as the subject : Verb to be doesn’t separate the question word from the subject because we’re asking about the subjec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Sar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n’t going to b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Gill Sans MT"/>
              </a:rPr>
              <a:t>Bassa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is going to coo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nner tonigh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28:31Z</dcterms:created>
  <dc:creator>sony</dc:creator>
  <dc:description/>
  <dc:language>en-US</dc:language>
  <cp:lastModifiedBy>sony</cp:lastModifiedBy>
  <dcterms:modified xsi:type="dcterms:W3CDTF">2012-04-11T17:09:10Z</dcterms:modified>
  <cp:revision>10</cp:revision>
  <dc:subject/>
  <dc:title>The future tense</dc:title>
</cp:coreProperties>
</file>