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1241-5EF2-4BAD-9EF8-6726866A7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091A-4813-4BE5-A91B-6A22AEB6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CC5E-C5B6-4641-BA9B-9C19CCCA8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185D-5B3B-49B2-8D5B-F712814D9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201B-7618-417D-B142-C6365E26C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523D-0899-49AB-B7F2-CDB970F8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CACD-2F99-403C-829F-C7F754F7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8BB38-0F08-45A1-A9F5-70FF4DFD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7C559-C588-482F-ABC8-A31CCB6F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9D851-4394-4D5E-83BB-50BDCDF0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9E69-5CE2-48CA-9DD9-3A4BE1CA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1E58-8DA5-4F63-AB15-39B8748D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6513-32F8-40F9-A31F-299B661E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05BD-221C-448D-B959-C24657A6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E11E-63FB-4B3E-A4EB-A63AEA70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7A93-A508-47E3-A3B4-C3517AA93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64D9-7894-4F51-861D-8B6F8D8D4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878F9-36B2-4C01-813D-65D6A763B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416DC-BA8F-495F-BFC9-54F68C2A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C52B2-6C79-4F71-8DBD-4ABE0E1B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0BAD1-A1C1-477D-B5E5-F30F73E1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CA5AD-3905-496B-88FB-DEBFD34E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8CFD-91C1-4F89-84FD-16041D28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B0458-0E91-4C28-83D3-41EBA877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D3B9A-812A-41CC-B849-B9661068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A9910-6183-4D1A-8ADD-A07FEA41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EF742-C2DC-4727-A5B4-C5B7B532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F6096-055A-45F2-A226-47EA3906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84D1A-DB99-4D0E-BC1B-A5B64413A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3DE5D-2F04-4410-854E-41F81B8D2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BF4DA-8A81-4946-8D0D-8D3300FAB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9BEA8-8281-4273-8FAD-176504B3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6AFC3-4381-4D50-801C-9A1881C3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4AB4-758D-465C-AA01-8D251903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D89F4-30C3-4346-8DBC-4056E5C6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7F1B1-260F-4447-8D49-4CEADA52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60537-B501-40F3-9C39-67A9D2AA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42D13-894A-4C45-B838-DFC60C01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7209B-2511-49EA-BD73-7674D4EC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59139-3AEC-4F66-A119-210B7A28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2FB2C-CFE6-4321-87D8-85002E8F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D7989-DBAF-4D5B-8B6A-7161F5C6E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50563-8BE9-4C71-9978-7EBA11C9B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C1A02-B5A7-4499-B723-63400766C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F2A7-1AA6-4884-AE4F-EA2BB149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B6BE4-AAFA-4032-BDF9-D898AA2D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9C200-8F39-4F9F-96FC-B00089F7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227B0-0363-4370-8808-4DBAF0E3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67967-936D-41DF-8475-035C845D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67AD2-B1AA-4114-8B9F-0EBD0DF4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FA026-523C-4226-9BC6-CEC90588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047E8-718C-4562-A632-5F628359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07F15-4540-4FAE-BCF4-9FC03A8C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BCD49-A365-47A3-8E67-10CD452D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C8E1D-5AE3-45E6-AF5F-1FE82FAB3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2847-6DB5-42C2-B724-7DEDDE1A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B64CA-1A7D-48CF-8F0E-EB29B6AE0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AB54A-2A33-44E8-82E0-9040FD460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A8938-47E0-4BEC-AA98-C098172B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97395-B15B-4029-B5FB-D2B4675F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856E0-3669-492B-8465-8FB50982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8E662-E50F-4B97-A4EB-7645ACDD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EE6DA-8297-40BA-B38B-2CA5492E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7DA5A-8A43-4D03-8511-0B29A2AB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C7D1A-F008-49C6-B500-15A0C30B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0913D-3A91-4F80-85D1-32B0DCEB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114A-C5BE-4B5B-BBEC-740B1A8E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E4DCB-2341-4C5D-B177-390B5A9F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3136E-91DC-41AC-B6FA-686793A1B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F9950-7B7A-4B62-B4C5-B73EEE79A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CE9EC-1231-45A1-B8A1-BCCC1E2FC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77964-801C-4CE3-8630-38571B93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CBD0D-746D-4227-A060-A463D399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08D49-D607-4972-84B1-B08E52FA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E9290-1FBA-4EDE-BA4C-D4C96C27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248DF-E3B7-4B47-AA71-B3D08F18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D8C41-24CA-4D99-B76C-9BA9782B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B6F3-A343-47AE-80F4-7D75D586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E26B8-16E2-413B-9650-0E8C8EF2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00484-1485-4B25-A815-C65581E3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E1FD2-B37F-4CA3-BC0D-85A864A2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F6CD0-4C0B-4707-BF79-54B8F65A1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3A44E-228C-414D-993F-3EEB0B6AA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BF9CB-4C41-4FC3-B08D-883506C06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5DB73-A1BC-4720-9C02-8FEFACC3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49C75-D54D-4BBE-9B8A-F5BBD6CE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9621D-0818-4426-87FD-AB6EF315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F4233-847A-4A74-8DFC-C4401E66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F6F3-CD34-4B89-843F-D7B60A04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362C4-A1B4-4E30-A288-3FFFD4C5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D022B-DAD3-4A34-B22F-FBC730E3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AF0F8-E4E9-4164-A1A5-92D718DF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F187E-5698-488B-AB73-BC356D70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6D5BB-F27A-424F-8276-95D6DC43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D8C69-8B45-4FF2-9DC6-6EB67C852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03540-2750-490D-9072-F372F96D0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BB15-C5D2-4330-9E23-032F32EC92C4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ستطيل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مستطيل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مستطيل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مستطيل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3F7E-EFEB-47E2-A19D-C483246FC18C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ستطيل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مستطيل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5DB1-EF69-4859-8579-C55C3AC66F6D}" type="slidenum"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مثلث متساوي الساقين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2D2D-6134-41AD-ACFA-632BBF9F5001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CE7B-F1C5-404D-89FF-C2796744364F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رابط مستقيم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مثلث متساوي الساقين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3F63-6DDE-412F-9A2D-D65E9948D53D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مستطيل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96B6-CAFE-49A0-AF45-C5D4CAD83E87}" type="slidenum"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رابط مستقيم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693B-D635-4E50-ADE5-7E66CB75AA44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he future tense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000" spc="-1" strike="noStrike">
              <a:solidFill>
                <a:srgbClr val="464653"/>
              </a:solidFill>
              <a:latin typeface="Bookman Old Style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man Old Style"/>
              </a:rPr>
              <a:t>Be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+ </a:t>
            </a:r>
            <a:r>
              <a:rPr b="0" lang="en-US" sz="3200" spc="-1" strike="noStrike">
                <a:solidFill>
                  <a:srgbClr val="0070c0"/>
                </a:solidFill>
                <a:latin typeface="Bookman Old Style"/>
              </a:rPr>
              <a:t>going to 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+ </a:t>
            </a:r>
            <a:r>
              <a:rPr b="0" lang="en-US" sz="3200" spc="-1" strike="noStrike">
                <a:solidFill>
                  <a:srgbClr val="00b050"/>
                </a:solidFill>
                <a:latin typeface="Bookman Old Style"/>
              </a:rPr>
              <a:t>verb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t’s common in conversation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 quick informal speech, going to often sounds like gonna but don’t use gonna in writing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fter to comes the simple form of the verb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’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going to </a:t>
            </a:r>
            <a:r>
              <a:rPr b="0" lang="en-US" sz="2600" spc="-1" strike="noStrike">
                <a:solidFill>
                  <a:srgbClr val="00b050"/>
                </a:solidFill>
                <a:latin typeface="Gill Sans MT"/>
              </a:rPr>
              <a:t>sleep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’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going to </a:t>
            </a:r>
            <a:r>
              <a:rPr b="0" lang="en-US" sz="2600" spc="-1" strike="noStrike">
                <a:solidFill>
                  <a:srgbClr val="00b050"/>
                </a:solidFill>
                <a:latin typeface="Gill Sans MT"/>
              </a:rPr>
              <a:t>buy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dress tomorrow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Uses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Predictions: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e use “be + going to + verb” to make predictions about the futur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sky looks gray. It’s going to rain soon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policeman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going to get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a ticket if you park in crosswalk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café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not going to b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rowded this week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Plans and intentions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se “be+ going to+ verb” to talk about plans for future activity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e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 going to eat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t the new restaurant tonigh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eople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 not going to go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to the post office today because it’s closed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’m going to walk to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chool more often in the future.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Yes/No Questions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 yes/no questions, put the appropriate form of be before the subjec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ffirmative question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the teacher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giv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a lecture today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we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go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 the park tomorrow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egative questions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n’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it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rain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n Saturday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n’t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council members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go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 the bank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   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n’t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ura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cook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inner tonight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nformation questi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th where, when, why and how : a form of be separates the question word from the subject.  + who and what when they are not the subject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ko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going to go </a:t>
            </a: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to the party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re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yoko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go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alros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going to catch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bus </a:t>
            </a: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because his car isn’t working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y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calros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catch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bus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r. Ann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going to teach</a:t>
            </a: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 Lam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o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Dr. Ann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teach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e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 going to meet </a:t>
            </a: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at 7 pm this evening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n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we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mee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Gill Sans MT"/>
              </a:rPr>
              <a:t>I’m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not going to come </a:t>
            </a: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because I have to work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y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n’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com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th Who and what as the subject : Verb to be doesn’t separate the question word from the subject because we’re asking about the subject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Sara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n’t going to b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r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o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n’t going to b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re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Bassam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going to cook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inner tonight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o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going to cook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inner tonight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16:28:31Z</dcterms:created>
  <dc:creator>sony</dc:creator>
  <dc:description/>
  <dc:language>en-US</dc:language>
  <cp:lastModifiedBy>sony</cp:lastModifiedBy>
  <dcterms:modified xsi:type="dcterms:W3CDTF">2012-04-11T17:09:10Z</dcterms:modified>
  <cp:revision>10</cp:revision>
  <dc:subject/>
  <dc:title>The future tense</dc:title>
</cp:coreProperties>
</file>