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9474-C7A7-497C-BF90-7A439232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488A-F824-43E1-BEAA-028A3611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5EDC-31FF-4F97-A8B0-EF38C4BB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3214-56A1-48C7-8D28-899B9422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C23A-16E3-41F8-A3D0-BF71BC09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4427-EBA7-4425-984E-CF11E0A4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F3E7-54E9-4211-8F67-6279FC54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B410-23A3-4E33-ABA3-F3B15EA6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0859-091C-4A79-9905-845C3A30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300D-16AB-468A-8EF7-D9A60556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242F-4E76-494A-AA76-7A59B5A5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CAB7-951E-442B-AAB6-00D50FDE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99AA-8D72-4202-A4FE-64275626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04A0-77BE-4A7C-AC29-DCD7A45D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3618-A119-42D0-8482-E251F624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6DD3-5C7D-4499-AFAE-6C0CDA40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2B47-E639-43DF-A9EB-D8FA0626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A6B06-F570-49D8-81D7-278569A1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8C494-DEA1-41EB-B2F9-A399D0F5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A5A4B-D170-41C4-BC45-8A060FCE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7AE59-37C1-4CEF-B9E2-0E4C406D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D9F90-8E07-4743-9E98-D04C6021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3D06-BD53-45F7-84ED-F96C3330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03E1D-DA4B-48A4-A06E-ED017B4A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2B26F-F391-47A5-8CA1-23099333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CF0AC-B1A4-44B9-8099-CBDC811E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32B72-B68F-457A-B224-3C57949B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A57CD-9BDA-4930-8D9C-446E4546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C3746-140A-414D-85AA-247F3711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524CA-CF17-4FC1-81EA-27A21837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B0174-E4E8-419D-A4EB-A9EFCCAF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912A2-C71C-4665-A9B8-4BBB087E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292B7-845B-4CD7-B88F-B56D6705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ABF7-188C-4A02-A276-D77F30FB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FF1A8-7893-4972-B329-4A707C7C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34CA2-129F-4265-848F-12D8622D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EE910-6BCB-4EF4-895F-BDB95873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C3ACE-6692-43FA-BF06-B52343A9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E622A-141A-457A-9133-F9B3173C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16EA2-5638-4B7C-811F-BC7A3B4D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F421C-BE89-49FA-A2BA-862820BC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5729C-198A-4444-8FF7-A1F0F650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62BE6-60E6-48FE-BCFC-403D25A3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B6880-FF9B-46C6-862D-62927087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98C8-2FFD-49BF-97CF-40F8B8B8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167A2-3CB0-4946-85D1-C23F8366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9171A-17CB-42E8-B99D-15C926A5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94EF8-A526-4A34-A25C-98EAE4AE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B6246-DF57-4A6C-BDCE-25D8E103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3EA6C-C8C1-4B1C-9404-BD589639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632F6-73C0-4087-8E42-0D303F62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C8393-05D7-4DE2-84DA-F3A8AEBA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28D00-E3F6-439F-87FF-16628A12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000E0-879C-4857-89A8-BBE565FE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92724-E6A8-454C-89F2-72896861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5787-BDD0-4595-811A-0E42AC19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0EE98-D762-467C-B292-12DEE310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17220-49D4-4657-804F-142CCF62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16974-D2B5-4534-B9A6-4810519D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7FDD9-53C5-4DEB-BA20-04863A82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AF89E-C91E-438E-AA6D-78615D40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CAB7C-9DD6-4D5C-AF14-769BC974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EC0CA-1FF3-4CDC-8836-C9DF0F55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792E2-C8F2-4957-9439-E7E3582F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A06EB-DA70-4810-80D4-4DFCD685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21377-50B8-4A54-83C6-05862FF3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808B-E75B-4A57-912B-D968C55E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DB2F8-9BEB-4359-9F69-E708CCB6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3EFD9-0D51-4C2B-A79C-9B4A30E0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E23A5-311F-4786-A768-0C300661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1FD3E-5432-4D24-9F16-0B68C750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0951F-302A-4522-A459-B8EC3B93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91CC6-2DA3-4C54-A5CD-5877353E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FE3DD-7455-4993-8145-ECC45F74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BD356-7051-4A64-9914-D170307B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4FE46-7228-4A8B-AB21-8B1C0031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F555A-09CB-42A6-A6CC-33303BDB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3C62-95FA-43D3-A809-8015C390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3DFBA-1826-4E48-B78F-3973D565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D30B1-D54E-449C-B324-9870B21D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BA27A-CE9E-4FA6-8C93-A169B5C2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D08B8-C776-4B5A-8B74-3BBF3815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72174-1AC3-4519-91B6-686D5343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EE91A-0117-46C6-9D4D-688FD775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3A880-272E-4545-80AD-B8495D2E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4FE4D-5D18-4F0E-893F-3A4B2D36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A44FE-984E-4677-9F04-532EEA4D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C54CC-E9B4-4D6C-83F3-3E7D3DBD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19DB-52BE-4AC0-96C6-69A6BEDB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3B1DA-7629-48C0-894E-F55905A4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76185-8243-493B-B175-C016FDE6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4F6B6-2FD0-4B0C-B649-B2D03874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6B9D4-042B-4EDF-A004-9B16F553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D20C0-5169-4CBF-B490-71ADFD33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14642-8176-45E8-958F-464256D7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E3771-36E1-4C9A-934A-1A8ED5AD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413B-1A27-435C-BB38-3CE973B664D8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988025"/>
              </a:gs>
              <a:gs pos="50000">
                <a:srgbClr val="e8cd6c"/>
              </a:gs>
              <a:gs pos="100000">
                <a:srgbClr val="988025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4d7a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731D-35D1-405E-A1A2-EC76623EA686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62E5-79E2-45C5-9948-72CEB5C6405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8FA0-6B25-41C4-AF0B-538313026765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C5C6-2D43-4FC9-9B72-D620FDCA959F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87C7-B764-4C79-BFAE-7CCE130E37B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B5CF-5AA6-46F0-83A2-B0E00AF9AEFD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2093-567D-490E-9D7A-CC112421F09E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360360" y="1384200"/>
            <a:ext cx="840564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700" spc="-1" strike="noStrike">
              <a:solidFill>
                <a:srgbClr val="69676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Be+ V+ ing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planned event or for definite intention, the present continuous may indicate future tim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use of the present continuous is common with a future time expression like </a:t>
            </a:r>
            <a:r>
              <a:rPr b="1" lang="en-US" sz="2700" spc="-1" strike="noStrike">
                <a:solidFill>
                  <a:srgbClr val="7e4e99"/>
                </a:solidFill>
                <a:latin typeface="Lucida Sans Unicode"/>
              </a:rPr>
              <a:t>tonight, tomorrow, next week, next month, next year</a:t>
            </a:r>
            <a:r>
              <a:rPr b="0" lang="en-US" sz="2700" spc="-1" strike="noStrike">
                <a:solidFill>
                  <a:srgbClr val="7e4e99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e4e99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374" name="Straight Connector 4"/>
          <p:cNvSpPr/>
          <p:nvPr/>
        </p:nvSpPr>
        <p:spPr>
          <a:xfrm>
            <a:off x="900000" y="2637000"/>
            <a:ext cx="7056720" cy="0"/>
          </a:xfrm>
          <a:prstGeom prst="line">
            <a:avLst/>
          </a:prstGeom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ment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stores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re moving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Al-Tahlia street next month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own council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isn’t meeting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xt week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estion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e4e99"/>
                </a:solidFill>
                <a:latin typeface="Lucida Sans Unicode"/>
              </a:rPr>
              <a:t>The be form of the verb( is/ are/ am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comes before the subjec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meetin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night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re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you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goin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owntown this weekend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76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:  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the simple form of the verb ( infinitive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t if the subject is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singula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dd –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the verb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imple present can express future time in sentences about scheduled event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time expression or the context makes the future time clea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ly a few verbs are used this way. These include: </a:t>
            </a:r>
            <a:r>
              <a:rPr b="1" lang="en-US" sz="2700" spc="-1" strike="noStrike">
                <a:solidFill>
                  <a:srgbClr val="7030a0"/>
                </a:solidFill>
                <a:latin typeface="Lucida Sans Unicode"/>
              </a:rPr>
              <a:t>open, close, begin, end, start, finish, arrive, leave, come and retur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231840" y="122400"/>
            <a:ext cx="8461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ment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ogram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 begin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t 8: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leav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wn on Frida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s train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rriv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3:00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museum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ope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9:00 tomorrow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76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estion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The  do form of the verb ( do/does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es before the subjec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oe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ogram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begi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o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he museum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op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the usual time tomorrow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o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he lectures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star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morrow?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76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8:21Z</dcterms:created>
  <dc:creator>sony</dc:creator>
  <dc:description/>
  <dc:language>en-US</dc:language>
  <cp:lastModifiedBy>sony</cp:lastModifiedBy>
  <dcterms:modified xsi:type="dcterms:W3CDTF">2012-04-11T17:31:05Z</dcterms:modified>
  <cp:revision>3</cp:revision>
  <dc:subject/>
  <dc:title>The Present Continuous and The Simple Present to Express Future Time</dc:title>
</cp:coreProperties>
</file>