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8EF-E510-44C7-B0BE-91AA3A81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032-5D83-4D30-8A76-B08A3031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929-4BF1-4E70-A340-B9F2CE5D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C20-B8F8-4C57-968F-44D408C1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6A45-C87C-49FB-8CA6-0B75EC02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901A-AA75-4026-9311-88568E6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980A-76E0-4C6B-912E-C97E8EF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3A9C-D168-4B50-8654-9CF8C456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82F7-26EF-4C18-9214-5B8E48B0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18C-59AE-49A5-9CF3-BA47E0EE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62FD-5F2A-4A0D-AD87-B3A4BB75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876-DC91-4663-B1B7-2F0ADC63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1AB-E29A-4C52-BB37-2ED273C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4EE6-B20D-4C4F-8434-C2BFD22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065F-66A1-402D-B12C-A6A0CC0E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47D6-BB3F-4E8A-BB94-2CAC55EB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58B5-6E03-409C-BE2D-B6A37B98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C7FE-E998-4E6B-A339-A3AABB78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E6D2-D74D-4434-A636-A5A77603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8A64-EB50-402A-86E7-D81DBD03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732A-75A0-4A6B-83D6-9936AC71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70E6A-ECDB-42C0-86A7-634E9339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FBC-2FEB-4754-A690-43737A62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2DBC-9F98-4AF2-A21E-C6EEE7C8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812D-2677-49BC-811D-63D1C888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4083-004F-40F1-A735-7E8D01C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2DA6-0FA7-4846-B4A8-AFF1673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EBA1-BF29-4C3D-AB38-92D66587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7383-77B9-4AA5-B9A9-8FD37B24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09CB-9524-4D57-982E-B65142F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C89E-6F9F-4255-95C8-1E7A3B8B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E5F5-745B-4FAD-8C8A-9101CE9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1F17-BFD1-4DB2-8F0A-17E59B52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4C3-4F7F-4BB4-B017-8F02723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13C6-766D-4A5B-8990-A9ABED47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9E88-234D-45FB-BB08-9819F10D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C5ED-4932-47DB-9C0F-5464534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FB7D-CB57-4630-8D8D-9CFDFD0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FA5C-11B3-4A94-8498-204569B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7D87-A335-44DB-86A6-9EF9A338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F8012-B2E2-40F2-A8DD-925310AC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42FB-6B60-46B4-83F5-5B0A2692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9634-C326-46B9-B2DC-F5C13B26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142DC-AF36-4CAF-AF8D-BA33630D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FBD-CEEE-49F2-B1CE-86320E9F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B8DA-CD06-4E39-AEEC-B4D1491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5A6F-56A2-406A-95EA-52AEDB4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4C93-ED59-45B8-A118-E0E27D2D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B1CD5-6A3E-431A-B92C-46A7843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8955-A5A9-4593-9BBE-0CDB7A6A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1941-4348-4DF1-830A-3D04E11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F7C09-E313-4437-8938-45F5EFB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485E-D716-4677-A54C-D349A1C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AE6EC-CB12-4304-AE17-B600EFD4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AA72-8348-477D-B054-E671D58F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0D8-DE2F-446C-8268-5454D339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0289-7CE8-4047-BDDE-F6FD285D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335DB-1EA5-4039-84E0-99E524D6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A982-C33A-4CE3-B727-19420C28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25992-1CA3-4026-8DB9-58B9BFCA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03E1-57B1-4687-B0A5-B9373065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C862A-B062-47AE-B28D-1D127681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41C8-7B4B-4A33-B514-866EA38D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4B5F0-36DC-4B69-8054-BAF8679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8B18-81A7-415D-BD7F-BC868C2E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B1A3-C26A-43B6-A0AD-291BAC0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5A5-55D6-4A99-81E3-4771B23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1CE34-E355-40DA-990D-1ABC1501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433C-138F-4852-8997-C38D0870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B617-9216-4D0D-BA17-6E7C9305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470E-C45F-4F15-85F4-FE198318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FE2E-19DF-4AF1-AC64-CB9A60FA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507AA-C653-4543-A40E-638FBC85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428BA-C13C-4563-A254-85C57A98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CD6DA-245C-446B-AAD0-E16458F8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8D40-611D-4476-93A3-F8A93B9E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1AF60-D949-400D-A2DC-C871D904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26C-5FAD-42DD-9A20-021F372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A95E-FAC5-41C6-B1EE-34DD047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4B2F-F875-4333-AB59-8464F02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7FAA-D4BD-4676-98BE-4AEA549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47B8F-A777-4698-9901-F2BA8195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2C28-ED83-465E-ADEB-F8B1AA9C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EB2E3-05A0-44D2-AE66-853748B9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5C46A-5541-4605-8DAA-BB42C2CE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4B905-0982-499A-A123-4E28AAA1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14E95-D823-449F-9027-DC83B4E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0B79-6099-49E0-8E61-2EEDA5A0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AB9-00BA-4F16-B87A-EED1301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ED9A2-23C5-43A5-975F-59BD3E32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20BE5-9B5C-404F-B8AB-6B9DD1AC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153D1-0B37-40AA-9827-0FDA2AF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F3845-8D69-43DF-AF54-DCA133B1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ED8D-764C-4E31-BA85-752098E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B67FC-A737-41DB-A0F4-0DDFEDBD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40617-74B0-48AC-8B34-0B13B3F7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C7B1-91B2-4820-84B5-6FA7FDA765E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988025"/>
              </a:gs>
              <a:gs pos="50000">
                <a:srgbClr val="e8cd6c"/>
              </a:gs>
              <a:gs pos="100000">
                <a:srgbClr val="98802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4d7a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1445-C8CA-408D-983D-D046457B7A32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3FDB-C7FA-454D-BA6A-38603EBB715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45A2-F1A2-4352-8E3B-53FE46A4951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FF39-DBAA-4CB0-935A-E335CF4344B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0F9-079B-4FCA-A11A-0CFBA208733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76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76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537E-2B8F-4BB7-87E8-72D97ABA863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4d7a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e9945"/>
              </a:gs>
              <a:gs pos="100000">
                <a:srgbClr val="e6d393"/>
              </a:gs>
            </a:gsLst>
            <a:lin ang="16200000"/>
          </a:gradFill>
          <a:ln cap="rnd" w="3240">
            <a:solidFill>
              <a:srgbClr val="97874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9c2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c9c2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ceb96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3BBF-D25F-4879-86CC-0BD5BE63231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360360" y="1384200"/>
            <a:ext cx="84056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+ V+ ing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lanned event or for definite intention, the present continuous may indicate future tim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eb966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use of the present continuous is common with a future time expression like </a:t>
            </a:r>
            <a:r>
              <a:rPr b="1" lang="en-US" sz="2700" spc="-1" strike="noStrike">
                <a:solidFill>
                  <a:srgbClr val="7e4e99"/>
                </a:solidFill>
                <a:latin typeface="Lucida Sans Unicode"/>
              </a:rPr>
              <a:t>tonight, tomorrow, next week, next month, next year</a:t>
            </a: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Straight Connector 4"/>
          <p:cNvSpPr/>
          <p:nvPr/>
        </p:nvSpPr>
        <p:spPr>
          <a:xfrm>
            <a:off x="900000" y="2637000"/>
            <a:ext cx="7056720" cy="0"/>
          </a:xfrm>
          <a:prstGeom prst="line">
            <a:avLst/>
          </a:prstGeom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sto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 mov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Al-Tahlia street next mont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wn council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sn’t meet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e4e99"/>
                </a:solidFill>
                <a:latin typeface="Lucida Sans Unicode"/>
              </a:rPr>
              <a:t>The be form of the verb( is/ are/ am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eet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night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goin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wn this weekend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: 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he simple form of the verb ( infinitiv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if the subject i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ingula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dd –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the verb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imple present can express future time in sentences about scheduled event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ime expression or the context makes the future time clea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few verbs are used this way. These include: </a:t>
            </a: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open, close, begin, end, start, finish, arrive, leave, come and retur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men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begin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8: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ea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wn on Fri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trai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arriv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3:00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9:00 tomorrow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es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he  do form of the verb ( do/does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es before the subjec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gra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museum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p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the usual time tomorr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 lecture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sta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morrow?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76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18:21Z</dcterms:created>
  <dc:creator>sony</dc:creator>
  <dc:description/>
  <dc:language>en-US</dc:language>
  <cp:lastModifiedBy>sony</cp:lastModifiedBy>
  <dcterms:modified xsi:type="dcterms:W3CDTF">2012-04-11T17:31:05Z</dcterms:modified>
  <cp:revision>3</cp:revision>
  <dc:subject/>
  <dc:title>The Present Continuous and The Simple Present to Express Future Time</dc:title>
</cp:coreProperties>
</file>