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AA04-B41C-4D32-AC0F-B0AFA7F1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E16-3667-4E41-A0B1-04813519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BB64-05F8-4F90-8716-DA8E4D57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5350-053B-44C6-BA59-8B1C2B75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2034-A618-4455-9175-474566EB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23DC-DEDE-4F84-917D-A74B9E70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32DD-F8A1-4339-835D-F01939BD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BA83-C1F1-4307-8104-22E8A876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7FBB-C8A3-4E1C-808B-C454D58E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ADF4-B32B-4FB3-9FA7-34D50B3B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A2A5-2B6B-4644-BC38-2A426BAA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AB92-B625-49D8-AE20-E1CA9267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F677-6EC8-4E45-B11F-1D4D9D37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6330-7175-46E4-86AF-1906B90A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D4CA-6708-4078-8F67-3549D33F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4C07-DE7C-437A-A438-EF10F767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3EEE-78CC-4FB3-AC3D-810EB4C2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10643-3888-40B2-BA15-35465C4E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EEAB9-9B84-432A-A473-3A5BE301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BC0FC-7887-48BE-9C5A-1B1642D9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E7A56-C77D-423D-8226-23FB45D1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0BF7C-613A-40AD-996B-1206F999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CF0D-917D-428E-B3C0-777C0C2A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FAD37-57EE-45B5-8EC9-BE5FA570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73C12-CBF3-489B-BDC2-FEB759D9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127A2-3A2C-4EC3-86E2-B9F9C78A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107D0-872B-45FA-AF63-A7B225BB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00C59-0F47-4736-8A30-BEBD9D52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F78A1-8281-45B8-ABAD-31ADD2F2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85171-BA7E-4480-8657-1E0A122C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FDFC0-787F-42B8-9F5A-0E801CD5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8A5A6-2BBB-4321-B101-CD127888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007BB-A3D8-4418-B21D-CF4B97CD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E129-905F-4522-A5F8-6CADFC8F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4F496-87B3-4B3A-8B2A-FCFB8E78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808B7-F7D7-432E-9F41-7507DFA9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9625B-619C-43C3-B393-0D60F6C0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11826-D15B-437B-8B1C-833751D0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452EF-FA75-449A-A151-04C0B5E6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E19C1-6C31-4460-A772-624609CF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DE524-4617-4B45-8716-3F40747F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08800-C213-4396-A5D7-823DC0DA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5EF3A-ADFD-4F00-8E81-2670CA79A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5091F-6676-4AF6-AA4B-9044032B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96F5-4B75-4F7D-A90E-83011749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6B36A-1443-4872-9622-ED7B362B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0D087-996D-4ACA-81D3-F591384B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2384F-B146-44D4-AFF9-FB6F54A6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528DE-5AF0-4AC4-8FA6-2726AFF7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29511-6F58-43A5-B097-ADD77F1C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16DBC-BE9E-4729-98AB-02F8055B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A2E60-2F11-4696-A61A-61935F83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094BC-239F-4679-8EC0-5A4C6406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33A36-21D4-4412-8511-E439A585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B6CE9-6582-49E4-9D28-83D284DF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66D6-EA51-4FB2-8245-A2F4ADC3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2B086-3170-48D2-B122-35B00168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AA91B-75B5-492A-9EBC-B7D604FC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A0DA4-AEB5-45BC-846F-364E070B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C2B18-CBE0-4C85-BFA9-2F9EFA34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12B97-C945-414D-BA3A-AED03B51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07CA0-B171-4ECD-8379-4274433F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C76EC-D6C3-4469-8131-538BFBAC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F5C6B-7AA6-4B8D-B185-FF7E27FF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DB064-6586-46B6-9DE9-9D98BF7E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C5B5B-2A7D-4BA7-B556-A88D5FFE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8F4E-749E-4A60-8DAA-6F2FE9BE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F921B-CAD5-47FC-A1A9-3DD7D080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9A987-7D56-472D-A215-1C787291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080A2-6D72-437E-A54F-0B53BB61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53571-82CB-448F-99D3-9BC878F8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6B2CF-FCEA-4B98-80D3-CCC3C7A7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B9AD5-DFAB-4DC1-8B22-46108A17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34A94-B857-475B-BBFD-DCCE8B51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AA2F1-D8F3-4456-96F7-A986E27A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78DC6-9CDD-470C-973B-894073EE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4FDCC-1FEA-437A-BC62-2AAC4F63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CC52-6BCC-4004-AEE3-E1B87385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47F68-A3D8-442C-98E7-5AF15298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CBDF2-A1CF-4502-B1BA-40E09AF1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05D81-5188-4A3E-B912-7DD18816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BFDFE-D3D6-4EE6-B844-DCE72651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0D6EF-F2F5-4895-AAF6-1B870770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EBB19-3B0F-4818-87F7-FF1B3B22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5C011-02E1-4706-A7B8-F99A8540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09AC4-F29F-4358-B066-F57F9659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00778-8F89-4235-8FEB-30EFB96A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E2E07-3D5F-4A0C-B4AB-1B4A54CF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AAAA-D1C1-425D-AF00-241E8A07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63B15-4AAA-4B7F-B608-B459CEAF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107F3-70AE-4ED9-9462-52357AB4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9FD9E-378F-41CF-9836-0E775BBA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EBC46-F727-4629-91CF-41F77CC2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88592-7DC2-4EDB-8A61-59A87A70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B932A-5752-4E71-B779-DBEDB219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79627-F574-4946-8BFF-3E02365A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3D19-91DD-4780-90B1-FF2075072DBD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988025"/>
              </a:gs>
              <a:gs pos="50000">
                <a:srgbClr val="e8cd6c"/>
              </a:gs>
              <a:gs pos="100000">
                <a:srgbClr val="988025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4d7a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AABB-7451-40C4-9B7F-DF1175DD0BAD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F470-0FA1-4459-A257-B2AEF1FB5EF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8749-E31D-4406-8061-8050C6E08CBC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08AF-964F-44B8-9615-F3903AC2C3F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8BA6-57C2-4CE1-955B-C317D2868655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E224-12AD-4F06-82B9-024AF2972085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5469-E677-4AB0-B5A6-17ECC7BF72DB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360360" y="1384200"/>
            <a:ext cx="840564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700" spc="-1" strike="noStrike">
              <a:solidFill>
                <a:srgbClr val="69676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Be+ V+ ing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planned event or for definite intention, the present continuous may indicate future tim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use of the present continuous is common with a future time expression like </a:t>
            </a:r>
            <a:r>
              <a:rPr b="1" lang="en-US" sz="2700" spc="-1" strike="noStrike">
                <a:solidFill>
                  <a:srgbClr val="7e4e99"/>
                </a:solidFill>
                <a:latin typeface="Lucida Sans Unicode"/>
              </a:rPr>
              <a:t>tonight, tomorrow, next week, next month, next year</a:t>
            </a:r>
            <a:r>
              <a:rPr b="0" lang="en-US" sz="2700" spc="-1" strike="noStrike">
                <a:solidFill>
                  <a:srgbClr val="7e4e99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e4e99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374" name="Straight Connector 4"/>
          <p:cNvSpPr/>
          <p:nvPr/>
        </p:nvSpPr>
        <p:spPr>
          <a:xfrm>
            <a:off x="900000" y="2637000"/>
            <a:ext cx="7056720" cy="0"/>
          </a:xfrm>
          <a:prstGeom prst="line">
            <a:avLst/>
          </a:prstGeom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ment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stores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re moving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Al-Tahlia street next month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own council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isn’t meeting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xt week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estion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e4e99"/>
                </a:solidFill>
                <a:latin typeface="Lucida Sans Unicode"/>
              </a:rPr>
              <a:t>The be form of the verb( is/ are/ am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comes before the subjec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meetin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night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re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you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goin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owntown this weekend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76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:  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the simple form of the verb ( infinitive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t if the subject is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singula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dd –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the verb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imple present can express future time in sentences about scheduled event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time expression or the context makes the future time clea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ly a few verbs are used this way. These include: </a:t>
            </a:r>
            <a:r>
              <a:rPr b="1" lang="en-US" sz="2700" spc="-1" strike="noStrike">
                <a:solidFill>
                  <a:srgbClr val="7030a0"/>
                </a:solidFill>
                <a:latin typeface="Lucida Sans Unicode"/>
              </a:rPr>
              <a:t>open, close, begin, end, start, finish, arrive, leave, come and retur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231840" y="122400"/>
            <a:ext cx="8461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ment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ogram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 begin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t 8: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leav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wn on Frida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s train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rriv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3:00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museum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ope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9:00 tomorrow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76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estion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The  do form of the verb ( do/does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es before the subjec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oe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ogram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begi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o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he museum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op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the usual time tomorrow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o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he lectures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star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morrow?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76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8:21Z</dcterms:created>
  <dc:creator>sony</dc:creator>
  <dc:description/>
  <dc:language>en-US</dc:language>
  <cp:lastModifiedBy>sony</cp:lastModifiedBy>
  <dcterms:modified xsi:type="dcterms:W3CDTF">2012-04-11T17:31:05Z</dcterms:modified>
  <cp:revision>3</cp:revision>
  <dc:subject/>
  <dc:title>The Present Continuous and The Simple Present to Express Future Time</dc:title>
</cp:coreProperties>
</file>