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5A5A-653B-4C9C-8319-341D3261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26C-AA2D-4D13-BCEC-36860D09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1AD-5C9D-4D82-B24A-278D5CBD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850-3629-43AF-A393-3A62B1B0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D240-9D24-4054-9AD0-F9D07630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2CDF-4456-4FB8-B754-53C6C555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8DF6-0FBA-4A4F-B3CB-7F9CD689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CD80-8BF1-4108-A436-75B31239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CCBC-4B66-4982-B5DE-39AA5DE6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9ADA-ABBF-4E3F-BB2B-038F1CB0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A67B-EC9D-4675-8E48-0B13ED58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3CF-DF39-4270-8082-42ABF6D2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8F31-C1DF-40BE-AD05-D7AA8C39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1A2F-3EF8-42EF-8116-1456EBC3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2E4A-E249-4453-B71C-998D0E9E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E858-E1F9-4DCD-A22D-BEBAECFC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9D89-2859-420A-8944-5647051B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04D84-968A-44C5-B9A5-F55122EA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E56E3-1E9D-4554-AA91-12AC1D61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3A426-ED6D-4C97-B903-E52EEAF0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981D0-4AE5-4C88-8455-383D3149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D0931-1E97-4E2E-9D76-2D15C084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DB4-EB2A-418C-8266-6453309C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4A455-11C6-4078-92DD-7DEC74AA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4F176-9116-4C04-B978-36F2F1E6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F1D28-DFC1-4E0A-9102-6076C9BF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A9464-A497-4D28-8553-FECF3525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80183-7900-4592-977D-5F3138A4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95751-BDAF-46BB-B82D-4B987D76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CC52C-D457-4E8C-9DB2-43D77983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F136B-AE10-4715-8511-11C77D0B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98204-8382-4F5B-82D0-6B5E8FF8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DC0D5-E62E-4DB0-84EC-1D7A6275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CB5-F8E7-4F64-9C28-CDF2E373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A58CD-FD5E-4A27-9A4D-3B3CA77D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91446-B1A9-4DCD-A1E0-B25CE4FB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89F8B-FF85-43CE-8C6E-74493667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D075B-7B35-42E6-AFE5-29381208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6B448-E67B-4D79-B087-CA9A7CE7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87D3F-C3EE-4FC4-B389-A763F49A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DD521-CBB5-4ECE-BDD5-DFAAC175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01B9E-DF65-4B91-B951-68B663D9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843C9-B3C0-48A1-AEC4-E65A3893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E0A0B-5774-4F03-A1FF-2C2E51EC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EA7-8033-481E-A348-1BA820AB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0964F-EE2F-4DB0-9707-77EF7BFF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09F28-735A-481E-8071-4E55D47B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A14A2-58EF-4961-8F9C-CCB600AE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700B6-C867-4CFA-AA8D-20A8431B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2031B-36EA-4874-9D01-F0969A22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46A2D-AEFA-4055-B474-29C97C84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8B498-6F2F-410C-8C20-B681038A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47ACC-75FC-4FB0-BBEF-714F248F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EDD82-4C3D-471D-9672-A4F5A681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D1B88-3B12-41CB-9A14-5CAD8919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A26-0AEA-4C91-9715-066081AB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10218-5F2C-4D7D-9542-E6104828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38115-6EB9-48BB-B413-5B78D4BD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9ABB1-56AF-49B4-982B-42FA0AD4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F2A1C-A04B-4F27-8C48-E95A896C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8FB46-47A4-460A-BDBC-D79F418B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B3865-1367-45A4-8C73-B6586426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1B583-D6B7-4FF8-8642-8506A214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DB68E-6E31-470C-BB0C-15A6D399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DA89F-5362-4D1C-883E-40ECEED7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278A9-DB4D-4802-A850-92F5328B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4AF-C2E8-435F-81F9-3F704B13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A9FE0-4859-47B6-9AE7-51226736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C9D6B-0A6B-441D-8DC2-21178F26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1FDDE-3F99-4FB5-B8D3-D64B8B28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DE1B8-83F5-4195-BCF4-E8A95F2A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92A3D-C6E5-4F83-89C9-33DB385E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A2AAC-CC33-4460-B393-1F1F1DA7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F0BB7-37DA-41AB-A8D6-80FCB123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9FD44-27D3-458A-BF3A-A406EEC1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50CF8-AF9F-4968-A8CD-6154D127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A0B93-B8B6-430A-9E4E-CA7626CB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556-AB40-4200-A764-E50CDDE2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A0181-6D86-4560-87DB-18A3C318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A30B1-9B32-47B2-A4C7-674AD3DC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FF042-0613-4955-A35F-A699CA72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D99D1-0632-41C5-97DD-9BAB3664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3D61F-E87C-4C78-9374-BDB3FA16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17D97-ACAD-478D-B27D-ED4635BC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841D8-2372-4E47-A7BD-95439E4B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85A5C-6121-4E94-9A25-F9472912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1CEE5-5472-444A-8A15-EE0274BA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4AC29-9804-4BF0-8FC6-102B7DEE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CFA-23DB-49B9-B4DD-D290E9FE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6F368-4284-4991-B088-12655062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17A26-6E99-4D9B-9AE9-BBD20F6A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31BFF-3AED-4E70-A573-1E35971F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DA6CF-38B0-417E-8835-926AE30E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EC3B5-DEFF-454E-A974-6A604000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A526C-3FB1-4A30-B38E-6FF6D52E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69969-BC58-4CDF-9EE2-4830B0FC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59FC-618E-4CC3-9C3A-53D432E8A0C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988025"/>
              </a:gs>
              <a:gs pos="50000">
                <a:srgbClr val="e8cd6c"/>
              </a:gs>
              <a:gs pos="100000">
                <a:srgbClr val="988025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4d7a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F7BE-D907-4552-BD8A-7CC2DFA29E41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8AA2-8023-4814-877A-6C930A2A454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6570-AF60-4C96-ACFF-E58613CC8FD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80C8-E9B4-4115-B9F3-C2E63074E11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BD37-9D75-4080-BD47-1D529A71946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16A3-1AF1-45BF-AFE2-EA47D326279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DD23-FFBF-47A6-9828-17A1C2FA86BB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360360" y="1384200"/>
            <a:ext cx="84056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Be+ V+ ing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planned event or for definite intention, the present continuous may indicate future tim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use of the present continuous is common with a future time expression like </a:t>
            </a:r>
            <a:r>
              <a:rPr b="1" lang="en-US" sz="2700" spc="-1" strike="noStrike">
                <a:solidFill>
                  <a:srgbClr val="7e4e99"/>
                </a:solidFill>
                <a:latin typeface="Lucida Sans Unicode"/>
              </a:rPr>
              <a:t>tonight, tomorrow, next week, next month, next year</a:t>
            </a: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374" name="Straight Connector 4"/>
          <p:cNvSpPr/>
          <p:nvPr/>
        </p:nvSpPr>
        <p:spPr>
          <a:xfrm>
            <a:off x="900000" y="2637000"/>
            <a:ext cx="7056720" cy="0"/>
          </a:xfrm>
          <a:prstGeom prst="line">
            <a:avLst/>
          </a:prstGeom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ment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stor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 mov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Al-Tahlia street next month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own council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sn’t meet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xt week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The be form of the verb( is/ are/ am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comes before the subjec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meet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night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go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owntown this weekend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: 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the simple form of the verb ( infinitive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t if the subject i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singula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dd –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the verb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imple present can express future time in sentences about scheduled event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time expression or the context makes the future time clea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y a few verbs are used this way. These include: </a:t>
            </a:r>
            <a:r>
              <a:rPr b="1" lang="en-US" sz="2700" spc="-1" strike="noStrike">
                <a:solidFill>
                  <a:srgbClr val="7030a0"/>
                </a:solidFill>
                <a:latin typeface="Lucida Sans Unicode"/>
              </a:rPr>
              <a:t>open, close, begin, end, start, finish, arrive, leave, come and retur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ment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gram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begin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 8: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lea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wn on Fri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 trai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riv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3:00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useu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pe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9:00 tomorrow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he  do form of the verb ( do/does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es before the subjec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gra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begi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 museu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p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the usual time tomorrow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 lectur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star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morrow?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8:21Z</dcterms:created>
  <dc:creator>sony</dc:creator>
  <dc:description/>
  <dc:language>en-US</dc:language>
  <cp:lastModifiedBy>sony</cp:lastModifiedBy>
  <dcterms:modified xsi:type="dcterms:W3CDTF">2012-04-11T17:31:05Z</dcterms:modified>
  <cp:revision>3</cp:revision>
  <dc:subject/>
  <dc:title>The Present Continuous and The Simple Present to Express Future Time</dc:title>
</cp:coreProperties>
</file>