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9626-EC1C-41E8-B487-C0A9644F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53A0-9F65-4FF2-B6BE-7CEAFF88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BAD9-B7E8-41C9-A7B6-7C80E6BD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CB8A-3417-476D-9397-AEA6D8084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BC83-09F0-4BBC-9AC3-3E9163DB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DBF9-08C0-4B3D-8C94-2E934AC0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F4F0-C50D-4C3C-A018-30689C3F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F339-B210-40E1-B9A1-C774F924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7A77-13B7-4CC1-9880-5E913CF1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9AF9-38E3-44D1-9B41-B2E2F436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3A71-AAD8-4740-8653-99280C34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4C63-2BD1-4A9C-834A-CD8EE58A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59B4-1A5E-4E77-8E06-E872AD97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AC09-2F80-4641-8723-4D3998E9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E90B-8599-463C-B4E3-A3A0480B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18E2-CCCC-43F1-AC2E-3E9B62F4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259D-20E1-4685-B4D5-83C38939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7FBD9-DECE-4EB6-9D6D-FA2DF810D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1C3AE-D47C-42F4-86F7-5208D58D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D9717-6A81-4A8B-9E2B-C90BD097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C3A24-461D-4B9C-BED7-5554BC7B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709D1-A8FC-4EF4-8836-5560A7D6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AFAB-6274-4105-B971-F5CD41E6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D93E7-7FA4-4835-8B36-8A52255C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CCAEF-2103-4878-AC8E-53F8BE5C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4F1FC-D38E-4D76-82D0-255E9C35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0ECFB-22F3-4195-91C5-5D2D8251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62DCD-1F87-4CB8-8297-71A08C0F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7A1F7-CD05-4C3A-BBB3-ECC15AA1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036DC-62E1-4762-8561-02EC87E3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4AC97-A2E7-4E47-B79C-959BC6B2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3543E-1696-428A-B17C-EB208F92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CE65D-55D0-402E-A215-686FFFC9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1249-4157-4BF2-ABC9-29C661AF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A5E19-5F8D-43A1-A663-0A57944B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B422D-6A5D-4E9D-81A4-68DDD4D7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C2BC8-984B-4CFC-AD6F-64FB1054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C06E5-C81A-414D-9BF8-9E1F9097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5F912-9A33-4146-9557-51ACEBDC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C251F-4A36-4591-ADCE-8137378A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86300-FCCD-4EF4-BFDC-ADBCD64E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8CE73-ED51-468F-94C5-C00AECF32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6ED0C-C239-42F3-A094-2D8C9640C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A2469-4710-464F-97AF-F74AE75E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FBE8-9274-4A4E-957E-800A8123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761E3-0A10-4E9B-858D-18890E1F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AA93D-FCFC-4E61-9A5D-A31EFCE4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42A14-1642-45FC-83B1-5C1E62BA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993F4-88A8-44BF-8159-CDF685D7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7D855-220A-4F37-81E2-E15F927E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20FE5-E045-424D-BE47-4E5E1A80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FC429-B05E-4A18-B588-277ED81A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BCB89-55E2-408A-BFCC-BAA3CDEF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FAC00-77A2-4F06-810B-045E9309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6081C-C2FA-402C-A5E3-6E27C4F60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898D-674A-49B5-AE8A-923C9799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6F926-8A5D-4079-B5AC-B99C365C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9730A-6A22-434E-915A-516FF37DA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D76F0-7F88-4AB2-B2AC-16A10380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239D9-2BE5-4999-8312-04AEDF42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53CAD-F245-4944-AFAA-F374E574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734BD-1CD4-4CFA-BBD7-E062D44F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42E5D-3DE7-4A2D-A232-94E18B4E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5A72F-43EE-4C06-BAC7-B0125247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93AF8-E949-4D36-B086-A9C79DB6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ADF72-3141-46E0-AE03-E2AAA440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5BE1-7D3C-4029-8727-9EF18B2E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D714E-283E-484E-ADFB-EEEE2031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B15BD-14CE-4021-95AD-064175BF5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A2DF6-E6C5-4E2B-A510-D5F69686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C6591-1A00-49AA-A6BE-A2C358D0B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FBEAC-10A0-43BD-925E-E22DC678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27E46-886A-4E79-B54C-F0491CA7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13BE4-1722-4189-805E-038988AA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64DAF-CB65-4FAB-9F71-93589C0A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49C2F-0C6E-417F-A9FE-36BE6E80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CD3AF-A9C7-40DC-8386-79384CDA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A9A4-6678-4574-8DCB-6C03DE54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B88C4-6B82-4783-8CE2-7DE062FA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42D2F-5D5B-4F05-9DC1-FB26B5D0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FE4FA-A545-4DF2-B808-60357A6A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D16CE-A603-4F82-A774-E4314437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66111-E747-4468-AB94-F0F6EAC9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01076-E046-426F-9CF2-345999DC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AC8F2-2952-413F-9D8F-5051BDC8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B2E40-EE7D-44F4-8E02-AC6BF578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8433F-9EB4-4E08-965E-04C6EE01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3E4BD-19C1-4F0A-B216-4D448BF6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3752-6F71-4FC1-84BC-648E02ED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CD640-62C8-4B43-8D5A-F858432C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3B90A-0EDB-43FE-8AAE-81EAC2C7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489AF-C86F-4FA9-BBEB-423332FA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9AD5D-99C2-4ADE-80B5-05F36681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1A1C3-C41A-425E-8879-8648549B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6084E-8626-429B-9F53-A11249F2B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8347F-FF9E-4A61-895F-E37029F1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E6ED-1940-4944-81FE-02CD6F40ABB9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ستطيل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ستطيل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21E1-9057-430E-AEB2-1830C71D75F3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ستطيل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8B5D-9FE9-463E-8B94-5E222026403C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مثلث متساوي الساقين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98F9-BBC6-4457-B5CE-F9C0186BB9E8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A4FF-2488-4907-9DCC-C5BA32C92B9A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رابط مستقيم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مثلث متساوي الساقين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9AB8-35D1-4DD5-A415-BED91587E3A5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مستطيل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A2C7-27CC-4EE9-8E12-CD3A58F0DF17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رابط مستقيم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CA5C-0C20-4A2B-8E34-FF2999ACFF17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e future tense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000" spc="-1" strike="noStrike">
              <a:solidFill>
                <a:srgbClr val="464653"/>
              </a:solidFill>
              <a:latin typeface="Bookman Old Style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B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+ </a:t>
            </a:r>
            <a:r>
              <a:rPr b="0" lang="en-US" sz="3200" spc="-1" strike="noStrike">
                <a:solidFill>
                  <a:srgbClr val="0070c0"/>
                </a:solidFill>
                <a:latin typeface="Bookman Old Style"/>
              </a:rPr>
              <a:t>going to 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+ </a:t>
            </a:r>
            <a:r>
              <a:rPr b="0" lang="en-US" sz="3200" spc="-1" strike="noStrike">
                <a:solidFill>
                  <a:srgbClr val="00b050"/>
                </a:solidFill>
                <a:latin typeface="Bookman Old Style"/>
              </a:rPr>
              <a:t>verb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’s common in conversation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quick informal speech, going to often sounds like gonna but don’t use gonna in writi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fter to comes the simple form of the verb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’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going to </a:t>
            </a:r>
            <a:r>
              <a:rPr b="0" lang="en-US" sz="2600" spc="-1" strike="noStrike">
                <a:solidFill>
                  <a:srgbClr val="00b050"/>
                </a:solidFill>
                <a:latin typeface="Gill Sans MT"/>
              </a:rPr>
              <a:t>sleep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’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going to </a:t>
            </a:r>
            <a:r>
              <a:rPr b="0" lang="en-US" sz="2600" spc="-1" strike="noStrike">
                <a:solidFill>
                  <a:srgbClr val="00b050"/>
                </a:solidFill>
                <a:latin typeface="Gill Sans MT"/>
              </a:rPr>
              <a:t>buy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dress tomorrow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Uses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Predictions: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e use “be + going to + verb” to make predictions about the futur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sky looks gray. It’s going to rain soon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policeman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ge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a ticket if you park in crosswalk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café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not going to b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rowded this week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Plans and intention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 “be+ going to+ verb” to talk about plans for future activity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 going to ea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t the new restaurant tonigh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opl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 not going to go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to the post office today because it’s closed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’m going to walk to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chool more often in the future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Yes/No Questions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yes/no questions, put the appropriate form of be before the subjec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ffirmative question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the teacher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giv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a lecture today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w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go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 the park tomorrow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egative question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n’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it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rain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 Saturday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n’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council members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go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 the bank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n’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ura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cook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nner tonight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formation ques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where, when, why and how : a form of be separates the question word from the subject.  + who and what when they are not the subjec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k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go 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to the party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r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yok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go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lros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catch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bus 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because his car isn’t worki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y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calros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catch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bus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r. Ann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teach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 Lam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Dr. Ann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teach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 going to meet 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at 7 pm this eveni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n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w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mee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Gill Sans MT"/>
              </a:rPr>
              <a:t>I’m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not going to come 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because I have to work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y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n’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com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Who and what as the subject : Verb to be doesn’t separate the question word from the subject because we’re asking about the subject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Sara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n’t going to b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r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n’t going to b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re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Bassa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cook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nner tonigh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cook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nner tonigh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16:28:31Z</dcterms:created>
  <dc:creator>sony</dc:creator>
  <dc:description/>
  <dc:language>en-US</dc:language>
  <cp:lastModifiedBy>sony</cp:lastModifiedBy>
  <dcterms:modified xsi:type="dcterms:W3CDTF">2012-04-11T17:09:10Z</dcterms:modified>
  <cp:revision>10</cp:revision>
  <dc:subject/>
  <dc:title>The future tense</dc:title>
</cp:coreProperties>
</file>