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BEE-47FD-4F1F-9966-9ECB924E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4316-6E2B-441F-974C-D158E41F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492-4012-485E-93C4-849C865E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473A-52F4-4C34-85D7-2FED43C3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6FB5-D7AD-47F3-A107-2FBE0781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7FD0-DB4C-45B9-A534-9D1C9998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9140-C5C8-4067-AF77-A7A068E9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4D30-65D0-4776-8E33-A72619B4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4A1A-1D4D-4BA9-B4B7-1E7EA76A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DB45-9BD8-404D-A45F-E4D6BD60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3EDE-F10C-4FE3-8796-A3BAA433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4602-0696-4A21-9915-49D06A0B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5734-212F-49A9-B494-61658FBD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3C3C-7B8A-42C0-9713-F0991D20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6E6B-DA6A-4151-933E-77489C27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BDA9-CA71-4418-B2F7-29CFBCBC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C8DB-B16A-4D8A-A1DF-F99FCFC9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6BA-6340-478C-AA54-5EFBE03A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503-2358-4A5F-9F2A-C2E34C62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987-9336-415F-AFF9-66C34E7B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8EF4-C5C7-47BF-AAA7-88C77BFE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C1D2-70E8-4BA2-9447-21552670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366C-DEF1-48EE-90BD-5B75FAE6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402-5BBF-44DC-8B4B-772864D0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E1EA-C684-4C30-90E1-31BA44BE199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CE37-CDCC-4CE9-8153-3B7A91A258E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rmodynam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8000" y="4698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first law of thermodynam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y can be exchanged between the system and its surround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the total energy of the system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surrounding is constant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.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energy of the universe, remains const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,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 of thermodynamics stated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ergy is conserv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 “ energy can neither created nor destroy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32720" y="18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t and work chan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nergy of a system will change if heat is transferred to or from the system or work is done by the syste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st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 stated that, if some amount of heat (Q) is added into the system, it must either do work or increase the total energy of the syste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system"/>
          <p:cNvPicPr/>
          <p:nvPr/>
        </p:nvPicPr>
        <p:blipFill>
          <a:blip r:embed="rId1"/>
          <a:stretch/>
        </p:blipFill>
        <p:spPr>
          <a:xfrm>
            <a:off x="1187280" y="4896000"/>
            <a:ext cx="7201080" cy="1962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732720" y="1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biological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 capacity to do work is represented by the symbol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W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H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tands for enthalpy (or heat content), then the first law can be expressed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l-GR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Δ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H  = Q -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32720" y="26028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4572000" y="3357720"/>
            <a:ext cx="43927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sothermal nature of cellular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hough heat is the simplest and more familiar medium by which energy may be transferred or used in man-made machines, it is not useful form of energy for performing biological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cause heat can do work if there is  a temperature differential through which it can ac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88000" y="26028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686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t must either pass from one body to another one having lower temperatur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the temperature of a given hot body is lowe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ce this is not possible because there are very small temperature differentials in cells which is the basis of doing cellular work……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ving organisms are isotherm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e we must define another form of energy calle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ree energ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4698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modynamics is the study of the patterns of energy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rm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an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ynam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an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terns of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88000" y="4698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modynamics deals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</a:t>
            </a:r>
            <a:r>
              <a:rPr b="0" lang="ar-EG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The stability of molecules and direction of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88000" y="4698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ine a brick resting on window ledge 3 meters high. As the brick rests on the ledge it ha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tential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knock the brick out of the ledge, the potential energy is converted to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inetic 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the brick accelerated towards the groun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e brick hits the ground the kinetic energy converted to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ght 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sparks),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und 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emical 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the brick break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12000" y="260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tudy thermodynamics we will introduce two new terms which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urrou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thermo-concetp"/>
          <p:cNvPicPr/>
          <p:nvPr/>
        </p:nvPicPr>
        <p:blipFill>
          <a:blip r:embed="rId1"/>
          <a:stretch/>
        </p:blipFill>
        <p:spPr>
          <a:xfrm>
            <a:off x="5364000" y="3716280"/>
            <a:ext cx="3635640" cy="2906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588000" y="476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thermodynamic_system"/>
          <p:cNvPicPr/>
          <p:nvPr/>
        </p:nvPicPr>
        <p:blipFill>
          <a:blip r:embed="rId2"/>
          <a:stretch/>
        </p:blipFill>
        <p:spPr>
          <a:xfrm>
            <a:off x="900000" y="3645000"/>
            <a:ext cx="40323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025280"/>
            <a:ext cx="8686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types of exchange can occur between the system and surround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Energy ex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heat, radiation….etc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tter ex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movement of molecules across the boundary between the system and the surroundings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4698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the types of exchange which take place, three types of systems are identifi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Isolated syste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no exchange of matter or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Open syste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Exchange of both matter and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Closed syste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no exchange of matter but exchange of energ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88000" y="4698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51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otal energy of a system before the process has taken place, called th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itial 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le the total energy of a system after the process has taken place, calle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final 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ilibrium st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at condition in which no further change is occurring within the system or between the system and its surround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88000" y="40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2031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modynamic process are ei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versi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happens slow enough to be rever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rreversi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can not be re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88000" y="4698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0:28:16Z</dcterms:created>
  <dc:creator>Yano</dc:creator>
  <dc:description/>
  <dc:language>en-US</dc:language>
  <cp:lastModifiedBy>Sooad</cp:lastModifiedBy>
  <dcterms:modified xsi:type="dcterms:W3CDTF">2010-10-04T00:41:02Z</dcterms:modified>
  <cp:revision>6</cp:revision>
  <dc:subject/>
  <dc:title>First Law Of Thermodynamics</dc:title>
</cp:coreProperties>
</file>