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1B3-8C6F-4B1E-B58E-D2B13C44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65F-BCE7-4BC1-BD3E-B23D5B5E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68C-312D-4B21-A927-8797461F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985-4FEC-4196-A88F-87B41D2D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6987-6555-44DE-907C-54F7E9F7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C89F-FCD1-4126-8CAB-7763D83F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7CA5-E285-4139-AD2B-E779E067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411A-63AA-4EC6-B160-4623DF96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C8E0-7A8D-47F0-BEF8-DAA0B404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A439-4E0B-471F-82C7-102DB8EB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A0E5-34A2-44DC-9269-775FBF0C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F2F-1D4D-42EF-A41B-B09D7DC6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7B4A-A15B-4385-A13A-FD1E12B5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0B85-DE2D-4614-BB9D-6F246A63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1255-24BE-40D6-9322-FE30ACF5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B514-6C70-4C94-829C-0627252B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EF9D-11BC-44F0-86AB-2E836F91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672-CB0F-4B42-B0C2-DCA39328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32D-E035-47D7-AAD8-644AD8ED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255-B486-4401-B3FE-C87D5EC1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265-5D64-4FF3-8FA1-A2AFCB32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CA5-B865-4804-AD7B-E52BA4EB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633-F286-4454-BBE4-15658ECF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BDF-7B69-4F9D-9E3F-60D7A6BA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3170-B506-4FD9-B27D-BFED42EEB7E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7622-9C49-44D5-8B67-A35F762A8D6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modynam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000" y="469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first law of thermodynam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 can be exchanged between the system and its surround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the total energy of the system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surrounding is constant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energy of the universe, remains const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,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 of thermodynamics stated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ergy is conserv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 “ energy can neither created nor destroy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32720" y="18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t and work chan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nergy of a system will change if heat is transferred to or from the system or work is done by the syste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s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 stated that, if some amount of heat (Q) is added into the system, it must either do work or increase the total energy of the syste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system"/>
          <p:cNvPicPr/>
          <p:nvPr/>
        </p:nvPicPr>
        <p:blipFill>
          <a:blip r:embed="rId1"/>
          <a:stretch/>
        </p:blipFill>
        <p:spPr>
          <a:xfrm>
            <a:off x="1187280" y="4896000"/>
            <a:ext cx="7201080" cy="1962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732720" y="1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biological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capacity to do work is represented by the symbol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W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H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tands for enthalpy (or heat content), then the first law can be expressed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l-GR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Δ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H  = Q -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2602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4572000" y="335772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othermal nature of cellular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hough heat is the simplest and more familiar medium by which energy may be transferred or used in man-made machines, it is not useful form of energy for performing biological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cause heat can do work if there is  a temperature differential through which it can a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88000" y="2602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686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t must either pass from one body to another one having lower temperatur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the temperature of a given hot body is low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ce this is not possible because there are very small temperature differentials in cells which is the basis of doing cellular work……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ving organisms are isotherm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e we must define another form of energy calle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ee energ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469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modynamics is the study of the patterns of energy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m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an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an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terns of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88000" y="469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modynamics deals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</a:t>
            </a:r>
            <a:r>
              <a:rPr b="0" lang="ar-E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The stability of molecules and direction of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88000" y="469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ine a brick resting on window ledge 3 meters high. As the brick rests on the ledge it ha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tential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knock the brick out of the ledge, the potential energy is converted to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netic 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the brick accelerated towards the groun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e brick hits the ground the kinetic energy converted to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ght 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parks),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und 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emical 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the brick break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12000" y="260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tudy thermodynamics we will introduce two new terms which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rrou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thermo-concetp"/>
          <p:cNvPicPr/>
          <p:nvPr/>
        </p:nvPicPr>
        <p:blipFill>
          <a:blip r:embed="rId1"/>
          <a:stretch/>
        </p:blipFill>
        <p:spPr>
          <a:xfrm>
            <a:off x="5364000" y="3716280"/>
            <a:ext cx="3635640" cy="2906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588000" y="476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thermodynamic_system"/>
          <p:cNvPicPr/>
          <p:nvPr/>
        </p:nvPicPr>
        <p:blipFill>
          <a:blip r:embed="rId2"/>
          <a:stretch/>
        </p:blipFill>
        <p:spPr>
          <a:xfrm>
            <a:off x="900000" y="364500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025280"/>
            <a:ext cx="8686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types of exchange can occur between the system and surroun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nergy ex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heat, radiation….etc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tter ex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movement of molecules across the boundary between the system and the surroundings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469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the types of exchange which take place, three types of systems are identifi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Isolated syste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no exchange of matter or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Open syste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Exchange of both matter and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Closed syste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no exchange of matter but exchange of energ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88000" y="469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51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otal energy of a system before the process has taken place, called th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l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le the total energy of a system after the process has taken place, calle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final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ilibrium st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at condition in which no further change is occurring within the system or between the system and its surroun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2031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modynamic process are ei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versi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happens slow enough to be rever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rreversi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can not be re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88000" y="469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0:28:16Z</dcterms:created>
  <dc:creator>Yano</dc:creator>
  <dc:description/>
  <dc:language>en-US</dc:language>
  <cp:lastModifiedBy>Sooad</cp:lastModifiedBy>
  <dcterms:modified xsi:type="dcterms:W3CDTF">2010-10-04T00:41:02Z</dcterms:modified>
  <cp:revision>6</cp:revision>
  <dc:subject/>
  <dc:title>First Law Of Thermodynamics</dc:title>
</cp:coreProperties>
</file>